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6FC-F916-4D67-A5BF-856D347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69C-F276-4AAB-97AA-2C7342D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8B4-1D72-4224-A617-24684D0A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BF5-DEEF-4C73-A8DF-B0D37F7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FE1-43B1-4E5A-A317-CF09043C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806-902C-43E3-A797-C1A4D870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E83-647A-4B33-86C7-A626F127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C32-275B-4C98-9DB3-00A76B2B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FE3-B5B4-4891-B237-8806F57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644-0EC8-411E-8012-6AF5517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1A0-F949-45F3-A5BB-A15D125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AB0-D0AC-4AF9-A4BE-B853C40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F3C-43EC-4128-B8F6-798AFF81E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5.4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um and Difference Formul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Important Paper #3 into your b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dfd2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exact value: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n(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</a:t>
            </a:r>
            <a:r>
              <a:rPr b="0" lang="en-US" sz="40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Ink 5"/>
          <p:cNvSpPr/>
          <p:nvPr/>
        </p:nvSpPr>
        <p:spPr>
          <a:xfrm>
            <a:off x="5803920" y="133020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6123" y="3696"/>
                </a:moveTo>
                <a:cubicBezTo>
                  <a:pt x="16151" y="3752"/>
                  <a:pt x="16148" y="3803"/>
                  <a:pt x="16148" y="3870"/>
                </a:cubicBezTo>
                <a:cubicBezTo>
                  <a:pt x="16148" y="3947"/>
                  <a:pt x="16173" y="4014"/>
                  <a:pt x="16173" y="4093"/>
                </a:cubicBezTo>
                <a:cubicBezTo>
                  <a:pt x="16173" y="4109"/>
                  <a:pt x="16173" y="4126"/>
                  <a:pt x="16173" y="4142"/>
                </a:cubicBezTo>
                <a:cubicBezTo>
                  <a:pt x="16202" y="4093"/>
                  <a:pt x="16198" y="4042"/>
                  <a:pt x="16222" y="3994"/>
                </a:cubicBezTo>
                <a:cubicBezTo>
                  <a:pt x="16240" y="3959"/>
                  <a:pt x="16310" y="3903"/>
                  <a:pt x="16346" y="3894"/>
                </a:cubicBezTo>
                <a:cubicBezTo>
                  <a:pt x="16399" y="3881"/>
                  <a:pt x="16489" y="3926"/>
                  <a:pt x="16520" y="3969"/>
                </a:cubicBezTo>
                <a:cubicBezTo>
                  <a:pt x="16547" y="4007"/>
                  <a:pt x="16573" y="4135"/>
                  <a:pt x="16520" y="4167"/>
                </a:cubicBezTo>
                <a:cubicBezTo>
                  <a:pt x="16460" y="4203"/>
                  <a:pt x="16328" y="4151"/>
                  <a:pt x="16272" y="4142"/>
                </a:cubicBezTo>
                <a:cubicBezTo>
                  <a:pt x="16222" y="4142"/>
                  <a:pt x="16206" y="4142"/>
                  <a:pt x="16173" y="41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6"/>
          <p:cNvSpPr/>
          <p:nvPr/>
        </p:nvSpPr>
        <p:spPr>
          <a:xfrm>
            <a:off x="2081160" y="2098800"/>
            <a:ext cx="1677960" cy="465120"/>
          </a:xfrm>
          <a:custGeom>
            <a:avLst/>
            <a:gdLst/>
            <a:ahLst/>
            <a:rect l="l" t="t" r="r" b="b"/>
            <a:pathLst>
              <a:path w="4665" h="1291">
                <a:moveTo>
                  <a:pt x="6251" y="6375"/>
                </a:moveTo>
                <a:cubicBezTo>
                  <a:pt x="6311" y="6435"/>
                  <a:pt x="6209" y="6310"/>
                  <a:pt x="6176" y="6300"/>
                </a:cubicBezTo>
                <a:cubicBezTo>
                  <a:pt x="6125" y="6285"/>
                  <a:pt x="5964" y="6360"/>
                  <a:pt x="5928" y="6375"/>
                </a:cubicBezTo>
                <a:cubicBezTo>
                  <a:pt x="5896" y="6388"/>
                  <a:pt x="5791" y="6442"/>
                  <a:pt x="5779" y="6474"/>
                </a:cubicBezTo>
                <a:cubicBezTo>
                  <a:pt x="5748" y="6561"/>
                  <a:pt x="5843" y="6588"/>
                  <a:pt x="5904" y="6598"/>
                </a:cubicBezTo>
                <a:cubicBezTo>
                  <a:pt x="5986" y="6612"/>
                  <a:pt x="6002" y="6609"/>
                  <a:pt x="6077" y="6648"/>
                </a:cubicBezTo>
                <a:cubicBezTo>
                  <a:pt x="6145" y="6683"/>
                  <a:pt x="6187" y="6732"/>
                  <a:pt x="6226" y="6796"/>
                </a:cubicBezTo>
                <a:cubicBezTo>
                  <a:pt x="6254" y="6843"/>
                  <a:pt x="6241" y="6927"/>
                  <a:pt x="6176" y="6945"/>
                </a:cubicBezTo>
                <a:cubicBezTo>
                  <a:pt x="6088" y="6970"/>
                  <a:pt x="5985" y="6934"/>
                  <a:pt x="5904" y="6921"/>
                </a:cubicBezTo>
                <a:cubicBezTo>
                  <a:pt x="5817" y="6907"/>
                  <a:pt x="5804" y="6914"/>
                  <a:pt x="5804" y="6821"/>
                </a:cubicBezTo>
              </a:path>
              <a:path w="4665" h="1291">
                <a:moveTo>
                  <a:pt x="6524" y="6499"/>
                </a:moveTo>
                <a:cubicBezTo>
                  <a:pt x="6524" y="6623"/>
                  <a:pt x="6524" y="6747"/>
                  <a:pt x="6524" y="6871"/>
                </a:cubicBezTo>
                <a:cubicBezTo>
                  <a:pt x="6524" y="6821"/>
                  <a:pt x="6524" y="6805"/>
                  <a:pt x="6524" y="6772"/>
                </a:cubicBezTo>
              </a:path>
              <a:path w="4665" h="1291">
                <a:moveTo>
                  <a:pt x="6573" y="6251"/>
                </a:moveTo>
                <a:cubicBezTo>
                  <a:pt x="6565" y="6251"/>
                  <a:pt x="6556" y="6251"/>
                  <a:pt x="6548" y="6251"/>
                </a:cubicBezTo>
              </a:path>
              <a:path w="4665" h="1291">
                <a:moveTo>
                  <a:pt x="6821" y="6524"/>
                </a:moveTo>
                <a:cubicBezTo>
                  <a:pt x="6839" y="6629"/>
                  <a:pt x="6846" y="6716"/>
                  <a:pt x="6846" y="6821"/>
                </a:cubicBezTo>
                <a:cubicBezTo>
                  <a:pt x="6846" y="6871"/>
                  <a:pt x="6846" y="6888"/>
                  <a:pt x="6846" y="6921"/>
                </a:cubicBezTo>
                <a:cubicBezTo>
                  <a:pt x="6846" y="6830"/>
                  <a:pt x="6858" y="6759"/>
                  <a:pt x="6871" y="6672"/>
                </a:cubicBezTo>
                <a:cubicBezTo>
                  <a:pt x="6884" y="6585"/>
                  <a:pt x="6877" y="6508"/>
                  <a:pt x="6921" y="6424"/>
                </a:cubicBezTo>
                <a:cubicBezTo>
                  <a:pt x="6945" y="6379"/>
                  <a:pt x="7018" y="6334"/>
                  <a:pt x="7069" y="6350"/>
                </a:cubicBezTo>
                <a:cubicBezTo>
                  <a:pt x="7122" y="6367"/>
                  <a:pt x="7162" y="6482"/>
                  <a:pt x="7169" y="6524"/>
                </a:cubicBezTo>
                <a:cubicBezTo>
                  <a:pt x="7182" y="6606"/>
                  <a:pt x="7157" y="6681"/>
                  <a:pt x="7144" y="6747"/>
                </a:cubicBezTo>
                <a:cubicBezTo>
                  <a:pt x="7138" y="6778"/>
                  <a:pt x="7145" y="6849"/>
                  <a:pt x="7119" y="6796"/>
                </a:cubicBezTo>
              </a:path>
              <a:path w="4665" h="1291">
                <a:moveTo>
                  <a:pt x="7466" y="5829"/>
                </a:moveTo>
                <a:cubicBezTo>
                  <a:pt x="7656" y="5829"/>
                  <a:pt x="7847" y="5829"/>
                  <a:pt x="8037" y="5829"/>
                </a:cubicBezTo>
              </a:path>
              <a:path w="4665" h="1291">
                <a:moveTo>
                  <a:pt x="7665" y="5879"/>
                </a:moveTo>
                <a:cubicBezTo>
                  <a:pt x="7665" y="5952"/>
                  <a:pt x="7643" y="6007"/>
                  <a:pt x="7640" y="6077"/>
                </a:cubicBezTo>
                <a:cubicBezTo>
                  <a:pt x="7637" y="6135"/>
                  <a:pt x="7640" y="6193"/>
                  <a:pt x="7640" y="6251"/>
                </a:cubicBezTo>
              </a:path>
              <a:path w="4665" h="1291">
                <a:moveTo>
                  <a:pt x="7863" y="5879"/>
                </a:moveTo>
                <a:cubicBezTo>
                  <a:pt x="7863" y="6036"/>
                  <a:pt x="7863" y="6193"/>
                  <a:pt x="7863" y="6350"/>
                </a:cubicBezTo>
              </a:path>
              <a:path w="4665" h="1291">
                <a:moveTo>
                  <a:pt x="7441" y="6424"/>
                </a:moveTo>
                <a:cubicBezTo>
                  <a:pt x="7545" y="6424"/>
                  <a:pt x="7637" y="6404"/>
                  <a:pt x="7739" y="6400"/>
                </a:cubicBezTo>
                <a:cubicBezTo>
                  <a:pt x="7838" y="6396"/>
                  <a:pt x="7938" y="6400"/>
                  <a:pt x="8037" y="6400"/>
                </a:cubicBezTo>
              </a:path>
              <a:path w="4665" h="1291">
                <a:moveTo>
                  <a:pt x="7665" y="6548"/>
                </a:moveTo>
                <a:cubicBezTo>
                  <a:pt x="7702" y="6518"/>
                  <a:pt x="7790" y="6469"/>
                  <a:pt x="7838" y="6474"/>
                </a:cubicBezTo>
                <a:cubicBezTo>
                  <a:pt x="7878" y="6479"/>
                  <a:pt x="7931" y="6505"/>
                  <a:pt x="7962" y="6524"/>
                </a:cubicBezTo>
                <a:cubicBezTo>
                  <a:pt x="7921" y="6596"/>
                  <a:pt x="7888" y="6611"/>
                  <a:pt x="7813" y="6648"/>
                </a:cubicBezTo>
                <a:cubicBezTo>
                  <a:pt x="7692" y="6708"/>
                  <a:pt x="7720" y="6636"/>
                  <a:pt x="7813" y="6672"/>
                </a:cubicBezTo>
                <a:cubicBezTo>
                  <a:pt x="7848" y="6685"/>
                  <a:pt x="7911" y="6725"/>
                  <a:pt x="7938" y="6747"/>
                </a:cubicBezTo>
                <a:cubicBezTo>
                  <a:pt x="7972" y="6775"/>
                  <a:pt x="8017" y="6881"/>
                  <a:pt x="8012" y="6921"/>
                </a:cubicBezTo>
                <a:cubicBezTo>
                  <a:pt x="8000" y="7029"/>
                  <a:pt x="7959" y="7044"/>
                  <a:pt x="7863" y="7094"/>
                </a:cubicBezTo>
                <a:cubicBezTo>
                  <a:pt x="7798" y="7128"/>
                  <a:pt x="7737" y="7119"/>
                  <a:pt x="7665" y="7119"/>
                </a:cubicBezTo>
                <a:cubicBezTo>
                  <a:pt x="7602" y="7119"/>
                  <a:pt x="7540" y="7133"/>
                  <a:pt x="7491" y="7094"/>
                </a:cubicBezTo>
                <a:cubicBezTo>
                  <a:pt x="7483" y="7086"/>
                  <a:pt x="7474" y="7077"/>
                  <a:pt x="7466" y="7069"/>
                </a:cubicBezTo>
              </a:path>
              <a:path w="4665" h="1291">
                <a:moveTo>
                  <a:pt x="8682" y="6524"/>
                </a:moveTo>
                <a:cubicBezTo>
                  <a:pt x="8653" y="6475"/>
                  <a:pt x="8653" y="6444"/>
                  <a:pt x="8607" y="6400"/>
                </a:cubicBezTo>
                <a:cubicBezTo>
                  <a:pt x="8554" y="6452"/>
                  <a:pt x="8534" y="6501"/>
                  <a:pt x="8483" y="6548"/>
                </a:cubicBezTo>
                <a:cubicBezTo>
                  <a:pt x="8435" y="6592"/>
                  <a:pt x="8396" y="6685"/>
                  <a:pt x="8384" y="6747"/>
                </a:cubicBezTo>
                <a:cubicBezTo>
                  <a:pt x="8370" y="6818"/>
                  <a:pt x="8388" y="6849"/>
                  <a:pt x="8434" y="6896"/>
                </a:cubicBezTo>
                <a:cubicBezTo>
                  <a:pt x="8500" y="6963"/>
                  <a:pt x="8596" y="6945"/>
                  <a:pt x="8682" y="6945"/>
                </a:cubicBezTo>
              </a:path>
              <a:path w="4665" h="1291">
                <a:moveTo>
                  <a:pt x="8930" y="6573"/>
                </a:moveTo>
                <a:cubicBezTo>
                  <a:pt x="8911" y="6644"/>
                  <a:pt x="8883" y="6705"/>
                  <a:pt x="8880" y="6772"/>
                </a:cubicBezTo>
                <a:cubicBezTo>
                  <a:pt x="8878" y="6813"/>
                  <a:pt x="8894" y="6908"/>
                  <a:pt x="8954" y="6921"/>
                </a:cubicBezTo>
                <a:cubicBezTo>
                  <a:pt x="9025" y="6936"/>
                  <a:pt x="9152" y="6899"/>
                  <a:pt x="9178" y="6821"/>
                </a:cubicBezTo>
                <a:cubicBezTo>
                  <a:pt x="9205" y="6740"/>
                  <a:pt x="9212" y="6660"/>
                  <a:pt x="9178" y="6573"/>
                </a:cubicBezTo>
                <a:cubicBezTo>
                  <a:pt x="9139" y="6473"/>
                  <a:pt x="9051" y="6536"/>
                  <a:pt x="8979" y="6548"/>
                </a:cubicBezTo>
                <a:cubicBezTo>
                  <a:pt x="8924" y="6557"/>
                  <a:pt x="8889" y="6571"/>
                  <a:pt x="8855" y="6623"/>
                </a:cubicBezTo>
                <a:cubicBezTo>
                  <a:pt x="8817" y="6682"/>
                  <a:pt x="8848" y="6691"/>
                  <a:pt x="8880" y="6747"/>
                </a:cubicBezTo>
              </a:path>
              <a:path w="4665" h="1291">
                <a:moveTo>
                  <a:pt x="9451" y="6474"/>
                </a:moveTo>
                <a:cubicBezTo>
                  <a:pt x="9368" y="6515"/>
                  <a:pt x="9352" y="6524"/>
                  <a:pt x="9302" y="6548"/>
                </a:cubicBezTo>
                <a:cubicBezTo>
                  <a:pt x="9344" y="6622"/>
                  <a:pt x="9375" y="6634"/>
                  <a:pt x="9451" y="6672"/>
                </a:cubicBezTo>
                <a:cubicBezTo>
                  <a:pt x="9503" y="6698"/>
                  <a:pt x="9534" y="6731"/>
                  <a:pt x="9575" y="6772"/>
                </a:cubicBezTo>
                <a:cubicBezTo>
                  <a:pt x="9614" y="6811"/>
                  <a:pt x="9615" y="6922"/>
                  <a:pt x="9550" y="6945"/>
                </a:cubicBezTo>
                <a:cubicBezTo>
                  <a:pt x="9494" y="6965"/>
                  <a:pt x="9441" y="6970"/>
                  <a:pt x="9376" y="6970"/>
                </a:cubicBezTo>
                <a:cubicBezTo>
                  <a:pt x="9304" y="6970"/>
                  <a:pt x="9245" y="6969"/>
                  <a:pt x="9227" y="6896"/>
                </a:cubicBezTo>
              </a:path>
              <a:path w="4665" h="1291">
                <a:moveTo>
                  <a:pt x="9798" y="6003"/>
                </a:moveTo>
                <a:cubicBezTo>
                  <a:pt x="9858" y="5967"/>
                  <a:pt x="9921" y="5978"/>
                  <a:pt x="9996" y="5978"/>
                </a:cubicBezTo>
                <a:cubicBezTo>
                  <a:pt x="10145" y="5978"/>
                  <a:pt x="10294" y="5978"/>
                  <a:pt x="10443" y="5978"/>
                </a:cubicBezTo>
              </a:path>
              <a:path w="4665" h="1291">
                <a:moveTo>
                  <a:pt x="10021" y="5953"/>
                </a:moveTo>
                <a:cubicBezTo>
                  <a:pt x="9984" y="6014"/>
                  <a:pt x="9975" y="6098"/>
                  <a:pt x="9971" y="6176"/>
                </a:cubicBezTo>
                <a:cubicBezTo>
                  <a:pt x="9968" y="6236"/>
                  <a:pt x="9959" y="6301"/>
                  <a:pt x="9996" y="6325"/>
                </a:cubicBezTo>
              </a:path>
              <a:path w="4665" h="1291">
                <a:moveTo>
                  <a:pt x="10145" y="6003"/>
                </a:moveTo>
                <a:cubicBezTo>
                  <a:pt x="10163" y="6064"/>
                  <a:pt x="10119" y="6110"/>
                  <a:pt x="10145" y="6176"/>
                </a:cubicBezTo>
                <a:cubicBezTo>
                  <a:pt x="10162" y="6219"/>
                  <a:pt x="10174" y="6284"/>
                  <a:pt x="10195" y="6325"/>
                </a:cubicBezTo>
                <a:cubicBezTo>
                  <a:pt x="10218" y="6348"/>
                  <a:pt x="10226" y="6352"/>
                  <a:pt x="10220" y="6375"/>
                </a:cubicBezTo>
              </a:path>
              <a:path w="4665" h="1291">
                <a:moveTo>
                  <a:pt x="9798" y="6400"/>
                </a:moveTo>
                <a:cubicBezTo>
                  <a:pt x="9875" y="6391"/>
                  <a:pt x="9942" y="6375"/>
                  <a:pt x="10021" y="6375"/>
                </a:cubicBezTo>
                <a:cubicBezTo>
                  <a:pt x="10062" y="6375"/>
                  <a:pt x="10104" y="6375"/>
                  <a:pt x="10145" y="6375"/>
                </a:cubicBezTo>
              </a:path>
              <a:path w="4665" h="1291">
                <a:moveTo>
                  <a:pt x="10120" y="6548"/>
                </a:moveTo>
                <a:cubicBezTo>
                  <a:pt x="10101" y="6593"/>
                  <a:pt x="10017" y="6735"/>
                  <a:pt x="10120" y="6772"/>
                </a:cubicBezTo>
                <a:cubicBezTo>
                  <a:pt x="10175" y="6792"/>
                  <a:pt x="10300" y="6775"/>
                  <a:pt x="10319" y="6747"/>
                </a:cubicBezTo>
              </a:path>
              <a:path w="4665" h="1291">
                <a:moveTo>
                  <a:pt x="10294" y="6424"/>
                </a:moveTo>
                <a:cubicBezTo>
                  <a:pt x="10294" y="6501"/>
                  <a:pt x="10272" y="6554"/>
                  <a:pt x="10269" y="6623"/>
                </a:cubicBezTo>
                <a:cubicBezTo>
                  <a:pt x="10265" y="6705"/>
                  <a:pt x="10264" y="6817"/>
                  <a:pt x="10244" y="6896"/>
                </a:cubicBezTo>
                <a:cubicBezTo>
                  <a:pt x="10229" y="6954"/>
                  <a:pt x="10176" y="7032"/>
                  <a:pt x="10220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3963960" y="2125800"/>
            <a:ext cx="1260360" cy="401400"/>
          </a:xfrm>
          <a:custGeom>
            <a:avLst/>
            <a:gdLst/>
            <a:ahLst/>
            <a:rect l="l" t="t" r="r" b="b"/>
            <a:pathLst>
              <a:path w="3499" h="1117">
                <a:moveTo>
                  <a:pt x="11013" y="6548"/>
                </a:moveTo>
                <a:cubicBezTo>
                  <a:pt x="11097" y="6573"/>
                  <a:pt x="11177" y="6555"/>
                  <a:pt x="11261" y="6573"/>
                </a:cubicBezTo>
                <a:cubicBezTo>
                  <a:pt x="11364" y="6595"/>
                  <a:pt x="11452" y="6598"/>
                  <a:pt x="11559" y="6598"/>
                </a:cubicBezTo>
                <a:cubicBezTo>
                  <a:pt x="11644" y="6598"/>
                  <a:pt x="11738" y="6615"/>
                  <a:pt x="11807" y="6573"/>
                </a:cubicBezTo>
              </a:path>
              <a:path w="3499" h="1117">
                <a:moveTo>
                  <a:pt x="11361" y="6226"/>
                </a:moveTo>
                <a:cubicBezTo>
                  <a:pt x="11361" y="6317"/>
                  <a:pt x="11372" y="6390"/>
                  <a:pt x="11385" y="6474"/>
                </a:cubicBezTo>
                <a:cubicBezTo>
                  <a:pt x="11411" y="6637"/>
                  <a:pt x="11385" y="7086"/>
                  <a:pt x="11385" y="6921"/>
                </a:cubicBezTo>
              </a:path>
              <a:path w="3499" h="1117">
                <a:moveTo>
                  <a:pt x="12576" y="6499"/>
                </a:moveTo>
                <a:cubicBezTo>
                  <a:pt x="12566" y="6426"/>
                  <a:pt x="12555" y="6404"/>
                  <a:pt x="12477" y="6400"/>
                </a:cubicBezTo>
                <a:cubicBezTo>
                  <a:pt x="12381" y="6395"/>
                  <a:pt x="12378" y="6439"/>
                  <a:pt x="12328" y="6499"/>
                </a:cubicBezTo>
                <a:cubicBezTo>
                  <a:pt x="12257" y="6584"/>
                  <a:pt x="12220" y="6632"/>
                  <a:pt x="12179" y="6722"/>
                </a:cubicBezTo>
                <a:cubicBezTo>
                  <a:pt x="12147" y="6791"/>
                  <a:pt x="12166" y="6806"/>
                  <a:pt x="12179" y="6871"/>
                </a:cubicBezTo>
                <a:cubicBezTo>
                  <a:pt x="12196" y="6958"/>
                  <a:pt x="12217" y="6940"/>
                  <a:pt x="12303" y="6970"/>
                </a:cubicBezTo>
                <a:cubicBezTo>
                  <a:pt x="12387" y="6999"/>
                  <a:pt x="12440" y="6979"/>
                  <a:pt x="12526" y="6970"/>
                </a:cubicBezTo>
              </a:path>
              <a:path w="3499" h="1117">
                <a:moveTo>
                  <a:pt x="12774" y="6573"/>
                </a:moveTo>
                <a:cubicBezTo>
                  <a:pt x="12766" y="6641"/>
                  <a:pt x="12741" y="6700"/>
                  <a:pt x="12750" y="6772"/>
                </a:cubicBezTo>
                <a:cubicBezTo>
                  <a:pt x="12770" y="6930"/>
                  <a:pt x="12770" y="6962"/>
                  <a:pt x="12923" y="6970"/>
                </a:cubicBezTo>
                <a:cubicBezTo>
                  <a:pt x="12989" y="6973"/>
                  <a:pt x="13059" y="6955"/>
                  <a:pt x="13097" y="6896"/>
                </a:cubicBezTo>
                <a:cubicBezTo>
                  <a:pt x="13132" y="6842"/>
                  <a:pt x="13138" y="6734"/>
                  <a:pt x="13122" y="6672"/>
                </a:cubicBezTo>
                <a:cubicBezTo>
                  <a:pt x="13089" y="6549"/>
                  <a:pt x="13085" y="6574"/>
                  <a:pt x="12973" y="6499"/>
                </a:cubicBezTo>
                <a:cubicBezTo>
                  <a:pt x="12914" y="6460"/>
                  <a:pt x="12886" y="6422"/>
                  <a:pt x="12799" y="6449"/>
                </a:cubicBezTo>
                <a:cubicBezTo>
                  <a:pt x="12744" y="6466"/>
                  <a:pt x="12750" y="6531"/>
                  <a:pt x="12750" y="6573"/>
                </a:cubicBezTo>
              </a:path>
              <a:path w="3499" h="1117">
                <a:moveTo>
                  <a:pt x="13494" y="6499"/>
                </a:moveTo>
                <a:cubicBezTo>
                  <a:pt x="13393" y="6507"/>
                  <a:pt x="13355" y="6516"/>
                  <a:pt x="13271" y="6573"/>
                </a:cubicBezTo>
                <a:cubicBezTo>
                  <a:pt x="13319" y="6641"/>
                  <a:pt x="13367" y="6658"/>
                  <a:pt x="13444" y="6697"/>
                </a:cubicBezTo>
                <a:cubicBezTo>
                  <a:pt x="13492" y="6721"/>
                  <a:pt x="13577" y="6815"/>
                  <a:pt x="13593" y="6871"/>
                </a:cubicBezTo>
                <a:cubicBezTo>
                  <a:pt x="13606" y="6916"/>
                  <a:pt x="13573" y="7005"/>
                  <a:pt x="13519" y="7020"/>
                </a:cubicBezTo>
                <a:cubicBezTo>
                  <a:pt x="13474" y="7033"/>
                  <a:pt x="13321" y="7036"/>
                  <a:pt x="13295" y="6995"/>
                </a:cubicBezTo>
                <a:cubicBezTo>
                  <a:pt x="13295" y="6987"/>
                  <a:pt x="13295" y="6978"/>
                  <a:pt x="13295" y="6970"/>
                </a:cubicBezTo>
              </a:path>
              <a:path w="3499" h="1117">
                <a:moveTo>
                  <a:pt x="13940" y="5953"/>
                </a:moveTo>
                <a:cubicBezTo>
                  <a:pt x="14048" y="5935"/>
                  <a:pt x="14159" y="5920"/>
                  <a:pt x="14263" y="5904"/>
                </a:cubicBezTo>
                <a:cubicBezTo>
                  <a:pt x="14334" y="5893"/>
                  <a:pt x="14414" y="5904"/>
                  <a:pt x="14486" y="5904"/>
                </a:cubicBezTo>
              </a:path>
              <a:path w="3499" h="1117">
                <a:moveTo>
                  <a:pt x="14089" y="5953"/>
                </a:moveTo>
                <a:cubicBezTo>
                  <a:pt x="14089" y="6094"/>
                  <a:pt x="14089" y="6234"/>
                  <a:pt x="14089" y="6375"/>
                </a:cubicBezTo>
              </a:path>
              <a:path w="3499" h="1117">
                <a:moveTo>
                  <a:pt x="14288" y="6028"/>
                </a:moveTo>
                <a:cubicBezTo>
                  <a:pt x="14288" y="6109"/>
                  <a:pt x="14274" y="6201"/>
                  <a:pt x="14312" y="6276"/>
                </a:cubicBezTo>
                <a:cubicBezTo>
                  <a:pt x="14329" y="6310"/>
                  <a:pt x="14377" y="6364"/>
                  <a:pt x="14387" y="6400"/>
                </a:cubicBezTo>
                <a:cubicBezTo>
                  <a:pt x="14387" y="6416"/>
                  <a:pt x="14387" y="6433"/>
                  <a:pt x="14387" y="6449"/>
                </a:cubicBezTo>
              </a:path>
              <a:path w="3499" h="1117">
                <a:moveTo>
                  <a:pt x="13965" y="6424"/>
                </a:moveTo>
                <a:cubicBezTo>
                  <a:pt x="14127" y="6424"/>
                  <a:pt x="14279" y="6417"/>
                  <a:pt x="14436" y="6400"/>
                </a:cubicBezTo>
                <a:cubicBezTo>
                  <a:pt x="14461" y="6400"/>
                  <a:pt x="14486" y="6400"/>
                  <a:pt x="14511" y="6400"/>
                </a:cubicBezTo>
              </a:path>
              <a:path w="3499" h="1117">
                <a:moveTo>
                  <a:pt x="14139" y="6623"/>
                </a:moveTo>
                <a:cubicBezTo>
                  <a:pt x="14214" y="6594"/>
                  <a:pt x="14280" y="6577"/>
                  <a:pt x="14362" y="6573"/>
                </a:cubicBezTo>
                <a:cubicBezTo>
                  <a:pt x="14414" y="6573"/>
                  <a:pt x="14431" y="6575"/>
                  <a:pt x="14436" y="6623"/>
                </a:cubicBezTo>
                <a:cubicBezTo>
                  <a:pt x="14385" y="6675"/>
                  <a:pt x="14374" y="6675"/>
                  <a:pt x="14312" y="6697"/>
                </a:cubicBezTo>
                <a:cubicBezTo>
                  <a:pt x="14269" y="6719"/>
                  <a:pt x="14248" y="6732"/>
                  <a:pt x="14288" y="6697"/>
                </a:cubicBezTo>
                <a:cubicBezTo>
                  <a:pt x="14366" y="6667"/>
                  <a:pt x="14395" y="6663"/>
                  <a:pt x="14461" y="6722"/>
                </a:cubicBezTo>
                <a:cubicBezTo>
                  <a:pt x="14516" y="6772"/>
                  <a:pt x="14534" y="6845"/>
                  <a:pt x="14511" y="6921"/>
                </a:cubicBezTo>
                <a:cubicBezTo>
                  <a:pt x="14498" y="6964"/>
                  <a:pt x="14372" y="6989"/>
                  <a:pt x="14337" y="6995"/>
                </a:cubicBezTo>
                <a:cubicBezTo>
                  <a:pt x="14238" y="7012"/>
                  <a:pt x="14123" y="6986"/>
                  <a:pt x="14039" y="6970"/>
                </a:cubicBezTo>
                <a:cubicBezTo>
                  <a:pt x="13995" y="6970"/>
                  <a:pt x="13975" y="6973"/>
                  <a:pt x="14015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392800" y="2098800"/>
            <a:ext cx="768240" cy="490320"/>
          </a:xfrm>
          <a:custGeom>
            <a:avLst/>
            <a:gdLst/>
            <a:ahLst/>
            <a:rect l="l" t="t" r="r" b="b"/>
            <a:pathLst>
              <a:path w="2134" h="1365">
                <a:moveTo>
                  <a:pt x="15354" y="6375"/>
                </a:moveTo>
                <a:cubicBezTo>
                  <a:pt x="15311" y="6332"/>
                  <a:pt x="15296" y="6267"/>
                  <a:pt x="15230" y="6276"/>
                </a:cubicBezTo>
                <a:cubicBezTo>
                  <a:pt x="15157" y="6286"/>
                  <a:pt x="15114" y="6340"/>
                  <a:pt x="15056" y="6375"/>
                </a:cubicBezTo>
                <a:cubicBezTo>
                  <a:pt x="15009" y="6399"/>
                  <a:pt x="14992" y="6405"/>
                  <a:pt x="15007" y="6449"/>
                </a:cubicBezTo>
                <a:cubicBezTo>
                  <a:pt x="15060" y="6491"/>
                  <a:pt x="15119" y="6518"/>
                  <a:pt x="15180" y="6548"/>
                </a:cubicBezTo>
                <a:cubicBezTo>
                  <a:pt x="15219" y="6567"/>
                  <a:pt x="15308" y="6609"/>
                  <a:pt x="15329" y="6648"/>
                </a:cubicBezTo>
                <a:cubicBezTo>
                  <a:pt x="15381" y="6746"/>
                  <a:pt x="15299" y="6799"/>
                  <a:pt x="15205" y="6821"/>
                </a:cubicBezTo>
                <a:cubicBezTo>
                  <a:pt x="15174" y="6829"/>
                  <a:pt x="15039" y="6808"/>
                  <a:pt x="15007" y="6796"/>
                </a:cubicBezTo>
                <a:cubicBezTo>
                  <a:pt x="14977" y="6767"/>
                  <a:pt x="14972" y="6753"/>
                  <a:pt x="15007" y="6722"/>
                </a:cubicBezTo>
              </a:path>
              <a:path w="2134" h="1365">
                <a:moveTo>
                  <a:pt x="15652" y="6449"/>
                </a:moveTo>
                <a:cubicBezTo>
                  <a:pt x="15630" y="6547"/>
                  <a:pt x="15593" y="6652"/>
                  <a:pt x="15577" y="6747"/>
                </a:cubicBezTo>
                <a:cubicBezTo>
                  <a:pt x="15567" y="6804"/>
                  <a:pt x="15542" y="6910"/>
                  <a:pt x="15602" y="6772"/>
                </a:cubicBezTo>
              </a:path>
              <a:path w="2134" h="1365">
                <a:moveTo>
                  <a:pt x="15652" y="6201"/>
                </a:moveTo>
                <a:cubicBezTo>
                  <a:pt x="15677" y="6176"/>
                  <a:pt x="15685" y="6168"/>
                  <a:pt x="15701" y="6152"/>
                </a:cubicBezTo>
              </a:path>
              <a:path w="2134" h="1365">
                <a:moveTo>
                  <a:pt x="15900" y="6697"/>
                </a:moveTo>
                <a:cubicBezTo>
                  <a:pt x="15875" y="6865"/>
                  <a:pt x="15824" y="6927"/>
                  <a:pt x="15875" y="6796"/>
                </a:cubicBezTo>
                <a:cubicBezTo>
                  <a:pt x="15900" y="6732"/>
                  <a:pt x="15885" y="6670"/>
                  <a:pt x="15900" y="6598"/>
                </a:cubicBezTo>
                <a:cubicBezTo>
                  <a:pt x="15908" y="6562"/>
                  <a:pt x="15930" y="6393"/>
                  <a:pt x="15974" y="6375"/>
                </a:cubicBezTo>
                <a:cubicBezTo>
                  <a:pt x="16077" y="6332"/>
                  <a:pt x="16102" y="6415"/>
                  <a:pt x="16123" y="6474"/>
                </a:cubicBezTo>
                <a:cubicBezTo>
                  <a:pt x="16146" y="6540"/>
                  <a:pt x="16169" y="6602"/>
                  <a:pt x="16173" y="6672"/>
                </a:cubicBezTo>
                <a:cubicBezTo>
                  <a:pt x="16174" y="6683"/>
                  <a:pt x="16177" y="6885"/>
                  <a:pt x="16197" y="6871"/>
                </a:cubicBezTo>
                <a:cubicBezTo>
                  <a:pt x="16197" y="6854"/>
                  <a:pt x="16197" y="6838"/>
                  <a:pt x="16197" y="6821"/>
                </a:cubicBezTo>
              </a:path>
              <a:path w="2134" h="1365">
                <a:moveTo>
                  <a:pt x="16594" y="5854"/>
                </a:moveTo>
                <a:cubicBezTo>
                  <a:pt x="16700" y="5848"/>
                  <a:pt x="16786" y="5829"/>
                  <a:pt x="16892" y="5829"/>
                </a:cubicBezTo>
                <a:cubicBezTo>
                  <a:pt x="16966" y="5829"/>
                  <a:pt x="17041" y="5829"/>
                  <a:pt x="17115" y="5829"/>
                </a:cubicBezTo>
              </a:path>
              <a:path w="2134" h="1365">
                <a:moveTo>
                  <a:pt x="16694" y="5953"/>
                </a:moveTo>
                <a:cubicBezTo>
                  <a:pt x="16694" y="6031"/>
                  <a:pt x="16667" y="6219"/>
                  <a:pt x="16718" y="6201"/>
                </a:cubicBezTo>
              </a:path>
              <a:path w="2134" h="1365">
                <a:moveTo>
                  <a:pt x="16892" y="5904"/>
                </a:moveTo>
                <a:cubicBezTo>
                  <a:pt x="16892" y="6008"/>
                  <a:pt x="16873" y="6138"/>
                  <a:pt x="16917" y="6226"/>
                </a:cubicBezTo>
                <a:cubicBezTo>
                  <a:pt x="16937" y="6266"/>
                  <a:pt x="16946" y="6273"/>
                  <a:pt x="16942" y="6300"/>
                </a:cubicBezTo>
              </a:path>
              <a:path w="2134" h="1365">
                <a:moveTo>
                  <a:pt x="16545" y="6375"/>
                </a:moveTo>
                <a:cubicBezTo>
                  <a:pt x="16657" y="6375"/>
                  <a:pt x="16736" y="6355"/>
                  <a:pt x="16842" y="6350"/>
                </a:cubicBezTo>
                <a:cubicBezTo>
                  <a:pt x="16883" y="6348"/>
                  <a:pt x="16925" y="6350"/>
                  <a:pt x="16966" y="6350"/>
                </a:cubicBezTo>
              </a:path>
              <a:path w="2134" h="1365">
                <a:moveTo>
                  <a:pt x="16718" y="6548"/>
                </a:moveTo>
                <a:cubicBezTo>
                  <a:pt x="16667" y="6592"/>
                  <a:pt x="16596" y="6673"/>
                  <a:pt x="16669" y="6747"/>
                </a:cubicBezTo>
                <a:cubicBezTo>
                  <a:pt x="16704" y="6783"/>
                  <a:pt x="16844" y="6790"/>
                  <a:pt x="16892" y="6772"/>
                </a:cubicBezTo>
                <a:cubicBezTo>
                  <a:pt x="16927" y="6759"/>
                  <a:pt x="16958" y="6742"/>
                  <a:pt x="16991" y="6722"/>
                </a:cubicBezTo>
              </a:path>
              <a:path w="2134" h="1365">
                <a:moveTo>
                  <a:pt x="16966" y="6499"/>
                </a:moveTo>
                <a:cubicBezTo>
                  <a:pt x="16966" y="6579"/>
                  <a:pt x="16948" y="6650"/>
                  <a:pt x="16942" y="6722"/>
                </a:cubicBezTo>
                <a:cubicBezTo>
                  <a:pt x="16930" y="6855"/>
                  <a:pt x="16943" y="7001"/>
                  <a:pt x="16966" y="7119"/>
                </a:cubicBezTo>
                <a:cubicBezTo>
                  <a:pt x="16975" y="7163"/>
                  <a:pt x="17009" y="7211"/>
                  <a:pt x="16966" y="71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2473200" y="2687760"/>
            <a:ext cx="2733840" cy="804600"/>
          </a:xfrm>
          <a:custGeom>
            <a:avLst/>
            <a:gdLst/>
            <a:ahLst/>
            <a:rect l="l" t="t" r="r" b="b"/>
            <a:pathLst>
              <a:path w="7591" h="2234">
                <a:moveTo>
                  <a:pt x="6896" y="7739"/>
                </a:moveTo>
                <a:cubicBezTo>
                  <a:pt x="6896" y="7814"/>
                  <a:pt x="6909" y="7869"/>
                  <a:pt x="6921" y="7938"/>
                </a:cubicBezTo>
                <a:cubicBezTo>
                  <a:pt x="6933" y="8009"/>
                  <a:pt x="6935" y="8090"/>
                  <a:pt x="6945" y="8161"/>
                </a:cubicBezTo>
                <a:cubicBezTo>
                  <a:pt x="6962" y="8286"/>
                  <a:pt x="6945" y="8089"/>
                  <a:pt x="6945" y="8062"/>
                </a:cubicBezTo>
                <a:cubicBezTo>
                  <a:pt x="6945" y="7981"/>
                  <a:pt x="6925" y="7935"/>
                  <a:pt x="6921" y="7863"/>
                </a:cubicBezTo>
                <a:cubicBezTo>
                  <a:pt x="6917" y="7795"/>
                  <a:pt x="6889" y="7608"/>
                  <a:pt x="6945" y="7565"/>
                </a:cubicBezTo>
                <a:cubicBezTo>
                  <a:pt x="7027" y="7503"/>
                  <a:pt x="7147" y="7479"/>
                  <a:pt x="7243" y="7466"/>
                </a:cubicBezTo>
                <a:cubicBezTo>
                  <a:pt x="7362" y="7450"/>
                  <a:pt x="7495" y="7466"/>
                  <a:pt x="7615" y="7466"/>
                </a:cubicBezTo>
              </a:path>
              <a:path w="7591" h="2234">
                <a:moveTo>
                  <a:pt x="7243" y="7689"/>
                </a:moveTo>
                <a:cubicBezTo>
                  <a:pt x="7323" y="7654"/>
                  <a:pt x="7380" y="7640"/>
                  <a:pt x="7466" y="7640"/>
                </a:cubicBezTo>
                <a:cubicBezTo>
                  <a:pt x="7459" y="7695"/>
                  <a:pt x="7438" y="7774"/>
                  <a:pt x="7392" y="7813"/>
                </a:cubicBezTo>
                <a:cubicBezTo>
                  <a:pt x="7300" y="7891"/>
                  <a:pt x="7308" y="7818"/>
                  <a:pt x="7392" y="7838"/>
                </a:cubicBezTo>
                <a:cubicBezTo>
                  <a:pt x="7441" y="7850"/>
                  <a:pt x="7513" y="7894"/>
                  <a:pt x="7541" y="7938"/>
                </a:cubicBezTo>
                <a:cubicBezTo>
                  <a:pt x="7576" y="7992"/>
                  <a:pt x="7579" y="8062"/>
                  <a:pt x="7541" y="8111"/>
                </a:cubicBezTo>
                <a:cubicBezTo>
                  <a:pt x="7503" y="8159"/>
                  <a:pt x="7476" y="8182"/>
                  <a:pt x="7417" y="8186"/>
                </a:cubicBezTo>
                <a:cubicBezTo>
                  <a:pt x="7359" y="8186"/>
                  <a:pt x="7334" y="8186"/>
                  <a:pt x="7293" y="8186"/>
                </a:cubicBezTo>
              </a:path>
              <a:path w="7591" h="2234">
                <a:moveTo>
                  <a:pt x="6871" y="8334"/>
                </a:moveTo>
                <a:cubicBezTo>
                  <a:pt x="6960" y="8358"/>
                  <a:pt x="7026" y="8359"/>
                  <a:pt x="7119" y="8359"/>
                </a:cubicBezTo>
                <a:cubicBezTo>
                  <a:pt x="7317" y="8359"/>
                  <a:pt x="7516" y="8359"/>
                  <a:pt x="7714" y="8359"/>
                </a:cubicBezTo>
              </a:path>
              <a:path w="7591" h="2234">
                <a:moveTo>
                  <a:pt x="7417" y="8582"/>
                </a:moveTo>
                <a:cubicBezTo>
                  <a:pt x="7392" y="8607"/>
                  <a:pt x="7384" y="8615"/>
                  <a:pt x="7367" y="8632"/>
                </a:cubicBezTo>
                <a:cubicBezTo>
                  <a:pt x="7417" y="8582"/>
                  <a:pt x="7444" y="8562"/>
                  <a:pt x="7516" y="8558"/>
                </a:cubicBezTo>
                <a:cubicBezTo>
                  <a:pt x="7610" y="8553"/>
                  <a:pt x="7635" y="8596"/>
                  <a:pt x="7640" y="8682"/>
                </a:cubicBezTo>
                <a:cubicBezTo>
                  <a:pt x="7644" y="8757"/>
                  <a:pt x="7619" y="8809"/>
                  <a:pt x="7615" y="8880"/>
                </a:cubicBezTo>
                <a:cubicBezTo>
                  <a:pt x="7612" y="8940"/>
                  <a:pt x="7584" y="8983"/>
                  <a:pt x="7541" y="9029"/>
                </a:cubicBezTo>
                <a:cubicBezTo>
                  <a:pt x="7500" y="9073"/>
                  <a:pt x="7468" y="9145"/>
                  <a:pt x="7417" y="9178"/>
                </a:cubicBezTo>
                <a:cubicBezTo>
                  <a:pt x="7361" y="9214"/>
                  <a:pt x="7286" y="9245"/>
                  <a:pt x="7218" y="9227"/>
                </a:cubicBezTo>
                <a:cubicBezTo>
                  <a:pt x="7134" y="9204"/>
                  <a:pt x="7128" y="9147"/>
                  <a:pt x="7169" y="9079"/>
                </a:cubicBezTo>
                <a:cubicBezTo>
                  <a:pt x="7206" y="9018"/>
                  <a:pt x="7245" y="9029"/>
                  <a:pt x="7293" y="9004"/>
                </a:cubicBezTo>
                <a:cubicBezTo>
                  <a:pt x="7380" y="8960"/>
                  <a:pt x="7418" y="8967"/>
                  <a:pt x="7491" y="9054"/>
                </a:cubicBezTo>
                <a:cubicBezTo>
                  <a:pt x="7500" y="9065"/>
                  <a:pt x="7563" y="9185"/>
                  <a:pt x="7590" y="9178"/>
                </a:cubicBezTo>
                <a:cubicBezTo>
                  <a:pt x="7590" y="9170"/>
                  <a:pt x="7590" y="9161"/>
                  <a:pt x="7590" y="9153"/>
                </a:cubicBezTo>
              </a:path>
              <a:path w="7591" h="2234">
                <a:moveTo>
                  <a:pt x="8161" y="8334"/>
                </a:moveTo>
                <a:cubicBezTo>
                  <a:pt x="8185" y="8382"/>
                  <a:pt x="8171" y="8373"/>
                  <a:pt x="8136" y="8434"/>
                </a:cubicBezTo>
                <a:cubicBezTo>
                  <a:pt x="8226" y="8344"/>
                  <a:pt x="8111" y="8387"/>
                  <a:pt x="8111" y="8409"/>
                </a:cubicBezTo>
                <a:cubicBezTo>
                  <a:pt x="8119" y="8409"/>
                  <a:pt x="8128" y="8409"/>
                  <a:pt x="8136" y="8409"/>
                </a:cubicBezTo>
              </a:path>
              <a:path w="7591" h="2234">
                <a:moveTo>
                  <a:pt x="8806" y="7913"/>
                </a:moveTo>
                <a:cubicBezTo>
                  <a:pt x="8806" y="7973"/>
                  <a:pt x="8806" y="8310"/>
                  <a:pt x="8806" y="8210"/>
                </a:cubicBezTo>
                <a:cubicBezTo>
                  <a:pt x="8806" y="8118"/>
                  <a:pt x="8785" y="8051"/>
                  <a:pt x="8781" y="7962"/>
                </a:cubicBezTo>
                <a:cubicBezTo>
                  <a:pt x="8777" y="7886"/>
                  <a:pt x="8742" y="7783"/>
                  <a:pt x="8706" y="7714"/>
                </a:cubicBezTo>
                <a:cubicBezTo>
                  <a:pt x="8679" y="7686"/>
                  <a:pt x="8671" y="7672"/>
                  <a:pt x="8682" y="7640"/>
                </a:cubicBezTo>
                <a:cubicBezTo>
                  <a:pt x="8733" y="7609"/>
                  <a:pt x="8818" y="7600"/>
                  <a:pt x="8880" y="7590"/>
                </a:cubicBezTo>
                <a:cubicBezTo>
                  <a:pt x="8953" y="7578"/>
                  <a:pt x="9031" y="7575"/>
                  <a:pt x="9103" y="7565"/>
                </a:cubicBezTo>
                <a:cubicBezTo>
                  <a:pt x="9190" y="7552"/>
                  <a:pt x="9280" y="7576"/>
                  <a:pt x="9351" y="7590"/>
                </a:cubicBezTo>
                <a:cubicBezTo>
                  <a:pt x="9396" y="7590"/>
                  <a:pt x="9409" y="7587"/>
                  <a:pt x="9426" y="7615"/>
                </a:cubicBezTo>
              </a:path>
              <a:path w="7591" h="2234">
                <a:moveTo>
                  <a:pt x="9103" y="7838"/>
                </a:moveTo>
                <a:cubicBezTo>
                  <a:pt x="9070" y="7909"/>
                  <a:pt x="9160" y="7799"/>
                  <a:pt x="9203" y="7789"/>
                </a:cubicBezTo>
                <a:cubicBezTo>
                  <a:pt x="9259" y="7776"/>
                  <a:pt x="9307" y="7792"/>
                  <a:pt x="9351" y="7813"/>
                </a:cubicBezTo>
                <a:cubicBezTo>
                  <a:pt x="9342" y="7890"/>
                  <a:pt x="9315" y="7945"/>
                  <a:pt x="9277" y="8012"/>
                </a:cubicBezTo>
                <a:cubicBezTo>
                  <a:pt x="9242" y="8074"/>
                  <a:pt x="9204" y="8110"/>
                  <a:pt x="9153" y="8161"/>
                </a:cubicBezTo>
                <a:cubicBezTo>
                  <a:pt x="9124" y="8190"/>
                  <a:pt x="8928" y="8340"/>
                  <a:pt x="9004" y="8384"/>
                </a:cubicBezTo>
                <a:cubicBezTo>
                  <a:pt x="9058" y="8416"/>
                  <a:pt x="9221" y="8361"/>
                  <a:pt x="9277" y="8359"/>
                </a:cubicBezTo>
                <a:cubicBezTo>
                  <a:pt x="9370" y="8355"/>
                  <a:pt x="9454" y="8334"/>
                  <a:pt x="9550" y="8334"/>
                </a:cubicBezTo>
                <a:cubicBezTo>
                  <a:pt x="9591" y="8334"/>
                  <a:pt x="9599" y="8334"/>
                  <a:pt x="9624" y="8334"/>
                </a:cubicBezTo>
              </a:path>
              <a:path w="7591" h="2234">
                <a:moveTo>
                  <a:pt x="8706" y="8483"/>
                </a:moveTo>
                <a:cubicBezTo>
                  <a:pt x="8795" y="8516"/>
                  <a:pt x="8837" y="8488"/>
                  <a:pt x="8930" y="8483"/>
                </a:cubicBezTo>
                <a:cubicBezTo>
                  <a:pt x="9010" y="8479"/>
                  <a:pt x="9075" y="8469"/>
                  <a:pt x="9153" y="8458"/>
                </a:cubicBezTo>
                <a:cubicBezTo>
                  <a:pt x="9272" y="8441"/>
                  <a:pt x="9405" y="8458"/>
                  <a:pt x="9525" y="8458"/>
                </a:cubicBezTo>
              </a:path>
              <a:path w="7591" h="2234">
                <a:moveTo>
                  <a:pt x="9054" y="8830"/>
                </a:moveTo>
                <a:cubicBezTo>
                  <a:pt x="9100" y="8803"/>
                  <a:pt x="9130" y="8787"/>
                  <a:pt x="9178" y="8756"/>
                </a:cubicBezTo>
                <a:cubicBezTo>
                  <a:pt x="9229" y="8723"/>
                  <a:pt x="9313" y="8682"/>
                  <a:pt x="9376" y="8706"/>
                </a:cubicBezTo>
                <a:cubicBezTo>
                  <a:pt x="9415" y="8721"/>
                  <a:pt x="9447" y="8803"/>
                  <a:pt x="9451" y="8830"/>
                </a:cubicBezTo>
                <a:cubicBezTo>
                  <a:pt x="9463" y="8912"/>
                  <a:pt x="9453" y="9053"/>
                  <a:pt x="9426" y="9128"/>
                </a:cubicBezTo>
                <a:cubicBezTo>
                  <a:pt x="9409" y="9175"/>
                  <a:pt x="9364" y="9223"/>
                  <a:pt x="9351" y="9277"/>
                </a:cubicBezTo>
                <a:cubicBezTo>
                  <a:pt x="9337" y="9336"/>
                  <a:pt x="9329" y="9383"/>
                  <a:pt x="9252" y="9401"/>
                </a:cubicBezTo>
                <a:cubicBezTo>
                  <a:pt x="9198" y="9414"/>
                  <a:pt x="9119" y="9408"/>
                  <a:pt x="9079" y="9376"/>
                </a:cubicBezTo>
                <a:cubicBezTo>
                  <a:pt x="9030" y="9336"/>
                  <a:pt x="9008" y="9313"/>
                  <a:pt x="9004" y="9252"/>
                </a:cubicBezTo>
                <a:cubicBezTo>
                  <a:pt x="9000" y="9188"/>
                  <a:pt x="9056" y="9131"/>
                  <a:pt x="9128" y="9153"/>
                </a:cubicBezTo>
                <a:cubicBezTo>
                  <a:pt x="9175" y="9168"/>
                  <a:pt x="9213" y="9188"/>
                  <a:pt x="9252" y="9227"/>
                </a:cubicBezTo>
                <a:cubicBezTo>
                  <a:pt x="9296" y="9270"/>
                  <a:pt x="9315" y="9328"/>
                  <a:pt x="9351" y="9376"/>
                </a:cubicBezTo>
                <a:cubicBezTo>
                  <a:pt x="9399" y="9440"/>
                  <a:pt x="9394" y="9451"/>
                  <a:pt x="9475" y="9451"/>
                </a:cubicBezTo>
              </a:path>
              <a:path w="7591" h="2234">
                <a:moveTo>
                  <a:pt x="10418" y="8161"/>
                </a:moveTo>
                <a:cubicBezTo>
                  <a:pt x="10450" y="8245"/>
                  <a:pt x="10464" y="8344"/>
                  <a:pt x="10468" y="8434"/>
                </a:cubicBezTo>
                <a:cubicBezTo>
                  <a:pt x="10471" y="8503"/>
                  <a:pt x="10469" y="8595"/>
                  <a:pt x="10492" y="8657"/>
                </a:cubicBezTo>
                <a:cubicBezTo>
                  <a:pt x="10508" y="8699"/>
                  <a:pt x="10531" y="8737"/>
                  <a:pt x="10542" y="8781"/>
                </a:cubicBezTo>
              </a:path>
              <a:path w="7591" h="2234">
                <a:moveTo>
                  <a:pt x="10220" y="8409"/>
                </a:moveTo>
                <a:cubicBezTo>
                  <a:pt x="10435" y="8409"/>
                  <a:pt x="10649" y="8409"/>
                  <a:pt x="10864" y="8409"/>
                </a:cubicBezTo>
              </a:path>
              <a:path w="7591" h="2234">
                <a:moveTo>
                  <a:pt x="11832" y="7689"/>
                </a:moveTo>
                <a:cubicBezTo>
                  <a:pt x="11865" y="7755"/>
                  <a:pt x="11847" y="7813"/>
                  <a:pt x="11857" y="7888"/>
                </a:cubicBezTo>
                <a:cubicBezTo>
                  <a:pt x="11869" y="7982"/>
                  <a:pt x="11893" y="8146"/>
                  <a:pt x="11931" y="8235"/>
                </a:cubicBezTo>
                <a:cubicBezTo>
                  <a:pt x="11947" y="8273"/>
                  <a:pt x="11956" y="8286"/>
                  <a:pt x="11956" y="8334"/>
                </a:cubicBezTo>
              </a:path>
              <a:path w="7591" h="2234">
                <a:moveTo>
                  <a:pt x="11559" y="8458"/>
                </a:moveTo>
                <a:cubicBezTo>
                  <a:pt x="11632" y="8449"/>
                  <a:pt x="11708" y="8447"/>
                  <a:pt x="11782" y="8434"/>
                </a:cubicBezTo>
                <a:cubicBezTo>
                  <a:pt x="11865" y="8420"/>
                  <a:pt x="11976" y="8431"/>
                  <a:pt x="12055" y="8409"/>
                </a:cubicBezTo>
                <a:cubicBezTo>
                  <a:pt x="12126" y="8389"/>
                  <a:pt x="12177" y="8384"/>
                  <a:pt x="12254" y="8384"/>
                </a:cubicBezTo>
              </a:path>
              <a:path w="7591" h="2234">
                <a:moveTo>
                  <a:pt x="11981" y="8731"/>
                </a:moveTo>
                <a:cubicBezTo>
                  <a:pt x="11981" y="8781"/>
                  <a:pt x="11981" y="8797"/>
                  <a:pt x="11981" y="8830"/>
                </a:cubicBezTo>
                <a:cubicBezTo>
                  <a:pt x="12023" y="8778"/>
                  <a:pt x="12043" y="8663"/>
                  <a:pt x="12129" y="8682"/>
                </a:cubicBezTo>
                <a:cubicBezTo>
                  <a:pt x="12176" y="8693"/>
                  <a:pt x="12228" y="8765"/>
                  <a:pt x="12254" y="8806"/>
                </a:cubicBezTo>
                <a:cubicBezTo>
                  <a:pt x="12290" y="8862"/>
                  <a:pt x="12299" y="8963"/>
                  <a:pt x="12303" y="9029"/>
                </a:cubicBezTo>
                <a:cubicBezTo>
                  <a:pt x="12307" y="9102"/>
                  <a:pt x="12307" y="9161"/>
                  <a:pt x="12278" y="9227"/>
                </a:cubicBezTo>
                <a:cubicBezTo>
                  <a:pt x="12247" y="9299"/>
                  <a:pt x="12237" y="9345"/>
                  <a:pt x="12204" y="9401"/>
                </a:cubicBezTo>
                <a:cubicBezTo>
                  <a:pt x="12189" y="9426"/>
                  <a:pt x="12093" y="9519"/>
                  <a:pt x="12080" y="9525"/>
                </a:cubicBezTo>
                <a:cubicBezTo>
                  <a:pt x="12045" y="9541"/>
                  <a:pt x="11948" y="9566"/>
                  <a:pt x="11906" y="9550"/>
                </a:cubicBezTo>
                <a:cubicBezTo>
                  <a:pt x="11864" y="9534"/>
                  <a:pt x="11841" y="9441"/>
                  <a:pt x="11857" y="9401"/>
                </a:cubicBezTo>
                <a:cubicBezTo>
                  <a:pt x="11880" y="9343"/>
                  <a:pt x="11954" y="9330"/>
                  <a:pt x="12005" y="9327"/>
                </a:cubicBezTo>
                <a:cubicBezTo>
                  <a:pt x="12051" y="9325"/>
                  <a:pt x="12179" y="9351"/>
                  <a:pt x="12204" y="9401"/>
                </a:cubicBezTo>
                <a:cubicBezTo>
                  <a:pt x="12220" y="9434"/>
                  <a:pt x="12267" y="9476"/>
                  <a:pt x="12278" y="9525"/>
                </a:cubicBezTo>
                <a:cubicBezTo>
                  <a:pt x="12278" y="9570"/>
                  <a:pt x="12275" y="9590"/>
                  <a:pt x="12303" y="9550"/>
                </a:cubicBezTo>
              </a:path>
              <a:path w="7591" h="2234">
                <a:moveTo>
                  <a:pt x="12750" y="8632"/>
                </a:moveTo>
                <a:cubicBezTo>
                  <a:pt x="12750" y="8624"/>
                  <a:pt x="12750" y="8615"/>
                  <a:pt x="12750" y="8607"/>
                </a:cubicBezTo>
              </a:path>
              <a:path w="7591" h="2234">
                <a:moveTo>
                  <a:pt x="13122" y="8210"/>
                </a:moveTo>
                <a:cubicBezTo>
                  <a:pt x="13155" y="8277"/>
                  <a:pt x="13202" y="8365"/>
                  <a:pt x="13221" y="8434"/>
                </a:cubicBezTo>
                <a:cubicBezTo>
                  <a:pt x="13238" y="8496"/>
                  <a:pt x="13238" y="8553"/>
                  <a:pt x="13271" y="8607"/>
                </a:cubicBezTo>
                <a:cubicBezTo>
                  <a:pt x="13260" y="8533"/>
                  <a:pt x="13230" y="8464"/>
                  <a:pt x="13221" y="8384"/>
                </a:cubicBezTo>
                <a:cubicBezTo>
                  <a:pt x="13213" y="8314"/>
                  <a:pt x="13219" y="8201"/>
                  <a:pt x="13196" y="8136"/>
                </a:cubicBezTo>
                <a:cubicBezTo>
                  <a:pt x="13170" y="8064"/>
                  <a:pt x="13161" y="8019"/>
                  <a:pt x="13196" y="7938"/>
                </a:cubicBezTo>
                <a:cubicBezTo>
                  <a:pt x="13208" y="7909"/>
                  <a:pt x="13259" y="7823"/>
                  <a:pt x="13295" y="7813"/>
                </a:cubicBezTo>
                <a:cubicBezTo>
                  <a:pt x="13371" y="7791"/>
                  <a:pt x="13461" y="7767"/>
                  <a:pt x="13543" y="7764"/>
                </a:cubicBezTo>
                <a:cubicBezTo>
                  <a:pt x="13627" y="7761"/>
                  <a:pt x="13689" y="7752"/>
                  <a:pt x="13767" y="7739"/>
                </a:cubicBezTo>
                <a:cubicBezTo>
                  <a:pt x="13783" y="7739"/>
                  <a:pt x="13800" y="7739"/>
                  <a:pt x="13816" y="7739"/>
                </a:cubicBezTo>
              </a:path>
              <a:path w="7591" h="2234">
                <a:moveTo>
                  <a:pt x="13519" y="7938"/>
                </a:moveTo>
                <a:cubicBezTo>
                  <a:pt x="13538" y="8033"/>
                  <a:pt x="13547" y="7932"/>
                  <a:pt x="13618" y="7913"/>
                </a:cubicBezTo>
                <a:cubicBezTo>
                  <a:pt x="13728" y="7884"/>
                  <a:pt x="13752" y="7999"/>
                  <a:pt x="13791" y="8062"/>
                </a:cubicBezTo>
                <a:cubicBezTo>
                  <a:pt x="13830" y="8125"/>
                  <a:pt x="13826" y="8213"/>
                  <a:pt x="13791" y="8285"/>
                </a:cubicBezTo>
                <a:cubicBezTo>
                  <a:pt x="13761" y="8346"/>
                  <a:pt x="13716" y="8409"/>
                  <a:pt x="13667" y="8458"/>
                </a:cubicBezTo>
                <a:cubicBezTo>
                  <a:pt x="13612" y="8514"/>
                  <a:pt x="13556" y="8529"/>
                  <a:pt x="13494" y="8508"/>
                </a:cubicBezTo>
                <a:cubicBezTo>
                  <a:pt x="13480" y="8474"/>
                  <a:pt x="13482" y="8402"/>
                  <a:pt x="13543" y="8384"/>
                </a:cubicBezTo>
                <a:cubicBezTo>
                  <a:pt x="13625" y="8360"/>
                  <a:pt x="13738" y="8422"/>
                  <a:pt x="13816" y="8434"/>
                </a:cubicBezTo>
                <a:cubicBezTo>
                  <a:pt x="13877" y="8444"/>
                  <a:pt x="13955" y="8441"/>
                  <a:pt x="14015" y="8458"/>
                </a:cubicBezTo>
                <a:cubicBezTo>
                  <a:pt x="14073" y="8474"/>
                  <a:pt x="14100" y="8483"/>
                  <a:pt x="14163" y="8483"/>
                </a:cubicBezTo>
              </a:path>
              <a:path w="7591" h="2234">
                <a:moveTo>
                  <a:pt x="14238" y="8657"/>
                </a:moveTo>
                <a:cubicBezTo>
                  <a:pt x="14120" y="8716"/>
                  <a:pt x="14028" y="8745"/>
                  <a:pt x="13891" y="8756"/>
                </a:cubicBezTo>
                <a:cubicBezTo>
                  <a:pt x="13771" y="8766"/>
                  <a:pt x="13660" y="8776"/>
                  <a:pt x="13543" y="8781"/>
                </a:cubicBezTo>
                <a:cubicBezTo>
                  <a:pt x="13457" y="8785"/>
                  <a:pt x="13374" y="8796"/>
                  <a:pt x="13295" y="8806"/>
                </a:cubicBezTo>
                <a:cubicBezTo>
                  <a:pt x="13224" y="8815"/>
                  <a:pt x="13203" y="8797"/>
                  <a:pt x="13146" y="8830"/>
                </a:cubicBezTo>
              </a:path>
              <a:path w="7591" h="2234">
                <a:moveTo>
                  <a:pt x="13667" y="8979"/>
                </a:moveTo>
                <a:cubicBezTo>
                  <a:pt x="13758" y="8979"/>
                  <a:pt x="13921" y="8949"/>
                  <a:pt x="13990" y="9004"/>
                </a:cubicBezTo>
                <a:cubicBezTo>
                  <a:pt x="14036" y="9041"/>
                  <a:pt x="14061" y="9100"/>
                  <a:pt x="14064" y="9153"/>
                </a:cubicBezTo>
                <a:cubicBezTo>
                  <a:pt x="14067" y="9209"/>
                  <a:pt x="14061" y="9281"/>
                  <a:pt x="14039" y="9327"/>
                </a:cubicBezTo>
                <a:cubicBezTo>
                  <a:pt x="14017" y="9371"/>
                  <a:pt x="13958" y="9433"/>
                  <a:pt x="13915" y="9451"/>
                </a:cubicBezTo>
                <a:cubicBezTo>
                  <a:pt x="13857" y="9476"/>
                  <a:pt x="13805" y="9515"/>
                  <a:pt x="13742" y="9550"/>
                </a:cubicBezTo>
                <a:cubicBezTo>
                  <a:pt x="13689" y="9580"/>
                  <a:pt x="13674" y="9622"/>
                  <a:pt x="13667" y="9674"/>
                </a:cubicBezTo>
                <a:cubicBezTo>
                  <a:pt x="13916" y="9674"/>
                  <a:pt x="14173" y="9661"/>
                  <a:pt x="14412" y="9699"/>
                </a:cubicBezTo>
                <a:cubicBezTo>
                  <a:pt x="14491" y="9712"/>
                  <a:pt x="14461" y="9655"/>
                  <a:pt x="14461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2973240" y="3571920"/>
            <a:ext cx="1268640" cy="822240"/>
          </a:xfrm>
          <a:custGeom>
            <a:avLst/>
            <a:gdLst/>
            <a:ahLst/>
            <a:rect l="l" t="t" r="r" b="b"/>
            <a:pathLst>
              <a:path w="3523" h="2283">
                <a:moveTo>
                  <a:pt x="8260" y="10195"/>
                </a:moveTo>
                <a:cubicBezTo>
                  <a:pt x="8340" y="10274"/>
                  <a:pt x="8330" y="10328"/>
                  <a:pt x="8334" y="10443"/>
                </a:cubicBezTo>
                <a:cubicBezTo>
                  <a:pt x="8339" y="10575"/>
                  <a:pt x="8334" y="10708"/>
                  <a:pt x="8334" y="10840"/>
                </a:cubicBezTo>
                <a:cubicBezTo>
                  <a:pt x="8334" y="10742"/>
                  <a:pt x="8347" y="10663"/>
                  <a:pt x="8359" y="10567"/>
                </a:cubicBezTo>
                <a:cubicBezTo>
                  <a:pt x="8371" y="10468"/>
                  <a:pt x="8372" y="10363"/>
                  <a:pt x="8384" y="10269"/>
                </a:cubicBezTo>
                <a:cubicBezTo>
                  <a:pt x="8398" y="10159"/>
                  <a:pt x="8381" y="10097"/>
                  <a:pt x="8458" y="9996"/>
                </a:cubicBezTo>
                <a:cubicBezTo>
                  <a:pt x="8495" y="9948"/>
                  <a:pt x="8524" y="9925"/>
                  <a:pt x="8582" y="9922"/>
                </a:cubicBezTo>
                <a:cubicBezTo>
                  <a:pt x="8735" y="9913"/>
                  <a:pt x="8879" y="9931"/>
                  <a:pt x="9029" y="9947"/>
                </a:cubicBezTo>
                <a:cubicBezTo>
                  <a:pt x="9069" y="9951"/>
                  <a:pt x="9112" y="9947"/>
                  <a:pt x="9153" y="9947"/>
                </a:cubicBezTo>
              </a:path>
              <a:path w="3523" h="2283">
                <a:moveTo>
                  <a:pt x="8830" y="10220"/>
                </a:moveTo>
                <a:cubicBezTo>
                  <a:pt x="8804" y="10306"/>
                  <a:pt x="8764" y="10427"/>
                  <a:pt x="8756" y="10517"/>
                </a:cubicBezTo>
                <a:cubicBezTo>
                  <a:pt x="8746" y="10626"/>
                  <a:pt x="8763" y="10679"/>
                  <a:pt x="8855" y="10740"/>
                </a:cubicBezTo>
                <a:cubicBezTo>
                  <a:pt x="8902" y="10771"/>
                  <a:pt x="8999" y="10780"/>
                  <a:pt x="9054" y="10765"/>
                </a:cubicBezTo>
                <a:cubicBezTo>
                  <a:pt x="9110" y="10749"/>
                  <a:pt x="9181" y="10701"/>
                  <a:pt x="9227" y="10666"/>
                </a:cubicBezTo>
                <a:cubicBezTo>
                  <a:pt x="9277" y="10628"/>
                  <a:pt x="9255" y="10538"/>
                  <a:pt x="9227" y="10492"/>
                </a:cubicBezTo>
                <a:cubicBezTo>
                  <a:pt x="9184" y="10421"/>
                  <a:pt x="9089" y="10434"/>
                  <a:pt x="9029" y="10468"/>
                </a:cubicBezTo>
                <a:cubicBezTo>
                  <a:pt x="8967" y="10503"/>
                  <a:pt x="8967" y="10607"/>
                  <a:pt x="8979" y="10666"/>
                </a:cubicBezTo>
                <a:cubicBezTo>
                  <a:pt x="9004" y="10740"/>
                  <a:pt x="9013" y="10765"/>
                  <a:pt x="9029" y="10815"/>
                </a:cubicBezTo>
              </a:path>
              <a:path w="3523" h="2283">
                <a:moveTo>
                  <a:pt x="8334" y="10964"/>
                </a:moveTo>
                <a:cubicBezTo>
                  <a:pt x="8428" y="10987"/>
                  <a:pt x="8509" y="10988"/>
                  <a:pt x="8607" y="10988"/>
                </a:cubicBezTo>
                <a:cubicBezTo>
                  <a:pt x="8808" y="10988"/>
                  <a:pt x="9161" y="11060"/>
                  <a:pt x="9327" y="10964"/>
                </a:cubicBezTo>
              </a:path>
              <a:path w="3523" h="2283">
                <a:moveTo>
                  <a:pt x="8830" y="11162"/>
                </a:moveTo>
                <a:cubicBezTo>
                  <a:pt x="8796" y="11211"/>
                  <a:pt x="8724" y="11307"/>
                  <a:pt x="8731" y="11361"/>
                </a:cubicBezTo>
                <a:cubicBezTo>
                  <a:pt x="8739" y="11421"/>
                  <a:pt x="8761" y="11493"/>
                  <a:pt x="8830" y="11509"/>
                </a:cubicBezTo>
                <a:cubicBezTo>
                  <a:pt x="8939" y="11534"/>
                  <a:pt x="8989" y="11566"/>
                  <a:pt x="9103" y="11534"/>
                </a:cubicBezTo>
              </a:path>
              <a:path w="3523" h="2283">
                <a:moveTo>
                  <a:pt x="9153" y="11187"/>
                </a:moveTo>
                <a:cubicBezTo>
                  <a:pt x="9143" y="11296"/>
                  <a:pt x="9113" y="11396"/>
                  <a:pt x="9103" y="11509"/>
                </a:cubicBezTo>
                <a:cubicBezTo>
                  <a:pt x="9094" y="11606"/>
                  <a:pt x="9065" y="11989"/>
                  <a:pt x="9128" y="12030"/>
                </a:cubicBezTo>
              </a:path>
              <a:path w="3523" h="2283">
                <a:moveTo>
                  <a:pt x="9947" y="10864"/>
                </a:moveTo>
                <a:cubicBezTo>
                  <a:pt x="9947" y="10956"/>
                  <a:pt x="9959" y="11024"/>
                  <a:pt x="9971" y="11112"/>
                </a:cubicBezTo>
                <a:cubicBezTo>
                  <a:pt x="9980" y="11181"/>
                  <a:pt x="10012" y="11221"/>
                  <a:pt x="10021" y="11286"/>
                </a:cubicBezTo>
              </a:path>
              <a:path w="3523" h="2283">
                <a:moveTo>
                  <a:pt x="9773" y="11013"/>
                </a:moveTo>
                <a:cubicBezTo>
                  <a:pt x="9861" y="10954"/>
                  <a:pt x="9896" y="10984"/>
                  <a:pt x="9996" y="10988"/>
                </a:cubicBezTo>
                <a:cubicBezTo>
                  <a:pt x="10062" y="10988"/>
                  <a:pt x="10079" y="10988"/>
                  <a:pt x="10120" y="10988"/>
                </a:cubicBezTo>
              </a:path>
              <a:path w="3523" h="2283">
                <a:moveTo>
                  <a:pt x="10468" y="10393"/>
                </a:moveTo>
                <a:cubicBezTo>
                  <a:pt x="10468" y="10489"/>
                  <a:pt x="10481" y="10576"/>
                  <a:pt x="10492" y="10666"/>
                </a:cubicBezTo>
                <a:cubicBezTo>
                  <a:pt x="10504" y="10762"/>
                  <a:pt x="10525" y="10847"/>
                  <a:pt x="10567" y="10939"/>
                </a:cubicBezTo>
                <a:cubicBezTo>
                  <a:pt x="10575" y="10955"/>
                  <a:pt x="10584" y="10972"/>
                  <a:pt x="10592" y="10988"/>
                </a:cubicBezTo>
                <a:cubicBezTo>
                  <a:pt x="10584" y="10901"/>
                  <a:pt x="10567" y="10799"/>
                  <a:pt x="10542" y="10716"/>
                </a:cubicBezTo>
                <a:cubicBezTo>
                  <a:pt x="10520" y="10645"/>
                  <a:pt x="10517" y="10594"/>
                  <a:pt x="10517" y="10517"/>
                </a:cubicBezTo>
                <a:cubicBezTo>
                  <a:pt x="10517" y="10435"/>
                  <a:pt x="10513" y="10361"/>
                  <a:pt x="10567" y="10294"/>
                </a:cubicBezTo>
                <a:cubicBezTo>
                  <a:pt x="10617" y="10232"/>
                  <a:pt x="10671" y="10205"/>
                  <a:pt x="10740" y="10170"/>
                </a:cubicBezTo>
                <a:cubicBezTo>
                  <a:pt x="10809" y="10135"/>
                  <a:pt x="10887" y="10124"/>
                  <a:pt x="10964" y="10120"/>
                </a:cubicBezTo>
                <a:cubicBezTo>
                  <a:pt x="10980" y="10120"/>
                  <a:pt x="10997" y="10120"/>
                  <a:pt x="11013" y="10120"/>
                </a:cubicBezTo>
              </a:path>
              <a:path w="3523" h="2283">
                <a:moveTo>
                  <a:pt x="10914" y="10468"/>
                </a:moveTo>
                <a:cubicBezTo>
                  <a:pt x="10906" y="10484"/>
                  <a:pt x="10897" y="10501"/>
                  <a:pt x="10889" y="10517"/>
                </a:cubicBezTo>
                <a:cubicBezTo>
                  <a:pt x="10899" y="10451"/>
                  <a:pt x="10916" y="10442"/>
                  <a:pt x="10964" y="10393"/>
                </a:cubicBezTo>
                <a:cubicBezTo>
                  <a:pt x="11010" y="10346"/>
                  <a:pt x="11115" y="10355"/>
                  <a:pt x="11162" y="10393"/>
                </a:cubicBezTo>
                <a:cubicBezTo>
                  <a:pt x="11226" y="10445"/>
                  <a:pt x="11270" y="10509"/>
                  <a:pt x="11286" y="10592"/>
                </a:cubicBezTo>
                <a:cubicBezTo>
                  <a:pt x="11303" y="10681"/>
                  <a:pt x="11274" y="10761"/>
                  <a:pt x="11237" y="10840"/>
                </a:cubicBezTo>
                <a:cubicBezTo>
                  <a:pt x="11209" y="10899"/>
                  <a:pt x="11156" y="10952"/>
                  <a:pt x="11088" y="10964"/>
                </a:cubicBezTo>
                <a:cubicBezTo>
                  <a:pt x="11007" y="10978"/>
                  <a:pt x="10967" y="10967"/>
                  <a:pt x="10914" y="10914"/>
                </a:cubicBezTo>
                <a:cubicBezTo>
                  <a:pt x="10976" y="10852"/>
                  <a:pt x="10982" y="10866"/>
                  <a:pt x="11063" y="10889"/>
                </a:cubicBezTo>
                <a:cubicBezTo>
                  <a:pt x="11176" y="10921"/>
                  <a:pt x="11278" y="10964"/>
                  <a:pt x="11385" y="11013"/>
                </a:cubicBezTo>
              </a:path>
              <a:path w="3523" h="2283">
                <a:moveTo>
                  <a:pt x="11782" y="11112"/>
                </a:moveTo>
                <a:cubicBezTo>
                  <a:pt x="11667" y="11129"/>
                  <a:pt x="11575" y="11137"/>
                  <a:pt x="11460" y="11137"/>
                </a:cubicBezTo>
                <a:cubicBezTo>
                  <a:pt x="11273" y="11137"/>
                  <a:pt x="11072" y="11118"/>
                  <a:pt x="10889" y="11162"/>
                </a:cubicBezTo>
                <a:cubicBezTo>
                  <a:pt x="10799" y="11183"/>
                  <a:pt x="10709" y="11219"/>
                  <a:pt x="10616" y="11237"/>
                </a:cubicBezTo>
                <a:cubicBezTo>
                  <a:pt x="10553" y="11249"/>
                  <a:pt x="10509" y="11242"/>
                  <a:pt x="10492" y="11311"/>
                </a:cubicBezTo>
              </a:path>
              <a:path w="3523" h="2283">
                <a:moveTo>
                  <a:pt x="10964" y="11485"/>
                </a:moveTo>
                <a:cubicBezTo>
                  <a:pt x="10891" y="11556"/>
                  <a:pt x="10870" y="11588"/>
                  <a:pt x="10939" y="11683"/>
                </a:cubicBezTo>
                <a:cubicBezTo>
                  <a:pt x="10982" y="11742"/>
                  <a:pt x="11071" y="11800"/>
                  <a:pt x="11137" y="11807"/>
                </a:cubicBezTo>
                <a:cubicBezTo>
                  <a:pt x="11189" y="11807"/>
                  <a:pt x="11207" y="11806"/>
                  <a:pt x="11237" y="11782"/>
                </a:cubicBezTo>
              </a:path>
              <a:path w="3523" h="2283">
                <a:moveTo>
                  <a:pt x="11261" y="11336"/>
                </a:moveTo>
                <a:cubicBezTo>
                  <a:pt x="11239" y="11410"/>
                  <a:pt x="11180" y="11531"/>
                  <a:pt x="11187" y="11609"/>
                </a:cubicBezTo>
                <a:cubicBezTo>
                  <a:pt x="11195" y="11701"/>
                  <a:pt x="11227" y="11809"/>
                  <a:pt x="11237" y="11906"/>
                </a:cubicBezTo>
                <a:cubicBezTo>
                  <a:pt x="11248" y="12011"/>
                  <a:pt x="11236" y="12101"/>
                  <a:pt x="11261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1"/>
          <p:cNvSpPr/>
          <p:nvPr/>
        </p:nvSpPr>
        <p:spPr>
          <a:xfrm>
            <a:off x="3268800" y="4537080"/>
            <a:ext cx="919080" cy="830160"/>
          </a:xfrm>
          <a:custGeom>
            <a:avLst/>
            <a:gdLst/>
            <a:ahLst/>
            <a:rect l="l" t="t" r="r" b="b"/>
            <a:pathLst>
              <a:path w="2555" h="2308">
                <a:moveTo>
                  <a:pt x="9079" y="12774"/>
                </a:moveTo>
                <a:cubicBezTo>
                  <a:pt x="9104" y="12863"/>
                  <a:pt x="9143" y="12956"/>
                  <a:pt x="9153" y="13047"/>
                </a:cubicBezTo>
                <a:cubicBezTo>
                  <a:pt x="9166" y="13158"/>
                  <a:pt x="9176" y="13288"/>
                  <a:pt x="9203" y="13395"/>
                </a:cubicBezTo>
                <a:cubicBezTo>
                  <a:pt x="9219" y="13456"/>
                  <a:pt x="9253" y="13509"/>
                  <a:pt x="9203" y="13543"/>
                </a:cubicBezTo>
                <a:cubicBezTo>
                  <a:pt x="9135" y="13477"/>
                  <a:pt x="9174" y="13460"/>
                  <a:pt x="9153" y="13370"/>
                </a:cubicBezTo>
                <a:cubicBezTo>
                  <a:pt x="9129" y="13270"/>
                  <a:pt x="9121" y="13175"/>
                  <a:pt x="9103" y="13072"/>
                </a:cubicBezTo>
                <a:cubicBezTo>
                  <a:pt x="9091" y="13003"/>
                  <a:pt x="9059" y="12922"/>
                  <a:pt x="9079" y="12849"/>
                </a:cubicBezTo>
                <a:cubicBezTo>
                  <a:pt x="9101" y="12768"/>
                  <a:pt x="9144" y="12717"/>
                  <a:pt x="9227" y="12700"/>
                </a:cubicBezTo>
                <a:cubicBezTo>
                  <a:pt x="9325" y="12680"/>
                  <a:pt x="9449" y="12700"/>
                  <a:pt x="9550" y="12700"/>
                </a:cubicBezTo>
              </a:path>
              <a:path w="2555" h="2308">
                <a:moveTo>
                  <a:pt x="9525" y="12675"/>
                </a:moveTo>
                <a:cubicBezTo>
                  <a:pt x="9494" y="12760"/>
                  <a:pt x="9485" y="12843"/>
                  <a:pt x="9451" y="12923"/>
                </a:cubicBezTo>
                <a:cubicBezTo>
                  <a:pt x="9419" y="13000"/>
                  <a:pt x="9369" y="13158"/>
                  <a:pt x="9376" y="13246"/>
                </a:cubicBezTo>
                <a:cubicBezTo>
                  <a:pt x="9382" y="13327"/>
                  <a:pt x="9417" y="13421"/>
                  <a:pt x="9451" y="13494"/>
                </a:cubicBezTo>
                <a:cubicBezTo>
                  <a:pt x="9465" y="13524"/>
                  <a:pt x="9537" y="13610"/>
                  <a:pt x="9575" y="13618"/>
                </a:cubicBezTo>
                <a:cubicBezTo>
                  <a:pt x="9671" y="13638"/>
                  <a:pt x="9714" y="13555"/>
                  <a:pt x="9723" y="13469"/>
                </a:cubicBezTo>
                <a:cubicBezTo>
                  <a:pt x="9733" y="13380"/>
                  <a:pt x="9716" y="13290"/>
                  <a:pt x="9674" y="13221"/>
                </a:cubicBezTo>
                <a:cubicBezTo>
                  <a:pt x="9606" y="13231"/>
                  <a:pt x="9588" y="13252"/>
                  <a:pt x="9575" y="13320"/>
                </a:cubicBezTo>
                <a:cubicBezTo>
                  <a:pt x="9560" y="13398"/>
                  <a:pt x="9629" y="13465"/>
                  <a:pt x="9674" y="13519"/>
                </a:cubicBezTo>
              </a:path>
              <a:path w="2555" h="2308">
                <a:moveTo>
                  <a:pt x="10120" y="12799"/>
                </a:moveTo>
                <a:cubicBezTo>
                  <a:pt x="10113" y="12881"/>
                  <a:pt x="10080" y="12962"/>
                  <a:pt x="10096" y="13047"/>
                </a:cubicBezTo>
                <a:cubicBezTo>
                  <a:pt x="10117" y="13161"/>
                  <a:pt x="10130" y="13284"/>
                  <a:pt x="10170" y="13395"/>
                </a:cubicBezTo>
                <a:cubicBezTo>
                  <a:pt x="10186" y="13440"/>
                  <a:pt x="10211" y="13473"/>
                  <a:pt x="10220" y="13519"/>
                </a:cubicBezTo>
              </a:path>
              <a:path w="2555" h="2308">
                <a:moveTo>
                  <a:pt x="9971" y="12948"/>
                </a:moveTo>
                <a:cubicBezTo>
                  <a:pt x="10027" y="12926"/>
                  <a:pt x="10098" y="12951"/>
                  <a:pt x="10170" y="12973"/>
                </a:cubicBezTo>
                <a:cubicBezTo>
                  <a:pt x="10235" y="12995"/>
                  <a:pt x="10250" y="13003"/>
                  <a:pt x="10294" y="12998"/>
                </a:cubicBezTo>
              </a:path>
              <a:path w="2555" h="2308">
                <a:moveTo>
                  <a:pt x="10641" y="12948"/>
                </a:moveTo>
                <a:cubicBezTo>
                  <a:pt x="10658" y="13114"/>
                  <a:pt x="10688" y="13217"/>
                  <a:pt x="10716" y="13370"/>
                </a:cubicBezTo>
                <a:cubicBezTo>
                  <a:pt x="10720" y="13391"/>
                  <a:pt x="10771" y="13567"/>
                  <a:pt x="10740" y="13444"/>
                </a:cubicBezTo>
                <a:cubicBezTo>
                  <a:pt x="10716" y="13351"/>
                  <a:pt x="10716" y="13267"/>
                  <a:pt x="10716" y="13171"/>
                </a:cubicBezTo>
                <a:cubicBezTo>
                  <a:pt x="10716" y="13034"/>
                  <a:pt x="10719" y="12904"/>
                  <a:pt x="10740" y="12774"/>
                </a:cubicBezTo>
                <a:cubicBezTo>
                  <a:pt x="10751" y="12709"/>
                  <a:pt x="10766" y="12698"/>
                  <a:pt x="10815" y="12650"/>
                </a:cubicBezTo>
                <a:cubicBezTo>
                  <a:pt x="10873" y="12594"/>
                  <a:pt x="10907" y="12601"/>
                  <a:pt x="10988" y="12601"/>
                </a:cubicBezTo>
                <a:cubicBezTo>
                  <a:pt x="10996" y="12601"/>
                  <a:pt x="11005" y="12601"/>
                  <a:pt x="11013" y="12601"/>
                </a:cubicBezTo>
              </a:path>
              <a:path w="2555" h="2308">
                <a:moveTo>
                  <a:pt x="11013" y="12849"/>
                </a:moveTo>
                <a:cubicBezTo>
                  <a:pt x="11005" y="12865"/>
                  <a:pt x="10996" y="12882"/>
                  <a:pt x="10988" y="12898"/>
                </a:cubicBezTo>
                <a:cubicBezTo>
                  <a:pt x="11026" y="12851"/>
                  <a:pt x="11038" y="12786"/>
                  <a:pt x="11112" y="12799"/>
                </a:cubicBezTo>
                <a:cubicBezTo>
                  <a:pt x="11254" y="12825"/>
                  <a:pt x="11233" y="12958"/>
                  <a:pt x="11237" y="13072"/>
                </a:cubicBezTo>
                <a:cubicBezTo>
                  <a:pt x="11240" y="13147"/>
                  <a:pt x="11251" y="13228"/>
                  <a:pt x="11212" y="13295"/>
                </a:cubicBezTo>
                <a:cubicBezTo>
                  <a:pt x="11192" y="13330"/>
                  <a:pt x="11127" y="13386"/>
                  <a:pt x="11088" y="13395"/>
                </a:cubicBezTo>
                <a:cubicBezTo>
                  <a:pt x="11038" y="13407"/>
                  <a:pt x="10960" y="13369"/>
                  <a:pt x="10939" y="13320"/>
                </a:cubicBezTo>
                <a:cubicBezTo>
                  <a:pt x="10939" y="13312"/>
                  <a:pt x="10939" y="13303"/>
                  <a:pt x="10939" y="13295"/>
                </a:cubicBezTo>
                <a:cubicBezTo>
                  <a:pt x="11028" y="13266"/>
                  <a:pt x="11054" y="13320"/>
                  <a:pt x="11137" y="13370"/>
                </a:cubicBezTo>
                <a:cubicBezTo>
                  <a:pt x="11176" y="13393"/>
                  <a:pt x="11222" y="13452"/>
                  <a:pt x="11261" y="13469"/>
                </a:cubicBezTo>
                <a:cubicBezTo>
                  <a:pt x="11269" y="13469"/>
                  <a:pt x="11278" y="13469"/>
                  <a:pt x="11286" y="13469"/>
                </a:cubicBezTo>
              </a:path>
              <a:path w="2555" h="2308">
                <a:moveTo>
                  <a:pt x="11633" y="13618"/>
                </a:moveTo>
                <a:cubicBezTo>
                  <a:pt x="11552" y="13618"/>
                  <a:pt x="11487" y="13640"/>
                  <a:pt x="11410" y="13643"/>
                </a:cubicBezTo>
                <a:cubicBezTo>
                  <a:pt x="11306" y="13648"/>
                  <a:pt x="11214" y="13657"/>
                  <a:pt x="11112" y="13667"/>
                </a:cubicBezTo>
                <a:cubicBezTo>
                  <a:pt x="10973" y="13681"/>
                  <a:pt x="10828" y="13681"/>
                  <a:pt x="10691" y="13692"/>
                </a:cubicBezTo>
                <a:cubicBezTo>
                  <a:pt x="10550" y="13703"/>
                  <a:pt x="10408" y="13694"/>
                  <a:pt x="10269" y="13717"/>
                </a:cubicBezTo>
                <a:cubicBezTo>
                  <a:pt x="10128" y="13741"/>
                  <a:pt x="9987" y="13779"/>
                  <a:pt x="9847" y="13791"/>
                </a:cubicBezTo>
                <a:cubicBezTo>
                  <a:pt x="9700" y="13804"/>
                  <a:pt x="9547" y="13820"/>
                  <a:pt x="9401" y="13841"/>
                </a:cubicBezTo>
                <a:cubicBezTo>
                  <a:pt x="9325" y="13852"/>
                  <a:pt x="9249" y="13871"/>
                  <a:pt x="9178" y="13891"/>
                </a:cubicBezTo>
              </a:path>
              <a:path w="2555" h="2308">
                <a:moveTo>
                  <a:pt x="10443" y="13791"/>
                </a:moveTo>
                <a:cubicBezTo>
                  <a:pt x="10386" y="13856"/>
                  <a:pt x="10353" y="13907"/>
                  <a:pt x="10319" y="13965"/>
                </a:cubicBezTo>
                <a:cubicBezTo>
                  <a:pt x="10279" y="14033"/>
                  <a:pt x="10255" y="14041"/>
                  <a:pt x="10294" y="14114"/>
                </a:cubicBezTo>
                <a:cubicBezTo>
                  <a:pt x="10323" y="14168"/>
                  <a:pt x="10362" y="14212"/>
                  <a:pt x="10418" y="14238"/>
                </a:cubicBezTo>
                <a:cubicBezTo>
                  <a:pt x="10481" y="14267"/>
                  <a:pt x="10526" y="14263"/>
                  <a:pt x="10592" y="14263"/>
                </a:cubicBezTo>
              </a:path>
              <a:path w="2555" h="2308">
                <a:moveTo>
                  <a:pt x="10740" y="13742"/>
                </a:moveTo>
                <a:cubicBezTo>
                  <a:pt x="10721" y="13858"/>
                  <a:pt x="10712" y="13975"/>
                  <a:pt x="10691" y="14089"/>
                </a:cubicBezTo>
                <a:cubicBezTo>
                  <a:pt x="10654" y="14283"/>
                  <a:pt x="10645" y="14485"/>
                  <a:pt x="10641" y="14684"/>
                </a:cubicBezTo>
                <a:cubicBezTo>
                  <a:pt x="10641" y="14801"/>
                  <a:pt x="10643" y="14836"/>
                  <a:pt x="10616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2"/>
          <p:cNvSpPr/>
          <p:nvPr/>
        </p:nvSpPr>
        <p:spPr>
          <a:xfrm>
            <a:off x="3786120" y="152280"/>
            <a:ext cx="1473120" cy="660600"/>
          </a:xfrm>
          <a:custGeom>
            <a:avLst/>
            <a:gdLst/>
            <a:ahLst/>
            <a:rect l="l" t="t" r="r" b="b"/>
            <a:pathLst>
              <a:path w="4094" h="1836">
                <a:moveTo>
                  <a:pt x="10939" y="1513"/>
                </a:moveTo>
                <a:cubicBezTo>
                  <a:pt x="10972" y="1546"/>
                  <a:pt x="10891" y="1527"/>
                  <a:pt x="10815" y="1563"/>
                </a:cubicBezTo>
                <a:cubicBezTo>
                  <a:pt x="10743" y="1597"/>
                  <a:pt x="10697" y="1631"/>
                  <a:pt x="10641" y="1687"/>
                </a:cubicBezTo>
                <a:cubicBezTo>
                  <a:pt x="10590" y="1738"/>
                  <a:pt x="10586" y="1718"/>
                  <a:pt x="10567" y="1786"/>
                </a:cubicBezTo>
                <a:cubicBezTo>
                  <a:pt x="10630" y="1860"/>
                  <a:pt x="10712" y="1873"/>
                  <a:pt x="10815" y="1885"/>
                </a:cubicBezTo>
                <a:cubicBezTo>
                  <a:pt x="10934" y="1898"/>
                  <a:pt x="10990" y="1922"/>
                  <a:pt x="11088" y="1984"/>
                </a:cubicBezTo>
                <a:cubicBezTo>
                  <a:pt x="11143" y="2019"/>
                  <a:pt x="11217" y="2065"/>
                  <a:pt x="11137" y="2133"/>
                </a:cubicBezTo>
                <a:cubicBezTo>
                  <a:pt x="11062" y="2197"/>
                  <a:pt x="10929" y="2222"/>
                  <a:pt x="10840" y="2232"/>
                </a:cubicBezTo>
                <a:cubicBezTo>
                  <a:pt x="10769" y="2240"/>
                  <a:pt x="10655" y="2237"/>
                  <a:pt x="10592" y="2208"/>
                </a:cubicBezTo>
                <a:cubicBezTo>
                  <a:pt x="10534" y="2181"/>
                  <a:pt x="10532" y="2160"/>
                  <a:pt x="10517" y="2108"/>
                </a:cubicBezTo>
              </a:path>
              <a:path w="4094" h="1836">
                <a:moveTo>
                  <a:pt x="11311" y="1712"/>
                </a:moveTo>
                <a:cubicBezTo>
                  <a:pt x="11343" y="1829"/>
                  <a:pt x="11379" y="1941"/>
                  <a:pt x="11385" y="2059"/>
                </a:cubicBezTo>
                <a:cubicBezTo>
                  <a:pt x="11385" y="2110"/>
                  <a:pt x="11384" y="2125"/>
                  <a:pt x="11361" y="2059"/>
                </a:cubicBezTo>
              </a:path>
              <a:path w="4094" h="1836">
                <a:moveTo>
                  <a:pt x="11336" y="1439"/>
                </a:moveTo>
                <a:cubicBezTo>
                  <a:pt x="11358" y="1417"/>
                  <a:pt x="11363" y="1408"/>
                  <a:pt x="11385" y="1414"/>
                </a:cubicBezTo>
              </a:path>
              <a:path w="4094" h="1836">
                <a:moveTo>
                  <a:pt x="11633" y="2009"/>
                </a:moveTo>
                <a:cubicBezTo>
                  <a:pt x="11681" y="2167"/>
                  <a:pt x="11683" y="2274"/>
                  <a:pt x="11683" y="2084"/>
                </a:cubicBezTo>
                <a:cubicBezTo>
                  <a:pt x="11683" y="1991"/>
                  <a:pt x="11662" y="1904"/>
                  <a:pt x="11658" y="1811"/>
                </a:cubicBezTo>
                <a:cubicBezTo>
                  <a:pt x="11653" y="1712"/>
                  <a:pt x="11694" y="1646"/>
                  <a:pt x="11757" y="1588"/>
                </a:cubicBezTo>
                <a:cubicBezTo>
                  <a:pt x="11798" y="1550"/>
                  <a:pt x="11825" y="1527"/>
                  <a:pt x="11881" y="1563"/>
                </a:cubicBezTo>
                <a:cubicBezTo>
                  <a:pt x="11955" y="1610"/>
                  <a:pt x="11978" y="1683"/>
                  <a:pt x="12005" y="1761"/>
                </a:cubicBezTo>
                <a:cubicBezTo>
                  <a:pt x="12033" y="1843"/>
                  <a:pt x="12072" y="1997"/>
                  <a:pt x="12055" y="2084"/>
                </a:cubicBezTo>
                <a:cubicBezTo>
                  <a:pt x="12039" y="2169"/>
                  <a:pt x="11994" y="2154"/>
                  <a:pt x="12080" y="2183"/>
                </a:cubicBezTo>
              </a:path>
              <a:path w="4094" h="1836">
                <a:moveTo>
                  <a:pt x="12526" y="1042"/>
                </a:moveTo>
                <a:cubicBezTo>
                  <a:pt x="12512" y="1073"/>
                  <a:pt x="12476" y="1181"/>
                  <a:pt x="12452" y="1240"/>
                </a:cubicBezTo>
                <a:cubicBezTo>
                  <a:pt x="12406" y="1353"/>
                  <a:pt x="12398" y="1447"/>
                  <a:pt x="12378" y="1563"/>
                </a:cubicBezTo>
                <a:cubicBezTo>
                  <a:pt x="12355" y="1697"/>
                  <a:pt x="12368" y="1841"/>
                  <a:pt x="12452" y="1960"/>
                </a:cubicBezTo>
                <a:cubicBezTo>
                  <a:pt x="12536" y="2079"/>
                  <a:pt x="12669" y="2151"/>
                  <a:pt x="12799" y="2208"/>
                </a:cubicBezTo>
                <a:cubicBezTo>
                  <a:pt x="12943" y="2265"/>
                  <a:pt x="13007" y="2281"/>
                  <a:pt x="13122" y="2257"/>
                </a:cubicBezTo>
              </a:path>
              <a:path w="4094" h="1836">
                <a:moveTo>
                  <a:pt x="12774" y="868"/>
                </a:moveTo>
                <a:cubicBezTo>
                  <a:pt x="12842" y="842"/>
                  <a:pt x="12926" y="809"/>
                  <a:pt x="12998" y="794"/>
                </a:cubicBezTo>
                <a:cubicBezTo>
                  <a:pt x="13066" y="780"/>
                  <a:pt x="13124" y="769"/>
                  <a:pt x="13196" y="769"/>
                </a:cubicBezTo>
                <a:cubicBezTo>
                  <a:pt x="13213" y="769"/>
                  <a:pt x="13229" y="769"/>
                  <a:pt x="13246" y="769"/>
                </a:cubicBezTo>
                <a:cubicBezTo>
                  <a:pt x="13236" y="861"/>
                  <a:pt x="13223" y="953"/>
                  <a:pt x="13196" y="1042"/>
                </a:cubicBezTo>
                <a:cubicBezTo>
                  <a:pt x="13168" y="1137"/>
                  <a:pt x="13146" y="1216"/>
                  <a:pt x="13146" y="1315"/>
                </a:cubicBezTo>
                <a:cubicBezTo>
                  <a:pt x="13146" y="1356"/>
                  <a:pt x="13146" y="1364"/>
                  <a:pt x="13146" y="1389"/>
                </a:cubicBezTo>
              </a:path>
              <a:path w="4094" h="1836">
                <a:moveTo>
                  <a:pt x="13469" y="843"/>
                </a:moveTo>
                <a:cubicBezTo>
                  <a:pt x="13573" y="791"/>
                  <a:pt x="13619" y="796"/>
                  <a:pt x="13717" y="769"/>
                </a:cubicBezTo>
                <a:cubicBezTo>
                  <a:pt x="13776" y="753"/>
                  <a:pt x="13802" y="744"/>
                  <a:pt x="13866" y="744"/>
                </a:cubicBezTo>
              </a:path>
              <a:path w="4094" h="1836">
                <a:moveTo>
                  <a:pt x="13593" y="918"/>
                </a:moveTo>
                <a:cubicBezTo>
                  <a:pt x="13568" y="986"/>
                  <a:pt x="13464" y="1161"/>
                  <a:pt x="13543" y="1215"/>
                </a:cubicBezTo>
              </a:path>
              <a:path w="4094" h="1836">
                <a:moveTo>
                  <a:pt x="13767" y="769"/>
                </a:moveTo>
                <a:cubicBezTo>
                  <a:pt x="13783" y="886"/>
                  <a:pt x="13798" y="1005"/>
                  <a:pt x="13816" y="1116"/>
                </a:cubicBezTo>
                <a:cubicBezTo>
                  <a:pt x="13824" y="1169"/>
                  <a:pt x="13834" y="1212"/>
                  <a:pt x="13841" y="1265"/>
                </a:cubicBezTo>
              </a:path>
              <a:path w="4094" h="1836">
                <a:moveTo>
                  <a:pt x="13097" y="1538"/>
                </a:moveTo>
                <a:cubicBezTo>
                  <a:pt x="13228" y="1505"/>
                  <a:pt x="13340" y="1507"/>
                  <a:pt x="13469" y="1488"/>
                </a:cubicBezTo>
                <a:cubicBezTo>
                  <a:pt x="13563" y="1474"/>
                  <a:pt x="13681" y="1475"/>
                  <a:pt x="13767" y="1439"/>
                </a:cubicBezTo>
                <a:cubicBezTo>
                  <a:pt x="13783" y="1431"/>
                  <a:pt x="13800" y="1422"/>
                  <a:pt x="13816" y="1414"/>
                </a:cubicBezTo>
              </a:path>
              <a:path w="4094" h="1836">
                <a:moveTo>
                  <a:pt x="13395" y="1612"/>
                </a:moveTo>
                <a:cubicBezTo>
                  <a:pt x="13395" y="1744"/>
                  <a:pt x="13400" y="1820"/>
                  <a:pt x="13419" y="1935"/>
                </a:cubicBezTo>
                <a:cubicBezTo>
                  <a:pt x="13429" y="1999"/>
                  <a:pt x="13425" y="2097"/>
                  <a:pt x="13444" y="2158"/>
                </a:cubicBezTo>
                <a:cubicBezTo>
                  <a:pt x="13452" y="2166"/>
                  <a:pt x="13461" y="2175"/>
                  <a:pt x="13469" y="2183"/>
                </a:cubicBezTo>
              </a:path>
              <a:path w="4094" h="1836">
                <a:moveTo>
                  <a:pt x="13568" y="1811"/>
                </a:moveTo>
                <a:cubicBezTo>
                  <a:pt x="13657" y="1772"/>
                  <a:pt x="13724" y="1729"/>
                  <a:pt x="13816" y="1786"/>
                </a:cubicBezTo>
                <a:cubicBezTo>
                  <a:pt x="13857" y="1811"/>
                  <a:pt x="13850" y="1918"/>
                  <a:pt x="13841" y="1960"/>
                </a:cubicBezTo>
                <a:cubicBezTo>
                  <a:pt x="13833" y="1994"/>
                  <a:pt x="13740" y="2109"/>
                  <a:pt x="13742" y="2133"/>
                </a:cubicBezTo>
                <a:cubicBezTo>
                  <a:pt x="13749" y="2235"/>
                  <a:pt x="13874" y="2164"/>
                  <a:pt x="13915" y="2133"/>
                </a:cubicBezTo>
                <a:cubicBezTo>
                  <a:pt x="14003" y="2065"/>
                  <a:pt x="14073" y="2000"/>
                  <a:pt x="14139" y="1910"/>
                </a:cubicBezTo>
              </a:path>
              <a:path w="4094" h="1836">
                <a:moveTo>
                  <a:pt x="14163" y="422"/>
                </a:moveTo>
                <a:cubicBezTo>
                  <a:pt x="14239" y="496"/>
                  <a:pt x="14274" y="590"/>
                  <a:pt x="14337" y="670"/>
                </a:cubicBezTo>
                <a:cubicBezTo>
                  <a:pt x="14429" y="788"/>
                  <a:pt x="14488" y="897"/>
                  <a:pt x="14536" y="1042"/>
                </a:cubicBezTo>
                <a:cubicBezTo>
                  <a:pt x="14580" y="1175"/>
                  <a:pt x="14606" y="1324"/>
                  <a:pt x="14610" y="1463"/>
                </a:cubicBezTo>
                <a:cubicBezTo>
                  <a:pt x="14613" y="1570"/>
                  <a:pt x="14626" y="1717"/>
                  <a:pt x="14560" y="1811"/>
                </a:cubicBezTo>
                <a:cubicBezTo>
                  <a:pt x="14463" y="1949"/>
                  <a:pt x="14286" y="2076"/>
                  <a:pt x="14163" y="21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3"/>
          <p:cNvSpPr/>
          <p:nvPr/>
        </p:nvSpPr>
        <p:spPr>
          <a:xfrm>
            <a:off x="4581360" y="1366920"/>
            <a:ext cx="24156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13146" y="3944"/>
                </a:moveTo>
                <a:cubicBezTo>
                  <a:pt x="13146" y="3863"/>
                  <a:pt x="13152" y="3857"/>
                  <a:pt x="13097" y="3820"/>
                </a:cubicBezTo>
                <a:cubicBezTo>
                  <a:pt x="13056" y="3793"/>
                  <a:pt x="13002" y="3780"/>
                  <a:pt x="12948" y="3795"/>
                </a:cubicBezTo>
                <a:cubicBezTo>
                  <a:pt x="12890" y="3811"/>
                  <a:pt x="12820" y="3833"/>
                  <a:pt x="12774" y="3870"/>
                </a:cubicBezTo>
                <a:cubicBezTo>
                  <a:pt x="12726" y="3909"/>
                  <a:pt x="12745" y="3983"/>
                  <a:pt x="12750" y="4018"/>
                </a:cubicBezTo>
                <a:cubicBezTo>
                  <a:pt x="12757" y="4073"/>
                  <a:pt x="12771" y="4137"/>
                  <a:pt x="12849" y="4118"/>
                </a:cubicBezTo>
                <a:cubicBezTo>
                  <a:pt x="12909" y="4104"/>
                  <a:pt x="12949" y="4032"/>
                  <a:pt x="12998" y="4018"/>
                </a:cubicBezTo>
                <a:cubicBezTo>
                  <a:pt x="13078" y="3995"/>
                  <a:pt x="13086" y="3958"/>
                  <a:pt x="13097" y="3870"/>
                </a:cubicBezTo>
                <a:cubicBezTo>
                  <a:pt x="13066" y="3921"/>
                  <a:pt x="13056" y="3967"/>
                  <a:pt x="13097" y="4018"/>
                </a:cubicBezTo>
                <a:cubicBezTo>
                  <a:pt x="13143" y="4074"/>
                  <a:pt x="13277" y="4043"/>
                  <a:pt x="13345" y="4043"/>
                </a:cubicBezTo>
                <a:cubicBezTo>
                  <a:pt x="13387" y="4043"/>
                  <a:pt x="13412" y="4043"/>
                  <a:pt x="13370" y="40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.  Cos(</a:t>
            </a:r>
            <a:r>
              <a:rPr b="0" lang="en-US" sz="4400" spc="-1" strike="noStrike" baseline="30000">
                <a:solidFill>
                  <a:srgbClr val="dfd293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</a:t>
            </a:r>
            <a:r>
              <a:rPr b="0" lang="en-US" sz="4400" spc="-1" strike="noStrike" baseline="30000">
                <a:solidFill>
                  <a:srgbClr val="dfd293"/>
                </a:solidFill>
                <a:latin typeface="Symbol"/>
                <a:ea typeface="Symbol"/>
              </a:rPr>
              <a:t>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/</a:t>
            </a:r>
            <a:r>
              <a:rPr b="0" lang="en-US" sz="4400" spc="-1" strike="noStrike" baseline="-25000">
                <a:solidFill>
                  <a:srgbClr val="dfd293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Ink 5"/>
          <p:cNvSpPr/>
          <p:nvPr/>
        </p:nvSpPr>
        <p:spPr>
          <a:xfrm>
            <a:off x="4680000" y="3222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3320" y="1067"/>
                </a:moveTo>
                <a:cubicBezTo>
                  <a:pt x="13320" y="1019"/>
                  <a:pt x="13334" y="916"/>
                  <a:pt x="13271" y="893"/>
                </a:cubicBezTo>
                <a:cubicBezTo>
                  <a:pt x="13225" y="877"/>
                  <a:pt x="13112" y="913"/>
                  <a:pt x="13097" y="967"/>
                </a:cubicBezTo>
                <a:cubicBezTo>
                  <a:pt x="13079" y="1030"/>
                  <a:pt x="13057" y="1056"/>
                  <a:pt x="13022" y="1116"/>
                </a:cubicBezTo>
                <a:cubicBezTo>
                  <a:pt x="12984" y="1180"/>
                  <a:pt x="12981" y="1320"/>
                  <a:pt x="12998" y="1389"/>
                </a:cubicBezTo>
                <a:cubicBezTo>
                  <a:pt x="13016" y="1462"/>
                  <a:pt x="13104" y="1438"/>
                  <a:pt x="13146" y="1414"/>
                </a:cubicBezTo>
                <a:cubicBezTo>
                  <a:pt x="13195" y="1386"/>
                  <a:pt x="13280" y="1325"/>
                  <a:pt x="13295" y="1265"/>
                </a:cubicBezTo>
                <a:cubicBezTo>
                  <a:pt x="13309" y="1213"/>
                  <a:pt x="13318" y="1131"/>
                  <a:pt x="13295" y="1091"/>
                </a:cubicBezTo>
                <a:cubicBezTo>
                  <a:pt x="13287" y="1083"/>
                  <a:pt x="13279" y="1075"/>
                  <a:pt x="13271" y="1067"/>
                </a:cubicBezTo>
                <a:cubicBezTo>
                  <a:pt x="13280" y="1129"/>
                  <a:pt x="13293" y="1185"/>
                  <a:pt x="13320" y="1240"/>
                </a:cubicBezTo>
                <a:cubicBezTo>
                  <a:pt x="13350" y="1299"/>
                  <a:pt x="13398" y="1318"/>
                  <a:pt x="13444" y="1364"/>
                </a:cubicBezTo>
                <a:cubicBezTo>
                  <a:pt x="13486" y="1406"/>
                  <a:pt x="13512" y="1407"/>
                  <a:pt x="13568" y="14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6"/>
          <p:cNvSpPr/>
          <p:nvPr/>
        </p:nvSpPr>
        <p:spPr>
          <a:xfrm>
            <a:off x="6010200" y="330120"/>
            <a:ext cx="15084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6694" y="918"/>
                </a:moveTo>
                <a:cubicBezTo>
                  <a:pt x="16701" y="1062"/>
                  <a:pt x="16737" y="1197"/>
                  <a:pt x="16743" y="1339"/>
                </a:cubicBezTo>
                <a:cubicBezTo>
                  <a:pt x="16745" y="1375"/>
                  <a:pt x="16743" y="1637"/>
                  <a:pt x="16743" y="1513"/>
                </a:cubicBezTo>
                <a:cubicBezTo>
                  <a:pt x="16743" y="1439"/>
                  <a:pt x="16770" y="1358"/>
                  <a:pt x="16793" y="1290"/>
                </a:cubicBezTo>
                <a:cubicBezTo>
                  <a:pt x="16806" y="1251"/>
                  <a:pt x="16857" y="1102"/>
                  <a:pt x="16892" y="1091"/>
                </a:cubicBezTo>
                <a:cubicBezTo>
                  <a:pt x="16936" y="1077"/>
                  <a:pt x="17049" y="1080"/>
                  <a:pt x="17066" y="1141"/>
                </a:cubicBezTo>
                <a:cubicBezTo>
                  <a:pt x="17078" y="1184"/>
                  <a:pt x="17125" y="1272"/>
                  <a:pt x="17115" y="1315"/>
                </a:cubicBezTo>
                <a:cubicBezTo>
                  <a:pt x="17100" y="1377"/>
                  <a:pt x="17086" y="1418"/>
                  <a:pt x="17041" y="1463"/>
                </a:cubicBezTo>
                <a:cubicBezTo>
                  <a:pt x="16976" y="1527"/>
                  <a:pt x="16877" y="1513"/>
                  <a:pt x="16793" y="1513"/>
                </a:cubicBezTo>
                <a:cubicBezTo>
                  <a:pt x="16719" y="1513"/>
                  <a:pt x="16707" y="1540"/>
                  <a:pt x="16694" y="15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7"/>
          <p:cNvSpPr/>
          <p:nvPr/>
        </p:nvSpPr>
        <p:spPr>
          <a:xfrm>
            <a:off x="1571760" y="1554120"/>
            <a:ext cx="536400" cy="295200"/>
          </a:xfrm>
          <a:custGeom>
            <a:avLst/>
            <a:gdLst/>
            <a:ahLst/>
            <a:rect l="l" t="t" r="r" b="b"/>
            <a:pathLst>
              <a:path w="1489" h="820">
                <a:moveTo>
                  <a:pt x="4787" y="4415"/>
                </a:moveTo>
                <a:cubicBezTo>
                  <a:pt x="4787" y="4432"/>
                  <a:pt x="4787" y="4448"/>
                  <a:pt x="4787" y="4465"/>
                </a:cubicBezTo>
                <a:cubicBezTo>
                  <a:pt x="4775" y="4378"/>
                  <a:pt x="4769" y="4377"/>
                  <a:pt x="4713" y="4341"/>
                </a:cubicBezTo>
                <a:cubicBezTo>
                  <a:pt x="4649" y="4300"/>
                  <a:pt x="4601" y="4316"/>
                  <a:pt x="4539" y="4366"/>
                </a:cubicBezTo>
                <a:cubicBezTo>
                  <a:pt x="4479" y="4414"/>
                  <a:pt x="4478" y="4451"/>
                  <a:pt x="4440" y="4514"/>
                </a:cubicBezTo>
                <a:cubicBezTo>
                  <a:pt x="4405" y="4572"/>
                  <a:pt x="4377" y="4645"/>
                  <a:pt x="4366" y="4713"/>
                </a:cubicBezTo>
                <a:cubicBezTo>
                  <a:pt x="4353" y="4791"/>
                  <a:pt x="4366" y="4865"/>
                  <a:pt x="4390" y="4936"/>
                </a:cubicBezTo>
                <a:cubicBezTo>
                  <a:pt x="4418" y="5018"/>
                  <a:pt x="4444" y="5070"/>
                  <a:pt x="4539" y="5085"/>
                </a:cubicBezTo>
                <a:cubicBezTo>
                  <a:pt x="4613" y="5097"/>
                  <a:pt x="4651" y="5066"/>
                  <a:pt x="4713" y="5035"/>
                </a:cubicBezTo>
              </a:path>
              <a:path w="1489" h="820">
                <a:moveTo>
                  <a:pt x="4986" y="4465"/>
                </a:moveTo>
                <a:cubicBezTo>
                  <a:pt x="4926" y="4539"/>
                  <a:pt x="4941" y="4596"/>
                  <a:pt x="4911" y="4688"/>
                </a:cubicBezTo>
                <a:cubicBezTo>
                  <a:pt x="4883" y="4773"/>
                  <a:pt x="4906" y="4801"/>
                  <a:pt x="4911" y="4887"/>
                </a:cubicBezTo>
                <a:cubicBezTo>
                  <a:pt x="4915" y="4956"/>
                  <a:pt x="4939" y="5008"/>
                  <a:pt x="4986" y="5060"/>
                </a:cubicBezTo>
                <a:cubicBezTo>
                  <a:pt x="5016" y="5093"/>
                  <a:pt x="5116" y="5102"/>
                  <a:pt x="5159" y="5085"/>
                </a:cubicBezTo>
                <a:cubicBezTo>
                  <a:pt x="5196" y="5071"/>
                  <a:pt x="5317" y="4970"/>
                  <a:pt x="5333" y="4936"/>
                </a:cubicBezTo>
                <a:cubicBezTo>
                  <a:pt x="5361" y="4876"/>
                  <a:pt x="5377" y="4757"/>
                  <a:pt x="5358" y="4688"/>
                </a:cubicBezTo>
                <a:cubicBezTo>
                  <a:pt x="5345" y="4643"/>
                  <a:pt x="5265" y="4590"/>
                  <a:pt x="5234" y="4564"/>
                </a:cubicBezTo>
                <a:cubicBezTo>
                  <a:pt x="5184" y="4522"/>
                  <a:pt x="5109" y="4525"/>
                  <a:pt x="5060" y="4564"/>
                </a:cubicBezTo>
                <a:cubicBezTo>
                  <a:pt x="5037" y="4587"/>
                  <a:pt x="5029" y="4591"/>
                  <a:pt x="5035" y="4614"/>
                </a:cubicBezTo>
              </a:path>
              <a:path w="1489" h="820">
                <a:moveTo>
                  <a:pt x="5779" y="4490"/>
                </a:moveTo>
                <a:cubicBezTo>
                  <a:pt x="5731" y="4465"/>
                  <a:pt x="5671" y="4508"/>
                  <a:pt x="5606" y="4539"/>
                </a:cubicBezTo>
                <a:cubicBezTo>
                  <a:pt x="5553" y="4564"/>
                  <a:pt x="5523" y="4598"/>
                  <a:pt x="5482" y="4638"/>
                </a:cubicBezTo>
                <a:cubicBezTo>
                  <a:pt x="5551" y="4707"/>
                  <a:pt x="5592" y="4724"/>
                  <a:pt x="5680" y="4762"/>
                </a:cubicBezTo>
                <a:cubicBezTo>
                  <a:pt x="5703" y="4772"/>
                  <a:pt x="5819" y="4842"/>
                  <a:pt x="5829" y="4862"/>
                </a:cubicBezTo>
                <a:cubicBezTo>
                  <a:pt x="5855" y="4913"/>
                  <a:pt x="5864" y="4987"/>
                  <a:pt x="5829" y="5035"/>
                </a:cubicBezTo>
                <a:cubicBezTo>
                  <a:pt x="5791" y="5087"/>
                  <a:pt x="5715" y="5122"/>
                  <a:pt x="5655" y="5135"/>
                </a:cubicBezTo>
                <a:cubicBezTo>
                  <a:pt x="5585" y="5150"/>
                  <a:pt x="5552" y="5131"/>
                  <a:pt x="550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8"/>
          <p:cNvSpPr/>
          <p:nvPr/>
        </p:nvSpPr>
        <p:spPr>
          <a:xfrm>
            <a:off x="2251080" y="1357200"/>
            <a:ext cx="884160" cy="563760"/>
          </a:xfrm>
          <a:custGeom>
            <a:avLst/>
            <a:gdLst/>
            <a:ahLst/>
            <a:rect l="l" t="t" r="r" b="b"/>
            <a:pathLst>
              <a:path w="2456" h="1564">
                <a:moveTo>
                  <a:pt x="6300" y="3820"/>
                </a:moveTo>
                <a:cubicBezTo>
                  <a:pt x="6398" y="3820"/>
                  <a:pt x="6477" y="3821"/>
                  <a:pt x="6573" y="3795"/>
                </a:cubicBezTo>
                <a:cubicBezTo>
                  <a:pt x="6598" y="3787"/>
                  <a:pt x="6623" y="3778"/>
                  <a:pt x="6648" y="3770"/>
                </a:cubicBezTo>
              </a:path>
              <a:path w="2456" h="1564">
                <a:moveTo>
                  <a:pt x="6325" y="3845"/>
                </a:moveTo>
                <a:cubicBezTo>
                  <a:pt x="6317" y="3901"/>
                  <a:pt x="6286" y="3944"/>
                  <a:pt x="6276" y="3994"/>
                </a:cubicBezTo>
                <a:cubicBezTo>
                  <a:pt x="6276" y="4038"/>
                  <a:pt x="6279" y="4052"/>
                  <a:pt x="6251" y="4068"/>
                </a:cubicBezTo>
                <a:cubicBezTo>
                  <a:pt x="6318" y="4058"/>
                  <a:pt x="6371" y="3988"/>
                  <a:pt x="6449" y="4018"/>
                </a:cubicBezTo>
                <a:cubicBezTo>
                  <a:pt x="6501" y="4038"/>
                  <a:pt x="6533" y="4148"/>
                  <a:pt x="6524" y="4192"/>
                </a:cubicBezTo>
                <a:cubicBezTo>
                  <a:pt x="6509" y="4268"/>
                  <a:pt x="6407" y="4359"/>
                  <a:pt x="6325" y="4341"/>
                </a:cubicBezTo>
                <a:cubicBezTo>
                  <a:pt x="6285" y="4321"/>
                  <a:pt x="6269" y="4322"/>
                  <a:pt x="6276" y="4291"/>
                </a:cubicBezTo>
              </a:path>
              <a:path w="2456" h="1564">
                <a:moveTo>
                  <a:pt x="6747" y="3894"/>
                </a:moveTo>
                <a:cubicBezTo>
                  <a:pt x="6846" y="3888"/>
                  <a:pt x="6923" y="3870"/>
                  <a:pt x="7020" y="3870"/>
                </a:cubicBezTo>
                <a:cubicBezTo>
                  <a:pt x="7081" y="3870"/>
                  <a:pt x="7097" y="3879"/>
                  <a:pt x="7119" y="3845"/>
                </a:cubicBezTo>
              </a:path>
              <a:path w="2456" h="1564">
                <a:moveTo>
                  <a:pt x="6945" y="3894"/>
                </a:moveTo>
                <a:cubicBezTo>
                  <a:pt x="6927" y="3985"/>
                  <a:pt x="6911" y="4080"/>
                  <a:pt x="6896" y="4167"/>
                </a:cubicBezTo>
                <a:cubicBezTo>
                  <a:pt x="6886" y="4225"/>
                  <a:pt x="6901" y="4231"/>
                  <a:pt x="6945" y="4242"/>
                </a:cubicBezTo>
              </a:path>
              <a:path w="2456" h="1564">
                <a:moveTo>
                  <a:pt x="7069" y="3919"/>
                </a:moveTo>
                <a:cubicBezTo>
                  <a:pt x="7069" y="3977"/>
                  <a:pt x="7106" y="4044"/>
                  <a:pt x="7094" y="4093"/>
                </a:cubicBezTo>
                <a:cubicBezTo>
                  <a:pt x="7076" y="4169"/>
                  <a:pt x="7105" y="4205"/>
                  <a:pt x="7119" y="4291"/>
                </a:cubicBezTo>
                <a:cubicBezTo>
                  <a:pt x="7119" y="4308"/>
                  <a:pt x="7119" y="4324"/>
                  <a:pt x="7119" y="4341"/>
                </a:cubicBezTo>
              </a:path>
              <a:path w="2456" h="1564">
                <a:moveTo>
                  <a:pt x="6325" y="4490"/>
                </a:moveTo>
                <a:cubicBezTo>
                  <a:pt x="6432" y="4490"/>
                  <a:pt x="6519" y="4476"/>
                  <a:pt x="6623" y="4465"/>
                </a:cubicBezTo>
                <a:cubicBezTo>
                  <a:pt x="6711" y="4456"/>
                  <a:pt x="6780" y="4440"/>
                  <a:pt x="6871" y="4440"/>
                </a:cubicBezTo>
                <a:cubicBezTo>
                  <a:pt x="6947" y="4440"/>
                  <a:pt x="6973" y="4439"/>
                  <a:pt x="7020" y="4415"/>
                </a:cubicBezTo>
              </a:path>
              <a:path w="2456" h="1564">
                <a:moveTo>
                  <a:pt x="6672" y="4638"/>
                </a:moveTo>
                <a:cubicBezTo>
                  <a:pt x="6616" y="4703"/>
                  <a:pt x="6578" y="4749"/>
                  <a:pt x="6573" y="4837"/>
                </a:cubicBezTo>
                <a:cubicBezTo>
                  <a:pt x="6569" y="4906"/>
                  <a:pt x="6623" y="4952"/>
                  <a:pt x="6697" y="4936"/>
                </a:cubicBezTo>
                <a:cubicBezTo>
                  <a:pt x="6741" y="4926"/>
                  <a:pt x="6785" y="4908"/>
                  <a:pt x="6821" y="4887"/>
                </a:cubicBezTo>
              </a:path>
              <a:path w="2456" h="1564">
                <a:moveTo>
                  <a:pt x="6796" y="4638"/>
                </a:moveTo>
                <a:cubicBezTo>
                  <a:pt x="6787" y="4731"/>
                  <a:pt x="6772" y="4817"/>
                  <a:pt x="6772" y="4911"/>
                </a:cubicBezTo>
                <a:cubicBezTo>
                  <a:pt x="6772" y="5005"/>
                  <a:pt x="6758" y="5074"/>
                  <a:pt x="6747" y="5159"/>
                </a:cubicBezTo>
                <a:cubicBezTo>
                  <a:pt x="6746" y="5167"/>
                  <a:pt x="6747" y="5378"/>
                  <a:pt x="6747" y="5308"/>
                </a:cubicBezTo>
              </a:path>
              <a:path w="2456" h="1564">
                <a:moveTo>
                  <a:pt x="7789" y="4564"/>
                </a:moveTo>
                <a:cubicBezTo>
                  <a:pt x="7767" y="4520"/>
                  <a:pt x="7764" y="4509"/>
                  <a:pt x="7739" y="4490"/>
                </a:cubicBezTo>
                <a:cubicBezTo>
                  <a:pt x="7668" y="4529"/>
                  <a:pt x="7662" y="4552"/>
                  <a:pt x="7615" y="4614"/>
                </a:cubicBezTo>
                <a:cubicBezTo>
                  <a:pt x="7581" y="4658"/>
                  <a:pt x="7506" y="4707"/>
                  <a:pt x="7491" y="4762"/>
                </a:cubicBezTo>
                <a:cubicBezTo>
                  <a:pt x="7466" y="4853"/>
                  <a:pt x="7476" y="4933"/>
                  <a:pt x="7491" y="5011"/>
                </a:cubicBezTo>
                <a:cubicBezTo>
                  <a:pt x="7512" y="5122"/>
                  <a:pt x="7574" y="5077"/>
                  <a:pt x="7665" y="5060"/>
                </a:cubicBezTo>
                <a:cubicBezTo>
                  <a:pt x="7673" y="5060"/>
                  <a:pt x="7681" y="5060"/>
                  <a:pt x="7689" y="5060"/>
                </a:cubicBezTo>
              </a:path>
              <a:path w="2456" h="1564">
                <a:moveTo>
                  <a:pt x="8012" y="4663"/>
                </a:moveTo>
                <a:cubicBezTo>
                  <a:pt x="7978" y="4742"/>
                  <a:pt x="7942" y="4806"/>
                  <a:pt x="7938" y="4887"/>
                </a:cubicBezTo>
                <a:cubicBezTo>
                  <a:pt x="7934" y="4977"/>
                  <a:pt x="7946" y="5030"/>
                  <a:pt x="8037" y="5035"/>
                </a:cubicBezTo>
                <a:cubicBezTo>
                  <a:pt x="8096" y="5038"/>
                  <a:pt x="8153" y="4978"/>
                  <a:pt x="8186" y="4936"/>
                </a:cubicBezTo>
                <a:cubicBezTo>
                  <a:pt x="8232" y="4879"/>
                  <a:pt x="8216" y="4782"/>
                  <a:pt x="8210" y="4738"/>
                </a:cubicBezTo>
                <a:cubicBezTo>
                  <a:pt x="8203" y="4682"/>
                  <a:pt x="8189" y="4648"/>
                  <a:pt x="8136" y="4614"/>
                </a:cubicBezTo>
                <a:cubicBezTo>
                  <a:pt x="8090" y="4585"/>
                  <a:pt x="8062" y="4589"/>
                  <a:pt x="8012" y="4589"/>
                </a:cubicBezTo>
              </a:path>
              <a:path w="2456" h="1564">
                <a:moveTo>
                  <a:pt x="8657" y="4490"/>
                </a:moveTo>
                <a:cubicBezTo>
                  <a:pt x="8600" y="4498"/>
                  <a:pt x="8536" y="4532"/>
                  <a:pt x="8483" y="4564"/>
                </a:cubicBezTo>
                <a:cubicBezTo>
                  <a:pt x="8453" y="4582"/>
                  <a:pt x="8380" y="4613"/>
                  <a:pt x="8384" y="4663"/>
                </a:cubicBezTo>
                <a:cubicBezTo>
                  <a:pt x="8388" y="4715"/>
                  <a:pt x="8509" y="4748"/>
                  <a:pt x="8533" y="4762"/>
                </a:cubicBezTo>
                <a:cubicBezTo>
                  <a:pt x="8591" y="4796"/>
                  <a:pt x="8613" y="4839"/>
                  <a:pt x="8657" y="4887"/>
                </a:cubicBezTo>
                <a:cubicBezTo>
                  <a:pt x="8721" y="4957"/>
                  <a:pt x="8701" y="4954"/>
                  <a:pt x="8632" y="5011"/>
                </a:cubicBezTo>
                <a:cubicBezTo>
                  <a:pt x="8557" y="5073"/>
                  <a:pt x="8477" y="5060"/>
                  <a:pt x="8384" y="5060"/>
                </a:cubicBezTo>
                <a:cubicBezTo>
                  <a:pt x="8304" y="5060"/>
                  <a:pt x="8266" y="5079"/>
                  <a:pt x="8334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9"/>
          <p:cNvSpPr/>
          <p:nvPr/>
        </p:nvSpPr>
        <p:spPr>
          <a:xfrm>
            <a:off x="3276720" y="1384200"/>
            <a:ext cx="215640" cy="561960"/>
          </a:xfrm>
          <a:custGeom>
            <a:avLst/>
            <a:gdLst/>
            <a:ahLst/>
            <a:rect l="l" t="t" r="r" b="b"/>
            <a:pathLst>
              <a:path w="597" h="1563">
                <a:moveTo>
                  <a:pt x="9128" y="3944"/>
                </a:moveTo>
                <a:cubicBezTo>
                  <a:pt x="9264" y="3920"/>
                  <a:pt x="9391" y="3887"/>
                  <a:pt x="9525" y="3870"/>
                </a:cubicBezTo>
                <a:cubicBezTo>
                  <a:pt x="9591" y="3862"/>
                  <a:pt x="9636" y="3866"/>
                  <a:pt x="9699" y="3845"/>
                </a:cubicBezTo>
              </a:path>
              <a:path w="597" h="1563">
                <a:moveTo>
                  <a:pt x="9351" y="3994"/>
                </a:moveTo>
                <a:cubicBezTo>
                  <a:pt x="9351" y="4116"/>
                  <a:pt x="9343" y="4223"/>
                  <a:pt x="9327" y="4341"/>
                </a:cubicBezTo>
                <a:cubicBezTo>
                  <a:pt x="9327" y="4357"/>
                  <a:pt x="9327" y="4374"/>
                  <a:pt x="9327" y="4390"/>
                </a:cubicBezTo>
              </a:path>
              <a:path w="597" h="1563">
                <a:moveTo>
                  <a:pt x="9475" y="4018"/>
                </a:moveTo>
                <a:cubicBezTo>
                  <a:pt x="9470" y="4117"/>
                  <a:pt x="9433" y="4256"/>
                  <a:pt x="9475" y="4341"/>
                </a:cubicBezTo>
                <a:cubicBezTo>
                  <a:pt x="9499" y="4389"/>
                  <a:pt x="9508" y="4403"/>
                  <a:pt x="9500" y="4440"/>
                </a:cubicBezTo>
              </a:path>
              <a:path w="597" h="1563">
                <a:moveTo>
                  <a:pt x="9103" y="4539"/>
                </a:moveTo>
                <a:cubicBezTo>
                  <a:pt x="9180" y="4530"/>
                  <a:pt x="9248" y="4514"/>
                  <a:pt x="9327" y="4514"/>
                </a:cubicBezTo>
                <a:cubicBezTo>
                  <a:pt x="9420" y="4514"/>
                  <a:pt x="9504" y="4490"/>
                  <a:pt x="9599" y="4490"/>
                </a:cubicBezTo>
                <a:cubicBezTo>
                  <a:pt x="9641" y="4490"/>
                  <a:pt x="9649" y="4490"/>
                  <a:pt x="9674" y="4490"/>
                </a:cubicBezTo>
              </a:path>
              <a:path w="597" h="1563">
                <a:moveTo>
                  <a:pt x="9426" y="4638"/>
                </a:moveTo>
                <a:cubicBezTo>
                  <a:pt x="9392" y="4752"/>
                  <a:pt x="9357" y="4846"/>
                  <a:pt x="9351" y="4961"/>
                </a:cubicBezTo>
                <a:cubicBezTo>
                  <a:pt x="9347" y="5039"/>
                  <a:pt x="9327" y="5101"/>
                  <a:pt x="9327" y="5184"/>
                </a:cubicBezTo>
                <a:cubicBezTo>
                  <a:pt x="9327" y="5247"/>
                  <a:pt x="9316" y="5295"/>
                  <a:pt x="9376" y="5333"/>
                </a:cubicBezTo>
                <a:cubicBezTo>
                  <a:pt x="9451" y="5382"/>
                  <a:pt x="9497" y="5335"/>
                  <a:pt x="9550" y="5283"/>
                </a:cubicBezTo>
                <a:cubicBezTo>
                  <a:pt x="9594" y="5240"/>
                  <a:pt x="9621" y="5193"/>
                  <a:pt x="9624" y="5135"/>
                </a:cubicBezTo>
                <a:cubicBezTo>
                  <a:pt x="9624" y="5083"/>
                  <a:pt x="9623" y="5066"/>
                  <a:pt x="9575" y="5060"/>
                </a:cubicBezTo>
                <a:cubicBezTo>
                  <a:pt x="9507" y="5128"/>
                  <a:pt x="9529" y="5177"/>
                  <a:pt x="9500" y="5259"/>
                </a:cubicBezTo>
                <a:cubicBezTo>
                  <a:pt x="9474" y="5333"/>
                  <a:pt x="9481" y="5332"/>
                  <a:pt x="952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0"/>
          <p:cNvSpPr/>
          <p:nvPr/>
        </p:nvSpPr>
        <p:spPr>
          <a:xfrm>
            <a:off x="3687840" y="1500120"/>
            <a:ext cx="17928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0616" y="4167"/>
                </a:moveTo>
                <a:cubicBezTo>
                  <a:pt x="10593" y="4214"/>
                  <a:pt x="10573" y="4309"/>
                  <a:pt x="10567" y="4366"/>
                </a:cubicBezTo>
                <a:cubicBezTo>
                  <a:pt x="10558" y="4448"/>
                  <a:pt x="10560" y="4534"/>
                  <a:pt x="10542" y="4614"/>
                </a:cubicBezTo>
                <a:cubicBezTo>
                  <a:pt x="10525" y="4691"/>
                  <a:pt x="10495" y="4760"/>
                  <a:pt x="10492" y="4837"/>
                </a:cubicBezTo>
                <a:cubicBezTo>
                  <a:pt x="10490" y="4874"/>
                  <a:pt x="10490" y="4998"/>
                  <a:pt x="10468" y="4887"/>
                </a:cubicBezTo>
              </a:path>
              <a:path w="497" h="770">
                <a:moveTo>
                  <a:pt x="10244" y="4514"/>
                </a:moveTo>
                <a:cubicBezTo>
                  <a:pt x="10340" y="4514"/>
                  <a:pt x="10425" y="4500"/>
                  <a:pt x="10517" y="4490"/>
                </a:cubicBezTo>
                <a:cubicBezTo>
                  <a:pt x="10588" y="4482"/>
                  <a:pt x="10708" y="4514"/>
                  <a:pt x="10740" y="44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1"/>
          <p:cNvSpPr/>
          <p:nvPr/>
        </p:nvSpPr>
        <p:spPr>
          <a:xfrm>
            <a:off x="4017960" y="1527120"/>
            <a:ext cx="438120" cy="3031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1460" y="4390"/>
                </a:moveTo>
                <a:cubicBezTo>
                  <a:pt x="11383" y="4418"/>
                  <a:pt x="11331" y="4453"/>
                  <a:pt x="11261" y="4490"/>
                </a:cubicBezTo>
                <a:cubicBezTo>
                  <a:pt x="11216" y="4513"/>
                  <a:pt x="11197" y="4529"/>
                  <a:pt x="11162" y="4564"/>
                </a:cubicBezTo>
                <a:cubicBezTo>
                  <a:pt x="11219" y="4621"/>
                  <a:pt x="11242" y="4639"/>
                  <a:pt x="11311" y="4663"/>
                </a:cubicBezTo>
                <a:cubicBezTo>
                  <a:pt x="11371" y="4684"/>
                  <a:pt x="11416" y="4719"/>
                  <a:pt x="11460" y="4762"/>
                </a:cubicBezTo>
                <a:cubicBezTo>
                  <a:pt x="11500" y="4801"/>
                  <a:pt x="11547" y="4877"/>
                  <a:pt x="11534" y="4936"/>
                </a:cubicBezTo>
                <a:cubicBezTo>
                  <a:pt x="11517" y="5011"/>
                  <a:pt x="11431" y="5071"/>
                  <a:pt x="11361" y="5085"/>
                </a:cubicBezTo>
                <a:cubicBezTo>
                  <a:pt x="11298" y="5098"/>
                  <a:pt x="11200" y="5096"/>
                  <a:pt x="11212" y="5011"/>
                </a:cubicBezTo>
                <a:cubicBezTo>
                  <a:pt x="11220" y="4986"/>
                  <a:pt x="11229" y="4961"/>
                  <a:pt x="11237" y="4936"/>
                </a:cubicBezTo>
              </a:path>
              <a:path w="1217" h="844">
                <a:moveTo>
                  <a:pt x="11757" y="4564"/>
                </a:moveTo>
                <a:cubicBezTo>
                  <a:pt x="11757" y="4676"/>
                  <a:pt x="11739" y="4779"/>
                  <a:pt x="11733" y="4887"/>
                </a:cubicBezTo>
                <a:cubicBezTo>
                  <a:pt x="11731" y="4919"/>
                  <a:pt x="11742" y="5141"/>
                  <a:pt x="11733" y="5011"/>
                </a:cubicBezTo>
                <a:cubicBezTo>
                  <a:pt x="11733" y="4994"/>
                  <a:pt x="11733" y="4978"/>
                  <a:pt x="11733" y="4961"/>
                </a:cubicBezTo>
              </a:path>
              <a:path w="1217" h="844">
                <a:moveTo>
                  <a:pt x="11832" y="4316"/>
                </a:moveTo>
                <a:cubicBezTo>
                  <a:pt x="11832" y="4271"/>
                  <a:pt x="11828" y="4258"/>
                  <a:pt x="11857" y="4242"/>
                </a:cubicBezTo>
              </a:path>
              <a:path w="1217" h="844">
                <a:moveTo>
                  <a:pt x="11931" y="4713"/>
                </a:moveTo>
                <a:cubicBezTo>
                  <a:pt x="11931" y="4804"/>
                  <a:pt x="11931" y="4895"/>
                  <a:pt x="11931" y="4986"/>
                </a:cubicBezTo>
                <a:cubicBezTo>
                  <a:pt x="11958" y="4914"/>
                  <a:pt x="11959" y="4835"/>
                  <a:pt x="11981" y="4762"/>
                </a:cubicBezTo>
                <a:cubicBezTo>
                  <a:pt x="12009" y="4672"/>
                  <a:pt x="12027" y="4655"/>
                  <a:pt x="12080" y="4589"/>
                </a:cubicBezTo>
                <a:cubicBezTo>
                  <a:pt x="12122" y="4537"/>
                  <a:pt x="12170" y="4472"/>
                  <a:pt x="12254" y="4490"/>
                </a:cubicBezTo>
                <a:cubicBezTo>
                  <a:pt x="12340" y="4509"/>
                  <a:pt x="12349" y="4590"/>
                  <a:pt x="12353" y="4663"/>
                </a:cubicBezTo>
                <a:cubicBezTo>
                  <a:pt x="12361" y="4807"/>
                  <a:pt x="12304" y="5209"/>
                  <a:pt x="12378" y="5085"/>
                </a:cubicBezTo>
                <a:cubicBezTo>
                  <a:pt x="12378" y="5068"/>
                  <a:pt x="12378" y="5052"/>
                  <a:pt x="12378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12"/>
          <p:cNvSpPr/>
          <p:nvPr/>
        </p:nvSpPr>
        <p:spPr>
          <a:xfrm>
            <a:off x="4616280" y="1303200"/>
            <a:ext cx="411480" cy="608040"/>
          </a:xfrm>
          <a:custGeom>
            <a:avLst/>
            <a:gdLst/>
            <a:ahLst/>
            <a:rect l="l" t="t" r="r" b="b"/>
            <a:pathLst>
              <a:path w="1142" h="1688">
                <a:moveTo>
                  <a:pt x="12948" y="3671"/>
                </a:moveTo>
                <a:cubicBezTo>
                  <a:pt x="13057" y="3671"/>
                  <a:pt x="13142" y="3652"/>
                  <a:pt x="13246" y="3646"/>
                </a:cubicBezTo>
                <a:cubicBezTo>
                  <a:pt x="13297" y="3646"/>
                  <a:pt x="13316" y="3645"/>
                  <a:pt x="13345" y="3621"/>
                </a:cubicBezTo>
              </a:path>
              <a:path w="1142" h="1688">
                <a:moveTo>
                  <a:pt x="12948" y="3696"/>
                </a:moveTo>
                <a:cubicBezTo>
                  <a:pt x="12909" y="3751"/>
                  <a:pt x="12887" y="3804"/>
                  <a:pt x="12824" y="3820"/>
                </a:cubicBezTo>
                <a:cubicBezTo>
                  <a:pt x="12879" y="3853"/>
                  <a:pt x="12930" y="3845"/>
                  <a:pt x="12998" y="3845"/>
                </a:cubicBezTo>
                <a:cubicBezTo>
                  <a:pt x="13067" y="3845"/>
                  <a:pt x="13128" y="3828"/>
                  <a:pt x="13171" y="3894"/>
                </a:cubicBezTo>
                <a:cubicBezTo>
                  <a:pt x="13210" y="3954"/>
                  <a:pt x="13242" y="3996"/>
                  <a:pt x="13246" y="4068"/>
                </a:cubicBezTo>
                <a:cubicBezTo>
                  <a:pt x="13250" y="4133"/>
                  <a:pt x="13214" y="4149"/>
                  <a:pt x="13171" y="4192"/>
                </a:cubicBezTo>
                <a:cubicBezTo>
                  <a:pt x="13121" y="4242"/>
                  <a:pt x="13095" y="4262"/>
                  <a:pt x="13022" y="4266"/>
                </a:cubicBezTo>
                <a:cubicBezTo>
                  <a:pt x="12937" y="4271"/>
                  <a:pt x="12895" y="4237"/>
                  <a:pt x="12923" y="4167"/>
                </a:cubicBezTo>
              </a:path>
              <a:path w="1142" h="1688">
                <a:moveTo>
                  <a:pt x="13469" y="3820"/>
                </a:moveTo>
                <a:cubicBezTo>
                  <a:pt x="13580" y="3803"/>
                  <a:pt x="13683" y="3775"/>
                  <a:pt x="13791" y="3770"/>
                </a:cubicBezTo>
                <a:cubicBezTo>
                  <a:pt x="13853" y="3767"/>
                  <a:pt x="13904" y="3744"/>
                  <a:pt x="13965" y="3721"/>
                </a:cubicBezTo>
              </a:path>
              <a:path w="1142" h="1688">
                <a:moveTo>
                  <a:pt x="13717" y="3820"/>
                </a:moveTo>
                <a:cubicBezTo>
                  <a:pt x="13676" y="3915"/>
                  <a:pt x="13699" y="3983"/>
                  <a:pt x="13667" y="4068"/>
                </a:cubicBezTo>
                <a:cubicBezTo>
                  <a:pt x="13648" y="4120"/>
                  <a:pt x="13620" y="4160"/>
                  <a:pt x="13667" y="4192"/>
                </a:cubicBezTo>
              </a:path>
              <a:path w="1142" h="1688">
                <a:moveTo>
                  <a:pt x="13891" y="3820"/>
                </a:moveTo>
                <a:cubicBezTo>
                  <a:pt x="13891" y="3950"/>
                  <a:pt x="13872" y="4103"/>
                  <a:pt x="13915" y="4217"/>
                </a:cubicBezTo>
                <a:cubicBezTo>
                  <a:pt x="13923" y="4242"/>
                  <a:pt x="13932" y="4266"/>
                  <a:pt x="13940" y="4291"/>
                </a:cubicBezTo>
              </a:path>
              <a:path w="1142" h="1688">
                <a:moveTo>
                  <a:pt x="13047" y="4415"/>
                </a:moveTo>
                <a:cubicBezTo>
                  <a:pt x="13147" y="4401"/>
                  <a:pt x="13196" y="4390"/>
                  <a:pt x="13320" y="4390"/>
                </a:cubicBezTo>
                <a:cubicBezTo>
                  <a:pt x="13402" y="4390"/>
                  <a:pt x="13518" y="4359"/>
                  <a:pt x="13593" y="4366"/>
                </a:cubicBezTo>
                <a:cubicBezTo>
                  <a:pt x="13641" y="4389"/>
                  <a:pt x="13656" y="4397"/>
                  <a:pt x="13692" y="4390"/>
                </a:cubicBezTo>
              </a:path>
              <a:path w="1142" h="1688">
                <a:moveTo>
                  <a:pt x="13345" y="4589"/>
                </a:moveTo>
                <a:cubicBezTo>
                  <a:pt x="13294" y="4704"/>
                  <a:pt x="13249" y="4734"/>
                  <a:pt x="13320" y="4837"/>
                </a:cubicBezTo>
                <a:cubicBezTo>
                  <a:pt x="13365" y="4902"/>
                  <a:pt x="13460" y="4899"/>
                  <a:pt x="13519" y="4862"/>
                </a:cubicBezTo>
                <a:cubicBezTo>
                  <a:pt x="13543" y="4837"/>
                  <a:pt x="13551" y="4828"/>
                  <a:pt x="13568" y="4812"/>
                </a:cubicBezTo>
              </a:path>
              <a:path w="1142" h="1688">
                <a:moveTo>
                  <a:pt x="13543" y="4465"/>
                </a:moveTo>
                <a:cubicBezTo>
                  <a:pt x="13518" y="4535"/>
                  <a:pt x="13519" y="4588"/>
                  <a:pt x="13519" y="4663"/>
                </a:cubicBezTo>
                <a:cubicBezTo>
                  <a:pt x="13519" y="4840"/>
                  <a:pt x="13518" y="5015"/>
                  <a:pt x="13494" y="5184"/>
                </a:cubicBezTo>
                <a:cubicBezTo>
                  <a:pt x="13486" y="5239"/>
                  <a:pt x="13494" y="5266"/>
                  <a:pt x="13519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13"/>
          <p:cNvSpPr/>
          <p:nvPr/>
        </p:nvSpPr>
        <p:spPr>
          <a:xfrm>
            <a:off x="5187960" y="1554120"/>
            <a:ext cx="420840" cy="268200"/>
          </a:xfrm>
          <a:custGeom>
            <a:avLst/>
            <a:gdLst/>
            <a:ahLst/>
            <a:rect l="l" t="t" r="r" b="b"/>
            <a:pathLst>
              <a:path w="1166" h="745">
                <a:moveTo>
                  <a:pt x="14709" y="4366"/>
                </a:moveTo>
                <a:cubicBezTo>
                  <a:pt x="14620" y="4384"/>
                  <a:pt x="14557" y="4387"/>
                  <a:pt x="14486" y="4440"/>
                </a:cubicBezTo>
                <a:cubicBezTo>
                  <a:pt x="14443" y="4473"/>
                  <a:pt x="14395" y="4531"/>
                  <a:pt x="14412" y="4589"/>
                </a:cubicBezTo>
                <a:cubicBezTo>
                  <a:pt x="14422" y="4623"/>
                  <a:pt x="14529" y="4672"/>
                  <a:pt x="14560" y="4688"/>
                </a:cubicBezTo>
                <a:cubicBezTo>
                  <a:pt x="14612" y="4716"/>
                  <a:pt x="14643" y="4745"/>
                  <a:pt x="14684" y="4787"/>
                </a:cubicBezTo>
                <a:cubicBezTo>
                  <a:pt x="14734" y="4838"/>
                  <a:pt x="14751" y="4888"/>
                  <a:pt x="14684" y="4936"/>
                </a:cubicBezTo>
                <a:cubicBezTo>
                  <a:pt x="14627" y="4977"/>
                  <a:pt x="14530" y="5011"/>
                  <a:pt x="14461" y="4986"/>
                </a:cubicBezTo>
                <a:cubicBezTo>
                  <a:pt x="14400" y="4964"/>
                  <a:pt x="14425" y="4926"/>
                  <a:pt x="14436" y="4887"/>
                </a:cubicBezTo>
              </a:path>
              <a:path w="1166" h="745">
                <a:moveTo>
                  <a:pt x="14932" y="4564"/>
                </a:moveTo>
                <a:cubicBezTo>
                  <a:pt x="14924" y="4652"/>
                  <a:pt x="14888" y="4724"/>
                  <a:pt x="14883" y="4812"/>
                </a:cubicBezTo>
                <a:cubicBezTo>
                  <a:pt x="14879" y="4882"/>
                  <a:pt x="14867" y="4922"/>
                  <a:pt x="14858" y="4986"/>
                </a:cubicBezTo>
              </a:path>
              <a:path w="1166" h="745">
                <a:moveTo>
                  <a:pt x="14858" y="4440"/>
                </a:moveTo>
                <a:cubicBezTo>
                  <a:pt x="14899" y="4399"/>
                  <a:pt x="14941" y="4357"/>
                  <a:pt x="14982" y="4316"/>
                </a:cubicBezTo>
              </a:path>
              <a:path w="1166" h="745">
                <a:moveTo>
                  <a:pt x="15131" y="4787"/>
                </a:moveTo>
                <a:cubicBezTo>
                  <a:pt x="15126" y="4889"/>
                  <a:pt x="15117" y="4964"/>
                  <a:pt x="15106" y="5060"/>
                </a:cubicBezTo>
                <a:cubicBezTo>
                  <a:pt x="15113" y="4971"/>
                  <a:pt x="15130" y="4871"/>
                  <a:pt x="15156" y="4787"/>
                </a:cubicBezTo>
                <a:cubicBezTo>
                  <a:pt x="15173" y="4732"/>
                  <a:pt x="15213" y="4648"/>
                  <a:pt x="15255" y="4614"/>
                </a:cubicBezTo>
                <a:cubicBezTo>
                  <a:pt x="15284" y="4590"/>
                  <a:pt x="15371" y="4523"/>
                  <a:pt x="15404" y="4514"/>
                </a:cubicBezTo>
                <a:cubicBezTo>
                  <a:pt x="15521" y="4482"/>
                  <a:pt x="15529" y="4564"/>
                  <a:pt x="15553" y="4638"/>
                </a:cubicBezTo>
                <a:cubicBezTo>
                  <a:pt x="15582" y="4729"/>
                  <a:pt x="15577" y="4813"/>
                  <a:pt x="15577" y="4911"/>
                </a:cubicBezTo>
                <a:cubicBezTo>
                  <a:pt x="15577" y="4977"/>
                  <a:pt x="15577" y="4994"/>
                  <a:pt x="15577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14"/>
          <p:cNvSpPr/>
          <p:nvPr/>
        </p:nvSpPr>
        <p:spPr>
          <a:xfrm>
            <a:off x="5749920" y="1330200"/>
            <a:ext cx="322200" cy="590760"/>
          </a:xfrm>
          <a:custGeom>
            <a:avLst/>
            <a:gdLst/>
            <a:ahLst/>
            <a:rect l="l" t="t" r="r" b="b"/>
            <a:pathLst>
              <a:path w="894" h="1638">
                <a:moveTo>
                  <a:pt x="16049" y="3721"/>
                </a:moveTo>
                <a:cubicBezTo>
                  <a:pt x="16125" y="3713"/>
                  <a:pt x="16168" y="3696"/>
                  <a:pt x="16247" y="3696"/>
                </a:cubicBezTo>
                <a:cubicBezTo>
                  <a:pt x="16371" y="3696"/>
                  <a:pt x="16495" y="3696"/>
                  <a:pt x="16619" y="3696"/>
                </a:cubicBezTo>
              </a:path>
              <a:path w="894" h="1638">
                <a:moveTo>
                  <a:pt x="16272" y="3894"/>
                </a:moveTo>
                <a:cubicBezTo>
                  <a:pt x="16251" y="3971"/>
                  <a:pt x="16272" y="4073"/>
                  <a:pt x="16247" y="4142"/>
                </a:cubicBezTo>
                <a:cubicBezTo>
                  <a:pt x="16224" y="4165"/>
                  <a:pt x="16213" y="4173"/>
                  <a:pt x="16247" y="4167"/>
                </a:cubicBezTo>
              </a:path>
              <a:path w="894" h="1638">
                <a:moveTo>
                  <a:pt x="16371" y="3746"/>
                </a:moveTo>
                <a:cubicBezTo>
                  <a:pt x="16371" y="3840"/>
                  <a:pt x="16350" y="3925"/>
                  <a:pt x="16346" y="4018"/>
                </a:cubicBezTo>
                <a:cubicBezTo>
                  <a:pt x="16343" y="4086"/>
                  <a:pt x="16342" y="4137"/>
                  <a:pt x="16371" y="4192"/>
                </a:cubicBezTo>
                <a:cubicBezTo>
                  <a:pt x="16401" y="4248"/>
                  <a:pt x="16413" y="4280"/>
                  <a:pt x="16421" y="4341"/>
                </a:cubicBezTo>
              </a:path>
              <a:path w="894" h="1638">
                <a:moveTo>
                  <a:pt x="15974" y="4415"/>
                </a:moveTo>
                <a:cubicBezTo>
                  <a:pt x="16048" y="4415"/>
                  <a:pt x="16106" y="4399"/>
                  <a:pt x="16173" y="4390"/>
                </a:cubicBezTo>
                <a:cubicBezTo>
                  <a:pt x="16300" y="4373"/>
                  <a:pt x="16441" y="4390"/>
                  <a:pt x="16570" y="4390"/>
                </a:cubicBezTo>
              </a:path>
              <a:path w="894" h="1638">
                <a:moveTo>
                  <a:pt x="16421" y="4539"/>
                </a:moveTo>
                <a:cubicBezTo>
                  <a:pt x="16339" y="4654"/>
                  <a:pt x="16329" y="4698"/>
                  <a:pt x="16272" y="4812"/>
                </a:cubicBezTo>
                <a:cubicBezTo>
                  <a:pt x="16234" y="4888"/>
                  <a:pt x="16196" y="4971"/>
                  <a:pt x="16222" y="5060"/>
                </a:cubicBezTo>
                <a:cubicBezTo>
                  <a:pt x="16250" y="5154"/>
                  <a:pt x="16394" y="5177"/>
                  <a:pt x="16470" y="5184"/>
                </a:cubicBezTo>
                <a:cubicBezTo>
                  <a:pt x="16554" y="5191"/>
                  <a:pt x="16618" y="5171"/>
                  <a:pt x="16694" y="5135"/>
                </a:cubicBezTo>
                <a:cubicBezTo>
                  <a:pt x="16781" y="5094"/>
                  <a:pt x="16803" y="5077"/>
                  <a:pt x="16842" y="5011"/>
                </a:cubicBezTo>
                <a:cubicBezTo>
                  <a:pt x="16878" y="4949"/>
                  <a:pt x="16876" y="4862"/>
                  <a:pt x="16768" y="4862"/>
                </a:cubicBezTo>
                <a:cubicBezTo>
                  <a:pt x="16753" y="4862"/>
                  <a:pt x="16649" y="4937"/>
                  <a:pt x="16644" y="4961"/>
                </a:cubicBezTo>
                <a:cubicBezTo>
                  <a:pt x="16617" y="5086"/>
                  <a:pt x="16665" y="5212"/>
                  <a:pt x="16619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15"/>
          <p:cNvSpPr/>
          <p:nvPr/>
        </p:nvSpPr>
        <p:spPr>
          <a:xfrm>
            <a:off x="1643040" y="2187720"/>
            <a:ext cx="3492360" cy="884160"/>
          </a:xfrm>
          <a:custGeom>
            <a:avLst/>
            <a:gdLst/>
            <a:ahLst/>
            <a:rect l="l" t="t" r="r" b="b"/>
            <a:pathLst>
              <a:path w="9700" h="2457">
                <a:moveTo>
                  <a:pt x="4564" y="6697"/>
                </a:moveTo>
                <a:cubicBezTo>
                  <a:pt x="4664" y="6705"/>
                  <a:pt x="4761" y="6722"/>
                  <a:pt x="4862" y="6722"/>
                </a:cubicBezTo>
                <a:cubicBezTo>
                  <a:pt x="4913" y="6722"/>
                  <a:pt x="4932" y="6723"/>
                  <a:pt x="4961" y="6747"/>
                </a:cubicBezTo>
              </a:path>
              <a:path w="9700" h="2457">
                <a:moveTo>
                  <a:pt x="5507" y="6474"/>
                </a:moveTo>
                <a:cubicBezTo>
                  <a:pt x="5489" y="6573"/>
                  <a:pt x="5482" y="6649"/>
                  <a:pt x="5482" y="6747"/>
                </a:cubicBezTo>
                <a:cubicBezTo>
                  <a:pt x="5482" y="6839"/>
                  <a:pt x="5461" y="6906"/>
                  <a:pt x="5457" y="6995"/>
                </a:cubicBezTo>
                <a:cubicBezTo>
                  <a:pt x="5451" y="7129"/>
                  <a:pt x="5429" y="6932"/>
                  <a:pt x="5432" y="6921"/>
                </a:cubicBezTo>
                <a:cubicBezTo>
                  <a:pt x="5449" y="6850"/>
                  <a:pt x="5457" y="6799"/>
                  <a:pt x="5457" y="6722"/>
                </a:cubicBezTo>
                <a:cubicBezTo>
                  <a:pt x="5457" y="6641"/>
                  <a:pt x="5482" y="6581"/>
                  <a:pt x="5482" y="6499"/>
                </a:cubicBezTo>
                <a:cubicBezTo>
                  <a:pt x="5482" y="6419"/>
                  <a:pt x="5495" y="6342"/>
                  <a:pt x="5507" y="6276"/>
                </a:cubicBezTo>
                <a:cubicBezTo>
                  <a:pt x="5524" y="6186"/>
                  <a:pt x="5538" y="6201"/>
                  <a:pt x="5631" y="6201"/>
                </a:cubicBezTo>
                <a:cubicBezTo>
                  <a:pt x="5743" y="6201"/>
                  <a:pt x="5842" y="6185"/>
                  <a:pt x="5953" y="6176"/>
                </a:cubicBezTo>
                <a:cubicBezTo>
                  <a:pt x="6051" y="6168"/>
                  <a:pt x="6153" y="6176"/>
                  <a:pt x="6251" y="6176"/>
                </a:cubicBezTo>
              </a:path>
              <a:path w="9700" h="2457">
                <a:moveTo>
                  <a:pt x="5829" y="6548"/>
                </a:moveTo>
                <a:cubicBezTo>
                  <a:pt x="5829" y="6565"/>
                  <a:pt x="5829" y="6581"/>
                  <a:pt x="5829" y="6598"/>
                </a:cubicBezTo>
                <a:cubicBezTo>
                  <a:pt x="5891" y="6536"/>
                  <a:pt x="5940" y="6465"/>
                  <a:pt x="6003" y="6474"/>
                </a:cubicBezTo>
                <a:cubicBezTo>
                  <a:pt x="6055" y="6482"/>
                  <a:pt x="6125" y="6490"/>
                  <a:pt x="6152" y="6548"/>
                </a:cubicBezTo>
                <a:cubicBezTo>
                  <a:pt x="6181" y="6610"/>
                  <a:pt x="6241" y="6726"/>
                  <a:pt x="6226" y="6796"/>
                </a:cubicBezTo>
                <a:cubicBezTo>
                  <a:pt x="6212" y="6862"/>
                  <a:pt x="6186" y="6913"/>
                  <a:pt x="6152" y="6970"/>
                </a:cubicBezTo>
                <a:cubicBezTo>
                  <a:pt x="6100" y="7057"/>
                  <a:pt x="6084" y="7062"/>
                  <a:pt x="6003" y="7119"/>
                </a:cubicBezTo>
                <a:cubicBezTo>
                  <a:pt x="5954" y="7153"/>
                  <a:pt x="5849" y="7199"/>
                  <a:pt x="5804" y="7119"/>
                </a:cubicBezTo>
                <a:cubicBezTo>
                  <a:pt x="5777" y="7072"/>
                  <a:pt x="5811" y="6966"/>
                  <a:pt x="5879" y="6970"/>
                </a:cubicBezTo>
                <a:cubicBezTo>
                  <a:pt x="5936" y="6973"/>
                  <a:pt x="6046" y="7002"/>
                  <a:pt x="6102" y="7020"/>
                </a:cubicBezTo>
                <a:cubicBezTo>
                  <a:pt x="6169" y="7041"/>
                  <a:pt x="6229" y="7065"/>
                  <a:pt x="6300" y="7069"/>
                </a:cubicBezTo>
                <a:cubicBezTo>
                  <a:pt x="6317" y="7069"/>
                  <a:pt x="6333" y="7069"/>
                  <a:pt x="6350" y="7069"/>
                </a:cubicBezTo>
              </a:path>
              <a:path w="9700" h="2457">
                <a:moveTo>
                  <a:pt x="5283" y="7293"/>
                </a:moveTo>
                <a:cubicBezTo>
                  <a:pt x="5353" y="7327"/>
                  <a:pt x="5447" y="7338"/>
                  <a:pt x="5531" y="7342"/>
                </a:cubicBezTo>
                <a:cubicBezTo>
                  <a:pt x="5811" y="7355"/>
                  <a:pt x="6095" y="7342"/>
                  <a:pt x="6375" y="7342"/>
                </a:cubicBezTo>
              </a:path>
              <a:path w="9700" h="2457">
                <a:moveTo>
                  <a:pt x="5779" y="7665"/>
                </a:moveTo>
                <a:cubicBezTo>
                  <a:pt x="5754" y="7709"/>
                  <a:pt x="5740" y="7729"/>
                  <a:pt x="5705" y="7764"/>
                </a:cubicBezTo>
                <a:cubicBezTo>
                  <a:pt x="5714" y="7695"/>
                  <a:pt x="5731" y="7644"/>
                  <a:pt x="5779" y="7590"/>
                </a:cubicBezTo>
                <a:cubicBezTo>
                  <a:pt x="5829" y="7534"/>
                  <a:pt x="5889" y="7526"/>
                  <a:pt x="5953" y="7565"/>
                </a:cubicBezTo>
                <a:cubicBezTo>
                  <a:pt x="5996" y="7591"/>
                  <a:pt x="6044" y="7667"/>
                  <a:pt x="6052" y="7714"/>
                </a:cubicBezTo>
                <a:cubicBezTo>
                  <a:pt x="6068" y="7811"/>
                  <a:pt x="6067" y="7869"/>
                  <a:pt x="6052" y="7962"/>
                </a:cubicBezTo>
                <a:cubicBezTo>
                  <a:pt x="6039" y="8046"/>
                  <a:pt x="6042" y="8104"/>
                  <a:pt x="6003" y="8186"/>
                </a:cubicBezTo>
                <a:cubicBezTo>
                  <a:pt x="5959" y="8279"/>
                  <a:pt x="5927" y="8348"/>
                  <a:pt x="5854" y="8409"/>
                </a:cubicBezTo>
                <a:cubicBezTo>
                  <a:pt x="5811" y="8445"/>
                  <a:pt x="5738" y="8455"/>
                  <a:pt x="5680" y="8458"/>
                </a:cubicBezTo>
                <a:cubicBezTo>
                  <a:pt x="5610" y="8462"/>
                  <a:pt x="5577" y="8431"/>
                  <a:pt x="5531" y="8384"/>
                </a:cubicBezTo>
                <a:cubicBezTo>
                  <a:pt x="5470" y="8321"/>
                  <a:pt x="5524" y="8249"/>
                  <a:pt x="5556" y="8186"/>
                </a:cubicBezTo>
                <a:cubicBezTo>
                  <a:pt x="5597" y="8104"/>
                  <a:pt x="5638" y="8091"/>
                  <a:pt x="5730" y="8086"/>
                </a:cubicBezTo>
                <a:cubicBezTo>
                  <a:pt x="5781" y="8083"/>
                  <a:pt x="5871" y="8119"/>
                  <a:pt x="5904" y="8161"/>
                </a:cubicBezTo>
                <a:cubicBezTo>
                  <a:pt x="5956" y="8228"/>
                  <a:pt x="5926" y="8265"/>
                  <a:pt x="5953" y="8334"/>
                </a:cubicBezTo>
                <a:cubicBezTo>
                  <a:pt x="5961" y="8342"/>
                  <a:pt x="5970" y="8351"/>
                  <a:pt x="5978" y="8359"/>
                </a:cubicBezTo>
              </a:path>
              <a:path w="9700" h="2457">
                <a:moveTo>
                  <a:pt x="6722" y="7342"/>
                </a:moveTo>
                <a:cubicBezTo>
                  <a:pt x="6698" y="7390"/>
                  <a:pt x="6690" y="7404"/>
                  <a:pt x="6697" y="7441"/>
                </a:cubicBezTo>
                <a:cubicBezTo>
                  <a:pt x="6721" y="7438"/>
                  <a:pt x="6866" y="7382"/>
                  <a:pt x="6772" y="7342"/>
                </a:cubicBezTo>
                <a:cubicBezTo>
                  <a:pt x="6689" y="7307"/>
                  <a:pt x="6678" y="7419"/>
                  <a:pt x="6672" y="7466"/>
                </a:cubicBezTo>
              </a:path>
              <a:path w="9700" h="2457">
                <a:moveTo>
                  <a:pt x="7441" y="6573"/>
                </a:moveTo>
                <a:cubicBezTo>
                  <a:pt x="7477" y="6633"/>
                  <a:pt x="7466" y="6697"/>
                  <a:pt x="7466" y="6772"/>
                </a:cubicBezTo>
                <a:cubicBezTo>
                  <a:pt x="7466" y="6863"/>
                  <a:pt x="7466" y="6954"/>
                  <a:pt x="7466" y="7045"/>
                </a:cubicBezTo>
                <a:cubicBezTo>
                  <a:pt x="7466" y="6943"/>
                  <a:pt x="7487" y="6848"/>
                  <a:pt x="7491" y="6747"/>
                </a:cubicBezTo>
                <a:cubicBezTo>
                  <a:pt x="7495" y="6650"/>
                  <a:pt x="7470" y="6569"/>
                  <a:pt x="7466" y="6474"/>
                </a:cubicBezTo>
                <a:cubicBezTo>
                  <a:pt x="7462" y="6387"/>
                  <a:pt x="7483" y="6322"/>
                  <a:pt x="7565" y="6300"/>
                </a:cubicBezTo>
                <a:cubicBezTo>
                  <a:pt x="7714" y="6260"/>
                  <a:pt x="7910" y="6301"/>
                  <a:pt x="8062" y="6276"/>
                </a:cubicBezTo>
                <a:cubicBezTo>
                  <a:pt x="8129" y="6265"/>
                  <a:pt x="8182" y="6285"/>
                  <a:pt x="8235" y="6300"/>
                </a:cubicBezTo>
                <a:cubicBezTo>
                  <a:pt x="8243" y="6300"/>
                  <a:pt x="8252" y="6300"/>
                  <a:pt x="8260" y="6300"/>
                </a:cubicBezTo>
              </a:path>
              <a:path w="9700" h="2457">
                <a:moveTo>
                  <a:pt x="7938" y="6548"/>
                </a:moveTo>
                <a:cubicBezTo>
                  <a:pt x="7913" y="6573"/>
                  <a:pt x="7905" y="6581"/>
                  <a:pt x="7888" y="6598"/>
                </a:cubicBezTo>
                <a:cubicBezTo>
                  <a:pt x="7929" y="6557"/>
                  <a:pt x="7977" y="6488"/>
                  <a:pt x="8037" y="6474"/>
                </a:cubicBezTo>
                <a:cubicBezTo>
                  <a:pt x="8091" y="6461"/>
                  <a:pt x="8156" y="6514"/>
                  <a:pt x="8136" y="6573"/>
                </a:cubicBezTo>
                <a:cubicBezTo>
                  <a:pt x="8117" y="6628"/>
                  <a:pt x="8068" y="6673"/>
                  <a:pt x="8037" y="6722"/>
                </a:cubicBezTo>
                <a:cubicBezTo>
                  <a:pt x="7994" y="6789"/>
                  <a:pt x="7990" y="6787"/>
                  <a:pt x="7913" y="6796"/>
                </a:cubicBezTo>
                <a:cubicBezTo>
                  <a:pt x="7974" y="6774"/>
                  <a:pt x="8024" y="6751"/>
                  <a:pt x="8086" y="6747"/>
                </a:cubicBezTo>
                <a:cubicBezTo>
                  <a:pt x="8133" y="6744"/>
                  <a:pt x="8188" y="6774"/>
                  <a:pt x="8210" y="6821"/>
                </a:cubicBezTo>
                <a:cubicBezTo>
                  <a:pt x="8242" y="6889"/>
                  <a:pt x="8248" y="6988"/>
                  <a:pt x="8186" y="7045"/>
                </a:cubicBezTo>
                <a:cubicBezTo>
                  <a:pt x="8139" y="7089"/>
                  <a:pt x="8045" y="7069"/>
                  <a:pt x="7987" y="7069"/>
                </a:cubicBezTo>
                <a:cubicBezTo>
                  <a:pt x="7937" y="7069"/>
                  <a:pt x="7888" y="7069"/>
                  <a:pt x="7838" y="7069"/>
                </a:cubicBezTo>
              </a:path>
              <a:path w="9700" h="2457">
                <a:moveTo>
                  <a:pt x="7441" y="7193"/>
                </a:moveTo>
                <a:cubicBezTo>
                  <a:pt x="7620" y="7193"/>
                  <a:pt x="8359" y="7105"/>
                  <a:pt x="8434" y="7218"/>
                </a:cubicBezTo>
              </a:path>
              <a:path w="9700" h="2457">
                <a:moveTo>
                  <a:pt x="7913" y="7466"/>
                </a:moveTo>
                <a:cubicBezTo>
                  <a:pt x="7854" y="7525"/>
                  <a:pt x="7984" y="7431"/>
                  <a:pt x="8012" y="7417"/>
                </a:cubicBezTo>
                <a:cubicBezTo>
                  <a:pt x="8073" y="7387"/>
                  <a:pt x="8132" y="7374"/>
                  <a:pt x="8186" y="7417"/>
                </a:cubicBezTo>
                <a:cubicBezTo>
                  <a:pt x="8227" y="7450"/>
                  <a:pt x="8233" y="7541"/>
                  <a:pt x="8235" y="7590"/>
                </a:cubicBezTo>
                <a:cubicBezTo>
                  <a:pt x="8238" y="7673"/>
                  <a:pt x="8199" y="7710"/>
                  <a:pt x="8186" y="7789"/>
                </a:cubicBezTo>
                <a:cubicBezTo>
                  <a:pt x="8178" y="7838"/>
                  <a:pt x="8153" y="7923"/>
                  <a:pt x="8111" y="7962"/>
                </a:cubicBezTo>
                <a:cubicBezTo>
                  <a:pt x="8058" y="8011"/>
                  <a:pt x="8032" y="8051"/>
                  <a:pt x="7987" y="8111"/>
                </a:cubicBezTo>
                <a:cubicBezTo>
                  <a:pt x="7962" y="8144"/>
                  <a:pt x="7879" y="8201"/>
                  <a:pt x="7838" y="8210"/>
                </a:cubicBezTo>
                <a:cubicBezTo>
                  <a:pt x="7784" y="8222"/>
                  <a:pt x="7705" y="8218"/>
                  <a:pt x="7665" y="8186"/>
                </a:cubicBezTo>
                <a:cubicBezTo>
                  <a:pt x="7589" y="8126"/>
                  <a:pt x="7628" y="8084"/>
                  <a:pt x="7640" y="8012"/>
                </a:cubicBezTo>
                <a:cubicBezTo>
                  <a:pt x="7651" y="7948"/>
                  <a:pt x="7678" y="7894"/>
                  <a:pt x="7764" y="7913"/>
                </a:cubicBezTo>
                <a:cubicBezTo>
                  <a:pt x="7818" y="7925"/>
                  <a:pt x="7895" y="7979"/>
                  <a:pt x="7938" y="8012"/>
                </a:cubicBezTo>
                <a:cubicBezTo>
                  <a:pt x="7978" y="8043"/>
                  <a:pt x="8000" y="8099"/>
                  <a:pt x="8037" y="8136"/>
                </a:cubicBezTo>
                <a:cubicBezTo>
                  <a:pt x="8086" y="8185"/>
                  <a:pt x="8104" y="8218"/>
                  <a:pt x="8161" y="8260"/>
                </a:cubicBezTo>
                <a:cubicBezTo>
                  <a:pt x="8192" y="8283"/>
                  <a:pt x="8202" y="8301"/>
                  <a:pt x="8210" y="8334"/>
                </a:cubicBezTo>
              </a:path>
              <a:path w="9700" h="2457">
                <a:moveTo>
                  <a:pt x="9376" y="6945"/>
                </a:moveTo>
                <a:cubicBezTo>
                  <a:pt x="9376" y="7074"/>
                  <a:pt x="9387" y="7189"/>
                  <a:pt x="9401" y="7317"/>
                </a:cubicBezTo>
                <a:cubicBezTo>
                  <a:pt x="9409" y="7388"/>
                  <a:pt x="9439" y="7448"/>
                  <a:pt x="9451" y="7516"/>
                </a:cubicBezTo>
                <a:cubicBezTo>
                  <a:pt x="9458" y="7555"/>
                  <a:pt x="9451" y="7600"/>
                  <a:pt x="9451" y="7640"/>
                </a:cubicBezTo>
              </a:path>
              <a:path w="9700" h="2457">
                <a:moveTo>
                  <a:pt x="9128" y="7218"/>
                </a:moveTo>
                <a:cubicBezTo>
                  <a:pt x="9183" y="7185"/>
                  <a:pt x="9234" y="7193"/>
                  <a:pt x="9302" y="7193"/>
                </a:cubicBezTo>
                <a:cubicBezTo>
                  <a:pt x="9390" y="7193"/>
                  <a:pt x="9465" y="7214"/>
                  <a:pt x="9550" y="7218"/>
                </a:cubicBezTo>
                <a:cubicBezTo>
                  <a:pt x="9636" y="7222"/>
                  <a:pt x="9798" y="7329"/>
                  <a:pt x="9798" y="7243"/>
                </a:cubicBezTo>
                <a:cubicBezTo>
                  <a:pt x="9790" y="7235"/>
                  <a:pt x="9781" y="7226"/>
                  <a:pt x="9773" y="7218"/>
                </a:cubicBezTo>
              </a:path>
              <a:path w="9700" h="2457">
                <a:moveTo>
                  <a:pt x="10393" y="6648"/>
                </a:moveTo>
                <a:cubicBezTo>
                  <a:pt x="10490" y="6627"/>
                  <a:pt x="10594" y="6609"/>
                  <a:pt x="10691" y="6598"/>
                </a:cubicBezTo>
                <a:cubicBezTo>
                  <a:pt x="10778" y="6588"/>
                  <a:pt x="10878" y="6598"/>
                  <a:pt x="10964" y="6598"/>
                </a:cubicBezTo>
              </a:path>
              <a:path w="9700" h="2457">
                <a:moveTo>
                  <a:pt x="11261" y="6400"/>
                </a:moveTo>
                <a:cubicBezTo>
                  <a:pt x="11261" y="6642"/>
                  <a:pt x="11209" y="6966"/>
                  <a:pt x="11286" y="7193"/>
                </a:cubicBezTo>
                <a:cubicBezTo>
                  <a:pt x="11286" y="7048"/>
                  <a:pt x="11274" y="6915"/>
                  <a:pt x="11261" y="6772"/>
                </a:cubicBezTo>
                <a:cubicBezTo>
                  <a:pt x="11253" y="6686"/>
                  <a:pt x="11237" y="6613"/>
                  <a:pt x="11237" y="6524"/>
                </a:cubicBezTo>
                <a:cubicBezTo>
                  <a:pt x="11237" y="6445"/>
                  <a:pt x="11233" y="6404"/>
                  <a:pt x="11237" y="6325"/>
                </a:cubicBezTo>
                <a:cubicBezTo>
                  <a:pt x="11240" y="6277"/>
                  <a:pt x="11261" y="6225"/>
                  <a:pt x="11311" y="6201"/>
                </a:cubicBezTo>
                <a:cubicBezTo>
                  <a:pt x="11384" y="6166"/>
                  <a:pt x="11460" y="6146"/>
                  <a:pt x="11534" y="6127"/>
                </a:cubicBezTo>
                <a:cubicBezTo>
                  <a:pt x="11636" y="6100"/>
                  <a:pt x="11726" y="6077"/>
                  <a:pt x="11832" y="6077"/>
                </a:cubicBezTo>
                <a:cubicBezTo>
                  <a:pt x="11900" y="6077"/>
                  <a:pt x="11951" y="6069"/>
                  <a:pt x="12005" y="6102"/>
                </a:cubicBezTo>
              </a:path>
              <a:path w="9700" h="2457">
                <a:moveTo>
                  <a:pt x="11633" y="6424"/>
                </a:moveTo>
                <a:cubicBezTo>
                  <a:pt x="11699" y="6464"/>
                  <a:pt x="11711" y="6428"/>
                  <a:pt x="11782" y="6424"/>
                </a:cubicBezTo>
                <a:cubicBezTo>
                  <a:pt x="11849" y="6420"/>
                  <a:pt x="11923" y="6413"/>
                  <a:pt x="11981" y="6449"/>
                </a:cubicBezTo>
                <a:cubicBezTo>
                  <a:pt x="12075" y="6508"/>
                  <a:pt x="11989" y="6606"/>
                  <a:pt x="11956" y="6672"/>
                </a:cubicBezTo>
                <a:cubicBezTo>
                  <a:pt x="11924" y="6735"/>
                  <a:pt x="11869" y="6759"/>
                  <a:pt x="11832" y="6821"/>
                </a:cubicBezTo>
                <a:cubicBezTo>
                  <a:pt x="11801" y="6873"/>
                  <a:pt x="11762" y="6936"/>
                  <a:pt x="11708" y="6970"/>
                </a:cubicBezTo>
                <a:cubicBezTo>
                  <a:pt x="11646" y="7010"/>
                  <a:pt x="11646" y="7004"/>
                  <a:pt x="11609" y="7069"/>
                </a:cubicBezTo>
                <a:cubicBezTo>
                  <a:pt x="11670" y="7100"/>
                  <a:pt x="11733" y="7094"/>
                  <a:pt x="11807" y="7094"/>
                </a:cubicBezTo>
                <a:cubicBezTo>
                  <a:pt x="11931" y="7094"/>
                  <a:pt x="12055" y="7094"/>
                  <a:pt x="12179" y="7094"/>
                </a:cubicBezTo>
              </a:path>
              <a:path w="9700" h="2457">
                <a:moveTo>
                  <a:pt x="11212" y="7268"/>
                </a:moveTo>
                <a:cubicBezTo>
                  <a:pt x="11331" y="7260"/>
                  <a:pt x="11438" y="7243"/>
                  <a:pt x="11559" y="7243"/>
                </a:cubicBezTo>
                <a:cubicBezTo>
                  <a:pt x="11688" y="7243"/>
                  <a:pt x="11805" y="7265"/>
                  <a:pt x="11931" y="7268"/>
                </a:cubicBezTo>
                <a:cubicBezTo>
                  <a:pt x="12041" y="7270"/>
                  <a:pt x="12197" y="7254"/>
                  <a:pt x="12303" y="7293"/>
                </a:cubicBezTo>
                <a:cubicBezTo>
                  <a:pt x="12311" y="7301"/>
                  <a:pt x="12320" y="7309"/>
                  <a:pt x="12328" y="7317"/>
                </a:cubicBezTo>
              </a:path>
              <a:path w="9700" h="2457">
                <a:moveTo>
                  <a:pt x="11509" y="7640"/>
                </a:moveTo>
                <a:cubicBezTo>
                  <a:pt x="11577" y="7681"/>
                  <a:pt x="11626" y="7644"/>
                  <a:pt x="11708" y="7640"/>
                </a:cubicBezTo>
                <a:cubicBezTo>
                  <a:pt x="11789" y="7636"/>
                  <a:pt x="11856" y="7653"/>
                  <a:pt x="11931" y="7665"/>
                </a:cubicBezTo>
                <a:cubicBezTo>
                  <a:pt x="11992" y="7675"/>
                  <a:pt x="12058" y="7691"/>
                  <a:pt x="12080" y="7764"/>
                </a:cubicBezTo>
                <a:cubicBezTo>
                  <a:pt x="12102" y="7837"/>
                  <a:pt x="12035" y="7925"/>
                  <a:pt x="12005" y="7987"/>
                </a:cubicBezTo>
                <a:cubicBezTo>
                  <a:pt x="11963" y="8072"/>
                  <a:pt x="11867" y="8085"/>
                  <a:pt x="11807" y="8161"/>
                </a:cubicBezTo>
                <a:cubicBezTo>
                  <a:pt x="11749" y="8235"/>
                  <a:pt x="11672" y="8223"/>
                  <a:pt x="11609" y="8285"/>
                </a:cubicBezTo>
                <a:cubicBezTo>
                  <a:pt x="11562" y="8332"/>
                  <a:pt x="11522" y="8372"/>
                  <a:pt x="11460" y="8409"/>
                </a:cubicBezTo>
                <a:cubicBezTo>
                  <a:pt x="11412" y="8433"/>
                  <a:pt x="11395" y="8439"/>
                  <a:pt x="11410" y="8483"/>
                </a:cubicBezTo>
                <a:cubicBezTo>
                  <a:pt x="11452" y="8508"/>
                  <a:pt x="11532" y="8526"/>
                  <a:pt x="11584" y="8533"/>
                </a:cubicBezTo>
                <a:cubicBezTo>
                  <a:pt x="11708" y="8549"/>
                  <a:pt x="11888" y="8551"/>
                  <a:pt x="12005" y="8508"/>
                </a:cubicBezTo>
                <a:cubicBezTo>
                  <a:pt x="12022" y="8500"/>
                  <a:pt x="12038" y="8491"/>
                  <a:pt x="12055" y="8483"/>
                </a:cubicBezTo>
              </a:path>
              <a:path w="9700" h="2457">
                <a:moveTo>
                  <a:pt x="12750" y="7417"/>
                </a:moveTo>
                <a:cubicBezTo>
                  <a:pt x="12788" y="7377"/>
                  <a:pt x="12751" y="7390"/>
                  <a:pt x="12774" y="7342"/>
                </a:cubicBezTo>
              </a:path>
              <a:path w="9700" h="2457">
                <a:moveTo>
                  <a:pt x="13370" y="6300"/>
                </a:moveTo>
                <a:cubicBezTo>
                  <a:pt x="13401" y="6352"/>
                  <a:pt x="13389" y="6412"/>
                  <a:pt x="13370" y="6474"/>
                </a:cubicBezTo>
                <a:cubicBezTo>
                  <a:pt x="13347" y="6550"/>
                  <a:pt x="13324" y="6639"/>
                  <a:pt x="13345" y="6722"/>
                </a:cubicBezTo>
                <a:cubicBezTo>
                  <a:pt x="13363" y="6792"/>
                  <a:pt x="13392" y="6852"/>
                  <a:pt x="13419" y="6921"/>
                </a:cubicBezTo>
                <a:cubicBezTo>
                  <a:pt x="13451" y="7003"/>
                  <a:pt x="13469" y="7031"/>
                  <a:pt x="13469" y="7119"/>
                </a:cubicBezTo>
              </a:path>
              <a:path w="9700" h="2457">
                <a:moveTo>
                  <a:pt x="13171" y="7293"/>
                </a:moveTo>
                <a:cubicBezTo>
                  <a:pt x="13394" y="7293"/>
                  <a:pt x="13618" y="7293"/>
                  <a:pt x="13841" y="7293"/>
                </a:cubicBezTo>
              </a:path>
              <a:path w="9700" h="2457">
                <a:moveTo>
                  <a:pt x="13444" y="7615"/>
                </a:moveTo>
                <a:cubicBezTo>
                  <a:pt x="13485" y="7636"/>
                  <a:pt x="13520" y="7604"/>
                  <a:pt x="13568" y="7565"/>
                </a:cubicBezTo>
                <a:cubicBezTo>
                  <a:pt x="13617" y="7525"/>
                  <a:pt x="13670" y="7480"/>
                  <a:pt x="13717" y="7516"/>
                </a:cubicBezTo>
                <a:cubicBezTo>
                  <a:pt x="13761" y="7551"/>
                  <a:pt x="13785" y="7638"/>
                  <a:pt x="13791" y="7689"/>
                </a:cubicBezTo>
                <a:cubicBezTo>
                  <a:pt x="13800" y="7762"/>
                  <a:pt x="13827" y="7838"/>
                  <a:pt x="13816" y="7913"/>
                </a:cubicBezTo>
                <a:cubicBezTo>
                  <a:pt x="13806" y="7979"/>
                  <a:pt x="13796" y="8123"/>
                  <a:pt x="13767" y="8186"/>
                </a:cubicBezTo>
                <a:cubicBezTo>
                  <a:pt x="13752" y="8218"/>
                  <a:pt x="13704" y="8293"/>
                  <a:pt x="13667" y="8310"/>
                </a:cubicBezTo>
                <a:cubicBezTo>
                  <a:pt x="13599" y="8342"/>
                  <a:pt x="13528" y="8348"/>
                  <a:pt x="13469" y="8310"/>
                </a:cubicBezTo>
                <a:cubicBezTo>
                  <a:pt x="13420" y="8278"/>
                  <a:pt x="13328" y="8234"/>
                  <a:pt x="13345" y="8161"/>
                </a:cubicBezTo>
                <a:cubicBezTo>
                  <a:pt x="13366" y="8072"/>
                  <a:pt x="13481" y="8086"/>
                  <a:pt x="13543" y="8111"/>
                </a:cubicBezTo>
                <a:cubicBezTo>
                  <a:pt x="13614" y="8140"/>
                  <a:pt x="13708" y="8198"/>
                  <a:pt x="13791" y="8210"/>
                </a:cubicBezTo>
                <a:cubicBezTo>
                  <a:pt x="13883" y="8224"/>
                  <a:pt x="13948" y="8268"/>
                  <a:pt x="14039" y="8285"/>
                </a:cubicBezTo>
                <a:cubicBezTo>
                  <a:pt x="14080" y="8293"/>
                  <a:pt x="14214" y="8361"/>
                  <a:pt x="14238" y="8359"/>
                </a:cubicBezTo>
                <a:cubicBezTo>
                  <a:pt x="14246" y="8351"/>
                  <a:pt x="14255" y="8342"/>
                  <a:pt x="14263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16"/>
          <p:cNvSpPr/>
          <p:nvPr/>
        </p:nvSpPr>
        <p:spPr>
          <a:xfrm>
            <a:off x="2268360" y="3232080"/>
            <a:ext cx="1517760" cy="420840"/>
          </a:xfrm>
          <a:custGeom>
            <a:avLst/>
            <a:gdLst/>
            <a:ahLst/>
            <a:rect l="l" t="t" r="r" b="b"/>
            <a:pathLst>
              <a:path w="4218" h="1167">
                <a:moveTo>
                  <a:pt x="6300" y="9525"/>
                </a:moveTo>
                <a:cubicBezTo>
                  <a:pt x="6385" y="9537"/>
                  <a:pt x="6451" y="9550"/>
                  <a:pt x="6548" y="9550"/>
                </a:cubicBezTo>
                <a:cubicBezTo>
                  <a:pt x="6623" y="9550"/>
                  <a:pt x="6697" y="9550"/>
                  <a:pt x="6772" y="9550"/>
                </a:cubicBezTo>
              </a:path>
              <a:path w="4218" h="1167">
                <a:moveTo>
                  <a:pt x="7317" y="9401"/>
                </a:moveTo>
                <a:cubicBezTo>
                  <a:pt x="7310" y="9475"/>
                  <a:pt x="7308" y="9551"/>
                  <a:pt x="7293" y="9624"/>
                </a:cubicBezTo>
                <a:cubicBezTo>
                  <a:pt x="7272" y="9729"/>
                  <a:pt x="7268" y="9814"/>
                  <a:pt x="7268" y="9922"/>
                </a:cubicBezTo>
                <a:cubicBezTo>
                  <a:pt x="7268" y="10053"/>
                  <a:pt x="7268" y="9846"/>
                  <a:pt x="7268" y="9823"/>
                </a:cubicBezTo>
                <a:cubicBezTo>
                  <a:pt x="7268" y="9745"/>
                  <a:pt x="7313" y="9683"/>
                  <a:pt x="7293" y="9599"/>
                </a:cubicBezTo>
                <a:cubicBezTo>
                  <a:pt x="7270" y="9504"/>
                  <a:pt x="7278" y="9467"/>
                  <a:pt x="7293" y="9376"/>
                </a:cubicBezTo>
                <a:cubicBezTo>
                  <a:pt x="7305" y="9302"/>
                  <a:pt x="7296" y="9210"/>
                  <a:pt x="7342" y="9153"/>
                </a:cubicBezTo>
                <a:cubicBezTo>
                  <a:pt x="7380" y="9105"/>
                  <a:pt x="7418" y="9104"/>
                  <a:pt x="7466" y="9079"/>
                </a:cubicBezTo>
                <a:cubicBezTo>
                  <a:pt x="7522" y="9049"/>
                  <a:pt x="7627" y="9036"/>
                  <a:pt x="7689" y="9029"/>
                </a:cubicBezTo>
                <a:cubicBezTo>
                  <a:pt x="7777" y="9020"/>
                  <a:pt x="7850" y="9004"/>
                  <a:pt x="7938" y="9004"/>
                </a:cubicBezTo>
                <a:cubicBezTo>
                  <a:pt x="7988" y="9004"/>
                  <a:pt x="8022" y="8985"/>
                  <a:pt x="8037" y="8979"/>
                </a:cubicBezTo>
              </a:path>
              <a:path w="4218" h="1167">
                <a:moveTo>
                  <a:pt x="7863" y="9252"/>
                </a:moveTo>
                <a:cubicBezTo>
                  <a:pt x="7842" y="9362"/>
                  <a:pt x="7822" y="9493"/>
                  <a:pt x="7789" y="9599"/>
                </a:cubicBezTo>
                <a:cubicBezTo>
                  <a:pt x="7764" y="9678"/>
                  <a:pt x="7743" y="9738"/>
                  <a:pt x="7739" y="9823"/>
                </a:cubicBezTo>
                <a:cubicBezTo>
                  <a:pt x="7736" y="9879"/>
                  <a:pt x="7764" y="9961"/>
                  <a:pt x="7813" y="9996"/>
                </a:cubicBezTo>
                <a:cubicBezTo>
                  <a:pt x="7870" y="10037"/>
                  <a:pt x="7944" y="10067"/>
                  <a:pt x="8012" y="10071"/>
                </a:cubicBezTo>
                <a:cubicBezTo>
                  <a:pt x="8090" y="10075"/>
                  <a:pt x="8173" y="10039"/>
                  <a:pt x="8235" y="9996"/>
                </a:cubicBezTo>
                <a:cubicBezTo>
                  <a:pt x="8289" y="9959"/>
                  <a:pt x="8305" y="9887"/>
                  <a:pt x="8285" y="9823"/>
                </a:cubicBezTo>
                <a:cubicBezTo>
                  <a:pt x="8269" y="9774"/>
                  <a:pt x="8181" y="9738"/>
                  <a:pt x="8136" y="9748"/>
                </a:cubicBezTo>
                <a:cubicBezTo>
                  <a:pt x="8067" y="9763"/>
                  <a:pt x="8023" y="9842"/>
                  <a:pt x="8012" y="9897"/>
                </a:cubicBezTo>
                <a:cubicBezTo>
                  <a:pt x="8002" y="9945"/>
                  <a:pt x="8040" y="10007"/>
                  <a:pt x="8062" y="10021"/>
                </a:cubicBezTo>
              </a:path>
              <a:path w="4218" h="1167">
                <a:moveTo>
                  <a:pt x="8756" y="9550"/>
                </a:moveTo>
                <a:cubicBezTo>
                  <a:pt x="8868" y="9550"/>
                  <a:pt x="8948" y="9571"/>
                  <a:pt x="9054" y="9575"/>
                </a:cubicBezTo>
                <a:cubicBezTo>
                  <a:pt x="9120" y="9575"/>
                  <a:pt x="9137" y="9575"/>
                  <a:pt x="9178" y="9575"/>
                </a:cubicBezTo>
              </a:path>
              <a:path w="4218" h="1167">
                <a:moveTo>
                  <a:pt x="9550" y="9451"/>
                </a:moveTo>
                <a:cubicBezTo>
                  <a:pt x="9550" y="9628"/>
                  <a:pt x="9547" y="9803"/>
                  <a:pt x="9575" y="9971"/>
                </a:cubicBezTo>
                <a:cubicBezTo>
                  <a:pt x="9589" y="10053"/>
                  <a:pt x="9582" y="10071"/>
                  <a:pt x="9624" y="10145"/>
                </a:cubicBezTo>
                <a:cubicBezTo>
                  <a:pt x="9661" y="10072"/>
                  <a:pt x="9649" y="9985"/>
                  <a:pt x="9649" y="9897"/>
                </a:cubicBezTo>
                <a:cubicBezTo>
                  <a:pt x="9649" y="9795"/>
                  <a:pt x="9639" y="9677"/>
                  <a:pt x="9624" y="9575"/>
                </a:cubicBezTo>
                <a:cubicBezTo>
                  <a:pt x="9609" y="9476"/>
                  <a:pt x="9599" y="9400"/>
                  <a:pt x="9599" y="9302"/>
                </a:cubicBezTo>
                <a:cubicBezTo>
                  <a:pt x="9599" y="9230"/>
                  <a:pt x="9626" y="9201"/>
                  <a:pt x="9674" y="9153"/>
                </a:cubicBezTo>
                <a:cubicBezTo>
                  <a:pt x="9722" y="9105"/>
                  <a:pt x="9831" y="9128"/>
                  <a:pt x="9897" y="9128"/>
                </a:cubicBezTo>
                <a:cubicBezTo>
                  <a:pt x="9977" y="9128"/>
                  <a:pt x="10070" y="9132"/>
                  <a:pt x="10145" y="9153"/>
                </a:cubicBezTo>
                <a:cubicBezTo>
                  <a:pt x="10162" y="9161"/>
                  <a:pt x="10178" y="9170"/>
                  <a:pt x="10195" y="9178"/>
                </a:cubicBezTo>
              </a:path>
              <a:path w="4218" h="1167">
                <a:moveTo>
                  <a:pt x="9922" y="9426"/>
                </a:moveTo>
                <a:cubicBezTo>
                  <a:pt x="9963" y="9384"/>
                  <a:pt x="10011" y="9340"/>
                  <a:pt x="10071" y="9327"/>
                </a:cubicBezTo>
                <a:cubicBezTo>
                  <a:pt x="10152" y="9309"/>
                  <a:pt x="10244" y="9393"/>
                  <a:pt x="10269" y="9451"/>
                </a:cubicBezTo>
                <a:cubicBezTo>
                  <a:pt x="10295" y="9511"/>
                  <a:pt x="10331" y="9635"/>
                  <a:pt x="10319" y="9699"/>
                </a:cubicBezTo>
                <a:cubicBezTo>
                  <a:pt x="10307" y="9762"/>
                  <a:pt x="10282" y="9842"/>
                  <a:pt x="10244" y="9897"/>
                </a:cubicBezTo>
                <a:cubicBezTo>
                  <a:pt x="10208" y="9950"/>
                  <a:pt x="10129" y="9969"/>
                  <a:pt x="10071" y="9971"/>
                </a:cubicBezTo>
                <a:cubicBezTo>
                  <a:pt x="10046" y="9971"/>
                  <a:pt x="10021" y="9971"/>
                  <a:pt x="9996" y="9971"/>
                </a:cubicBezTo>
                <a:cubicBezTo>
                  <a:pt x="10016" y="9913"/>
                  <a:pt x="10044" y="9900"/>
                  <a:pt x="10120" y="9897"/>
                </a:cubicBezTo>
                <a:cubicBezTo>
                  <a:pt x="10203" y="9893"/>
                  <a:pt x="10319" y="9932"/>
                  <a:pt x="10393" y="9971"/>
                </a:cubicBezTo>
                <a:cubicBezTo>
                  <a:pt x="10446" y="9999"/>
                  <a:pt x="10463" y="10005"/>
                  <a:pt x="10517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17"/>
          <p:cNvSpPr/>
          <p:nvPr/>
        </p:nvSpPr>
        <p:spPr>
          <a:xfrm>
            <a:off x="2411280" y="3616200"/>
            <a:ext cx="1509840" cy="142920"/>
          </a:xfrm>
          <a:custGeom>
            <a:avLst/>
            <a:gdLst/>
            <a:ahLst/>
            <a:rect l="l" t="t" r="r" b="b"/>
            <a:pathLst>
              <a:path w="4193" h="398">
                <a:moveTo>
                  <a:pt x="10889" y="10443"/>
                </a:moveTo>
                <a:cubicBezTo>
                  <a:pt x="10813" y="10438"/>
                  <a:pt x="10739" y="10435"/>
                  <a:pt x="10666" y="10418"/>
                </a:cubicBezTo>
                <a:cubicBezTo>
                  <a:pt x="10531" y="10386"/>
                  <a:pt x="10404" y="10345"/>
                  <a:pt x="10269" y="10319"/>
                </a:cubicBezTo>
                <a:cubicBezTo>
                  <a:pt x="10077" y="10282"/>
                  <a:pt x="9909" y="10211"/>
                  <a:pt x="9723" y="10170"/>
                </a:cubicBezTo>
                <a:cubicBezTo>
                  <a:pt x="9561" y="10134"/>
                  <a:pt x="9369" y="10110"/>
                  <a:pt x="9203" y="10096"/>
                </a:cubicBezTo>
                <a:cubicBezTo>
                  <a:pt x="9023" y="10080"/>
                  <a:pt x="8837" y="10075"/>
                  <a:pt x="8657" y="10071"/>
                </a:cubicBezTo>
                <a:cubicBezTo>
                  <a:pt x="8424" y="10066"/>
                  <a:pt x="8196" y="10049"/>
                  <a:pt x="7962" y="10046"/>
                </a:cubicBezTo>
                <a:cubicBezTo>
                  <a:pt x="7736" y="10043"/>
                  <a:pt x="7519" y="10060"/>
                  <a:pt x="7293" y="10071"/>
                </a:cubicBezTo>
                <a:cubicBezTo>
                  <a:pt x="7159" y="10078"/>
                  <a:pt x="7028" y="10091"/>
                  <a:pt x="6896" y="10096"/>
                </a:cubicBezTo>
                <a:cubicBezTo>
                  <a:pt x="6872" y="10097"/>
                  <a:pt x="6693" y="10079"/>
                  <a:pt x="6697" y="10145"/>
                </a:cubicBezTo>
                <a:cubicBezTo>
                  <a:pt x="6700" y="10197"/>
                  <a:pt x="6797" y="10185"/>
                  <a:pt x="6821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8"/>
          <p:cNvSpPr/>
          <p:nvPr/>
        </p:nvSpPr>
        <p:spPr>
          <a:xfrm>
            <a:off x="2938320" y="3768840"/>
            <a:ext cx="268560" cy="544320"/>
          </a:xfrm>
          <a:custGeom>
            <a:avLst/>
            <a:gdLst/>
            <a:ahLst/>
            <a:rect l="l" t="t" r="r" b="b"/>
            <a:pathLst>
              <a:path w="745" h="1514">
                <a:moveTo>
                  <a:pt x="8434" y="10517"/>
                </a:moveTo>
                <a:cubicBezTo>
                  <a:pt x="8418" y="10568"/>
                  <a:pt x="8400" y="10666"/>
                  <a:pt x="8334" y="10691"/>
                </a:cubicBezTo>
                <a:cubicBezTo>
                  <a:pt x="8292" y="10707"/>
                  <a:pt x="8180" y="10724"/>
                  <a:pt x="8161" y="10790"/>
                </a:cubicBezTo>
                <a:cubicBezTo>
                  <a:pt x="8135" y="10883"/>
                  <a:pt x="8234" y="10872"/>
                  <a:pt x="8285" y="10889"/>
                </a:cubicBezTo>
                <a:cubicBezTo>
                  <a:pt x="8361" y="10915"/>
                  <a:pt x="8431" y="10961"/>
                  <a:pt x="8508" y="10988"/>
                </a:cubicBezTo>
                <a:cubicBezTo>
                  <a:pt x="8613" y="11024"/>
                  <a:pt x="8722" y="11082"/>
                  <a:pt x="8830" y="11088"/>
                </a:cubicBezTo>
                <a:cubicBezTo>
                  <a:pt x="8847" y="11088"/>
                  <a:pt x="8863" y="11088"/>
                  <a:pt x="8880" y="11088"/>
                </a:cubicBezTo>
              </a:path>
              <a:path w="745" h="1514">
                <a:moveTo>
                  <a:pt x="8855" y="10468"/>
                </a:moveTo>
                <a:cubicBezTo>
                  <a:pt x="8819" y="10575"/>
                  <a:pt x="8806" y="10653"/>
                  <a:pt x="8806" y="10765"/>
                </a:cubicBezTo>
                <a:cubicBezTo>
                  <a:pt x="8806" y="10902"/>
                  <a:pt x="8812" y="11027"/>
                  <a:pt x="8830" y="11162"/>
                </a:cubicBezTo>
                <a:cubicBezTo>
                  <a:pt x="8851" y="11323"/>
                  <a:pt x="8874" y="11496"/>
                  <a:pt x="8880" y="11658"/>
                </a:cubicBezTo>
                <a:cubicBezTo>
                  <a:pt x="8883" y="11745"/>
                  <a:pt x="8905" y="11819"/>
                  <a:pt x="8905" y="11906"/>
                </a:cubicBezTo>
                <a:cubicBezTo>
                  <a:pt x="8905" y="11951"/>
                  <a:pt x="8908" y="11964"/>
                  <a:pt x="8880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.  Sin(39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- 120</a:t>
            </a:r>
            <a:r>
              <a:rPr b="0" lang="en-US" sz="44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Ink 5"/>
          <p:cNvSpPr/>
          <p:nvPr/>
        </p:nvSpPr>
        <p:spPr>
          <a:xfrm>
            <a:off x="4276800" y="1384200"/>
            <a:ext cx="268200" cy="231840"/>
          </a:xfrm>
          <a:custGeom>
            <a:avLst/>
            <a:gdLst/>
            <a:ahLst/>
            <a:rect l="l" t="t" r="r" b="b"/>
            <a:pathLst>
              <a:path w="746" h="646">
                <a:moveTo>
                  <a:pt x="12378" y="4043"/>
                </a:moveTo>
                <a:cubicBezTo>
                  <a:pt x="12378" y="3990"/>
                  <a:pt x="12399" y="3905"/>
                  <a:pt x="12353" y="3870"/>
                </a:cubicBezTo>
                <a:cubicBezTo>
                  <a:pt x="12290" y="3822"/>
                  <a:pt x="12214" y="3858"/>
                  <a:pt x="12154" y="3894"/>
                </a:cubicBezTo>
                <a:cubicBezTo>
                  <a:pt x="12106" y="3923"/>
                  <a:pt x="12047" y="3980"/>
                  <a:pt x="12005" y="4018"/>
                </a:cubicBezTo>
                <a:cubicBezTo>
                  <a:pt x="11949" y="4069"/>
                  <a:pt x="11935" y="4151"/>
                  <a:pt x="11906" y="4217"/>
                </a:cubicBezTo>
                <a:cubicBezTo>
                  <a:pt x="11871" y="4297"/>
                  <a:pt x="11874" y="4356"/>
                  <a:pt x="11906" y="4440"/>
                </a:cubicBezTo>
                <a:cubicBezTo>
                  <a:pt x="11928" y="4499"/>
                  <a:pt x="12019" y="4514"/>
                  <a:pt x="12080" y="4490"/>
                </a:cubicBezTo>
                <a:cubicBezTo>
                  <a:pt x="12137" y="4468"/>
                  <a:pt x="12199" y="4363"/>
                  <a:pt x="12229" y="4316"/>
                </a:cubicBezTo>
                <a:cubicBezTo>
                  <a:pt x="12272" y="4248"/>
                  <a:pt x="12292" y="4201"/>
                  <a:pt x="12328" y="4142"/>
                </a:cubicBezTo>
                <a:cubicBezTo>
                  <a:pt x="12334" y="4206"/>
                  <a:pt x="12332" y="4330"/>
                  <a:pt x="12402" y="4366"/>
                </a:cubicBezTo>
                <a:cubicBezTo>
                  <a:pt x="12456" y="4394"/>
                  <a:pt x="12545" y="4410"/>
                  <a:pt x="12601" y="4415"/>
                </a:cubicBezTo>
                <a:cubicBezTo>
                  <a:pt x="12609" y="4415"/>
                  <a:pt x="12618" y="4415"/>
                  <a:pt x="12626" y="44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6"/>
          <p:cNvSpPr/>
          <p:nvPr/>
        </p:nvSpPr>
        <p:spPr>
          <a:xfrm>
            <a:off x="5938920" y="1251000"/>
            <a:ext cx="196920" cy="455400"/>
          </a:xfrm>
          <a:custGeom>
            <a:avLst/>
            <a:gdLst/>
            <a:ahLst/>
            <a:rect l="l" t="t" r="r" b="b"/>
            <a:pathLst>
              <a:path w="547" h="1266">
                <a:moveTo>
                  <a:pt x="16495" y="3473"/>
                </a:moveTo>
                <a:cubicBezTo>
                  <a:pt x="16495" y="3593"/>
                  <a:pt x="16500" y="3714"/>
                  <a:pt x="16520" y="3820"/>
                </a:cubicBezTo>
                <a:cubicBezTo>
                  <a:pt x="16571" y="4091"/>
                  <a:pt x="16500" y="4394"/>
                  <a:pt x="16545" y="4663"/>
                </a:cubicBezTo>
                <a:cubicBezTo>
                  <a:pt x="16545" y="4708"/>
                  <a:pt x="16542" y="4721"/>
                  <a:pt x="16570" y="4738"/>
                </a:cubicBezTo>
                <a:cubicBezTo>
                  <a:pt x="16581" y="4645"/>
                  <a:pt x="16620" y="4557"/>
                  <a:pt x="16644" y="4465"/>
                </a:cubicBezTo>
                <a:cubicBezTo>
                  <a:pt x="16661" y="4400"/>
                  <a:pt x="16681" y="4286"/>
                  <a:pt x="16743" y="4242"/>
                </a:cubicBezTo>
                <a:cubicBezTo>
                  <a:pt x="16798" y="4203"/>
                  <a:pt x="16873" y="4215"/>
                  <a:pt x="16917" y="4266"/>
                </a:cubicBezTo>
                <a:cubicBezTo>
                  <a:pt x="16939" y="4292"/>
                  <a:pt x="17008" y="4385"/>
                  <a:pt x="17016" y="4415"/>
                </a:cubicBezTo>
                <a:cubicBezTo>
                  <a:pt x="17033" y="4478"/>
                  <a:pt x="17050" y="4556"/>
                  <a:pt x="16991" y="4614"/>
                </a:cubicBezTo>
                <a:cubicBezTo>
                  <a:pt x="16945" y="4660"/>
                  <a:pt x="16901" y="4660"/>
                  <a:pt x="16842" y="4663"/>
                </a:cubicBezTo>
                <a:cubicBezTo>
                  <a:pt x="16772" y="4667"/>
                  <a:pt x="16725" y="4660"/>
                  <a:pt x="16669" y="4638"/>
                </a:cubicBezTo>
                <a:cubicBezTo>
                  <a:pt x="16578" y="4602"/>
                  <a:pt x="16568" y="4623"/>
                  <a:pt x="16520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7"/>
          <p:cNvSpPr/>
          <p:nvPr/>
        </p:nvSpPr>
        <p:spPr>
          <a:xfrm>
            <a:off x="2009880" y="2536920"/>
            <a:ext cx="455400" cy="25884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5904" y="7218"/>
                </a:moveTo>
                <a:cubicBezTo>
                  <a:pt x="5884" y="7161"/>
                  <a:pt x="5836" y="7147"/>
                  <a:pt x="5755" y="7169"/>
                </a:cubicBezTo>
                <a:cubicBezTo>
                  <a:pt x="5705" y="7182"/>
                  <a:pt x="5643" y="7234"/>
                  <a:pt x="5606" y="7268"/>
                </a:cubicBezTo>
                <a:cubicBezTo>
                  <a:pt x="5598" y="7276"/>
                  <a:pt x="5589" y="7285"/>
                  <a:pt x="5581" y="7293"/>
                </a:cubicBezTo>
                <a:cubicBezTo>
                  <a:pt x="5627" y="7337"/>
                  <a:pt x="5661" y="7331"/>
                  <a:pt x="5705" y="7367"/>
                </a:cubicBezTo>
                <a:cubicBezTo>
                  <a:pt x="5752" y="7405"/>
                  <a:pt x="5800" y="7438"/>
                  <a:pt x="5854" y="7466"/>
                </a:cubicBezTo>
                <a:cubicBezTo>
                  <a:pt x="5918" y="7500"/>
                  <a:pt x="5944" y="7527"/>
                  <a:pt x="5978" y="7590"/>
                </a:cubicBezTo>
                <a:cubicBezTo>
                  <a:pt x="6015" y="7659"/>
                  <a:pt x="6018" y="7737"/>
                  <a:pt x="5928" y="7764"/>
                </a:cubicBezTo>
                <a:cubicBezTo>
                  <a:pt x="5852" y="7787"/>
                  <a:pt x="5748" y="7741"/>
                  <a:pt x="5680" y="7714"/>
                </a:cubicBezTo>
                <a:cubicBezTo>
                  <a:pt x="5631" y="7694"/>
                  <a:pt x="5600" y="7678"/>
                  <a:pt x="5581" y="7640"/>
                </a:cubicBezTo>
              </a:path>
              <a:path w="1266" h="720">
                <a:moveTo>
                  <a:pt x="6251" y="7342"/>
                </a:moveTo>
                <a:cubicBezTo>
                  <a:pt x="6251" y="7425"/>
                  <a:pt x="6272" y="7469"/>
                  <a:pt x="6276" y="7541"/>
                </a:cubicBezTo>
                <a:cubicBezTo>
                  <a:pt x="6278" y="7583"/>
                  <a:pt x="6301" y="7769"/>
                  <a:pt x="6276" y="7640"/>
                </a:cubicBezTo>
                <a:cubicBezTo>
                  <a:pt x="6276" y="7632"/>
                  <a:pt x="6276" y="7623"/>
                  <a:pt x="6276" y="7615"/>
                </a:cubicBezTo>
              </a:path>
              <a:path w="1266" h="720">
                <a:moveTo>
                  <a:pt x="6300" y="7094"/>
                </a:moveTo>
                <a:cubicBezTo>
                  <a:pt x="6322" y="7072"/>
                  <a:pt x="6331" y="7067"/>
                  <a:pt x="6325" y="7045"/>
                </a:cubicBezTo>
              </a:path>
              <a:path w="1266" h="720">
                <a:moveTo>
                  <a:pt x="6474" y="7565"/>
                </a:moveTo>
                <a:cubicBezTo>
                  <a:pt x="6482" y="7615"/>
                  <a:pt x="6491" y="7664"/>
                  <a:pt x="6499" y="7714"/>
                </a:cubicBezTo>
                <a:cubicBezTo>
                  <a:pt x="6499" y="7624"/>
                  <a:pt x="6516" y="7552"/>
                  <a:pt x="6524" y="7466"/>
                </a:cubicBezTo>
                <a:cubicBezTo>
                  <a:pt x="6533" y="7372"/>
                  <a:pt x="6520" y="7317"/>
                  <a:pt x="6598" y="7268"/>
                </a:cubicBezTo>
                <a:cubicBezTo>
                  <a:pt x="6664" y="7227"/>
                  <a:pt x="6675" y="7271"/>
                  <a:pt x="6722" y="7317"/>
                </a:cubicBezTo>
                <a:cubicBezTo>
                  <a:pt x="6744" y="7339"/>
                  <a:pt x="6788" y="7435"/>
                  <a:pt x="6796" y="7466"/>
                </a:cubicBezTo>
                <a:cubicBezTo>
                  <a:pt x="6817" y="7547"/>
                  <a:pt x="6786" y="7684"/>
                  <a:pt x="6846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2608200" y="2438280"/>
            <a:ext cx="1017720" cy="401760"/>
          </a:xfrm>
          <a:custGeom>
            <a:avLst/>
            <a:gdLst/>
            <a:ahLst/>
            <a:rect l="l" t="t" r="r" b="b"/>
            <a:pathLst>
              <a:path w="2829" h="1117">
                <a:moveTo>
                  <a:pt x="7243" y="6970"/>
                </a:moveTo>
                <a:cubicBezTo>
                  <a:pt x="7322" y="6948"/>
                  <a:pt x="7390" y="6923"/>
                  <a:pt x="7466" y="6970"/>
                </a:cubicBezTo>
                <a:cubicBezTo>
                  <a:pt x="7529" y="7009"/>
                  <a:pt x="7522" y="7048"/>
                  <a:pt x="7516" y="7094"/>
                </a:cubicBezTo>
                <a:cubicBezTo>
                  <a:pt x="7504" y="7183"/>
                  <a:pt x="7454" y="7187"/>
                  <a:pt x="7392" y="7243"/>
                </a:cubicBezTo>
                <a:cubicBezTo>
                  <a:pt x="7367" y="7266"/>
                  <a:pt x="7305" y="7342"/>
                  <a:pt x="7342" y="7268"/>
                </a:cubicBezTo>
                <a:cubicBezTo>
                  <a:pt x="7439" y="7268"/>
                  <a:pt x="7442" y="7256"/>
                  <a:pt x="7466" y="7342"/>
                </a:cubicBezTo>
                <a:cubicBezTo>
                  <a:pt x="7487" y="7420"/>
                  <a:pt x="7515" y="7533"/>
                  <a:pt x="7491" y="7615"/>
                </a:cubicBezTo>
                <a:cubicBezTo>
                  <a:pt x="7469" y="7688"/>
                  <a:pt x="7356" y="7711"/>
                  <a:pt x="7293" y="7689"/>
                </a:cubicBezTo>
                <a:cubicBezTo>
                  <a:pt x="7268" y="7665"/>
                  <a:pt x="7259" y="7657"/>
                  <a:pt x="7243" y="7640"/>
                </a:cubicBezTo>
              </a:path>
              <a:path w="2829" h="1117">
                <a:moveTo>
                  <a:pt x="7913" y="7169"/>
                </a:moveTo>
                <a:cubicBezTo>
                  <a:pt x="7891" y="7102"/>
                  <a:pt x="7886" y="7084"/>
                  <a:pt x="7863" y="7045"/>
                </a:cubicBezTo>
                <a:cubicBezTo>
                  <a:pt x="7803" y="7053"/>
                  <a:pt x="7766" y="7080"/>
                  <a:pt x="7714" y="7119"/>
                </a:cubicBezTo>
                <a:cubicBezTo>
                  <a:pt x="7662" y="7158"/>
                  <a:pt x="7626" y="7227"/>
                  <a:pt x="7640" y="7293"/>
                </a:cubicBezTo>
                <a:cubicBezTo>
                  <a:pt x="7658" y="7378"/>
                  <a:pt x="7723" y="7393"/>
                  <a:pt x="7789" y="7367"/>
                </a:cubicBezTo>
                <a:cubicBezTo>
                  <a:pt x="7859" y="7340"/>
                  <a:pt x="7898" y="7292"/>
                  <a:pt x="7913" y="7218"/>
                </a:cubicBezTo>
                <a:cubicBezTo>
                  <a:pt x="7913" y="7202"/>
                  <a:pt x="7913" y="7185"/>
                  <a:pt x="7913" y="7169"/>
                </a:cubicBezTo>
                <a:cubicBezTo>
                  <a:pt x="7883" y="7249"/>
                  <a:pt x="7907" y="7311"/>
                  <a:pt x="7888" y="7392"/>
                </a:cubicBezTo>
                <a:cubicBezTo>
                  <a:pt x="7872" y="7458"/>
                  <a:pt x="7840" y="7542"/>
                  <a:pt x="7863" y="7615"/>
                </a:cubicBezTo>
                <a:cubicBezTo>
                  <a:pt x="7888" y="7695"/>
                  <a:pt x="7863" y="7703"/>
                  <a:pt x="7888" y="7615"/>
                </a:cubicBezTo>
              </a:path>
              <a:path w="2829" h="1117">
                <a:moveTo>
                  <a:pt x="8111" y="7094"/>
                </a:moveTo>
                <a:cubicBezTo>
                  <a:pt x="8162" y="7043"/>
                  <a:pt x="8098" y="7144"/>
                  <a:pt x="8086" y="7169"/>
                </a:cubicBezTo>
                <a:cubicBezTo>
                  <a:pt x="8059" y="7224"/>
                  <a:pt x="8053" y="7280"/>
                  <a:pt x="8037" y="7342"/>
                </a:cubicBezTo>
                <a:cubicBezTo>
                  <a:pt x="8016" y="7422"/>
                  <a:pt x="7982" y="7556"/>
                  <a:pt x="8012" y="7640"/>
                </a:cubicBezTo>
                <a:cubicBezTo>
                  <a:pt x="8031" y="7694"/>
                  <a:pt x="8050" y="7768"/>
                  <a:pt x="8136" y="7764"/>
                </a:cubicBezTo>
                <a:cubicBezTo>
                  <a:pt x="8207" y="7760"/>
                  <a:pt x="8273" y="7685"/>
                  <a:pt x="8310" y="7640"/>
                </a:cubicBezTo>
                <a:cubicBezTo>
                  <a:pt x="8362" y="7577"/>
                  <a:pt x="8359" y="7518"/>
                  <a:pt x="8359" y="7441"/>
                </a:cubicBezTo>
                <a:cubicBezTo>
                  <a:pt x="8359" y="7369"/>
                  <a:pt x="8350" y="7273"/>
                  <a:pt x="8310" y="7218"/>
                </a:cubicBezTo>
                <a:cubicBezTo>
                  <a:pt x="8222" y="7097"/>
                  <a:pt x="8247" y="7146"/>
                  <a:pt x="8161" y="7094"/>
                </a:cubicBezTo>
              </a:path>
              <a:path w="2829" h="1117">
                <a:moveTo>
                  <a:pt x="8458" y="6871"/>
                </a:moveTo>
                <a:cubicBezTo>
                  <a:pt x="8407" y="6858"/>
                  <a:pt x="8371" y="6946"/>
                  <a:pt x="8434" y="6970"/>
                </a:cubicBezTo>
                <a:cubicBezTo>
                  <a:pt x="8497" y="6994"/>
                  <a:pt x="8542" y="6961"/>
                  <a:pt x="8582" y="6921"/>
                </a:cubicBezTo>
                <a:cubicBezTo>
                  <a:pt x="8630" y="6873"/>
                  <a:pt x="8597" y="6798"/>
                  <a:pt x="8533" y="6772"/>
                </a:cubicBezTo>
                <a:cubicBezTo>
                  <a:pt x="8491" y="6772"/>
                  <a:pt x="8483" y="6772"/>
                  <a:pt x="8458" y="6772"/>
                </a:cubicBezTo>
              </a:path>
              <a:path w="2829" h="1117">
                <a:moveTo>
                  <a:pt x="9029" y="7342"/>
                </a:moveTo>
                <a:cubicBezTo>
                  <a:pt x="8989" y="7302"/>
                  <a:pt x="8943" y="7269"/>
                  <a:pt x="8905" y="7342"/>
                </a:cubicBezTo>
                <a:cubicBezTo>
                  <a:pt x="8871" y="7407"/>
                  <a:pt x="8852" y="7479"/>
                  <a:pt x="8830" y="7541"/>
                </a:cubicBezTo>
                <a:cubicBezTo>
                  <a:pt x="8795" y="7642"/>
                  <a:pt x="8809" y="7677"/>
                  <a:pt x="8855" y="7764"/>
                </a:cubicBezTo>
                <a:cubicBezTo>
                  <a:pt x="8899" y="7847"/>
                  <a:pt x="8910" y="7828"/>
                  <a:pt x="8979" y="7863"/>
                </a:cubicBezTo>
                <a:cubicBezTo>
                  <a:pt x="9021" y="7884"/>
                  <a:pt x="9099" y="7909"/>
                  <a:pt x="9153" y="7888"/>
                </a:cubicBezTo>
                <a:cubicBezTo>
                  <a:pt x="9222" y="7861"/>
                  <a:pt x="9230" y="7851"/>
                  <a:pt x="9277" y="7789"/>
                </a:cubicBezTo>
                <a:cubicBezTo>
                  <a:pt x="9307" y="7759"/>
                  <a:pt x="9318" y="7745"/>
                  <a:pt x="9327" y="7714"/>
                </a:cubicBezTo>
              </a:path>
              <a:path w="2829" h="1117">
                <a:moveTo>
                  <a:pt x="9327" y="7491"/>
                </a:moveTo>
                <a:cubicBezTo>
                  <a:pt x="9303" y="7554"/>
                  <a:pt x="9265" y="7644"/>
                  <a:pt x="9277" y="7714"/>
                </a:cubicBezTo>
                <a:cubicBezTo>
                  <a:pt x="9295" y="7820"/>
                  <a:pt x="9323" y="7835"/>
                  <a:pt x="9401" y="7863"/>
                </a:cubicBezTo>
                <a:cubicBezTo>
                  <a:pt x="9445" y="7879"/>
                  <a:pt x="9586" y="7890"/>
                  <a:pt x="9624" y="7838"/>
                </a:cubicBezTo>
                <a:cubicBezTo>
                  <a:pt x="9708" y="7722"/>
                  <a:pt x="9727" y="7645"/>
                  <a:pt x="9649" y="7541"/>
                </a:cubicBezTo>
                <a:cubicBezTo>
                  <a:pt x="9625" y="7509"/>
                  <a:pt x="9561" y="7463"/>
                  <a:pt x="9525" y="7441"/>
                </a:cubicBezTo>
                <a:cubicBezTo>
                  <a:pt x="9466" y="7404"/>
                  <a:pt x="9380" y="7402"/>
                  <a:pt x="9327" y="7441"/>
                </a:cubicBezTo>
                <a:cubicBezTo>
                  <a:pt x="9319" y="7449"/>
                  <a:pt x="9310" y="7458"/>
                  <a:pt x="9302" y="7466"/>
                </a:cubicBezTo>
              </a:path>
              <a:path w="2829" h="1117">
                <a:moveTo>
                  <a:pt x="10021" y="7317"/>
                </a:moveTo>
                <a:cubicBezTo>
                  <a:pt x="9907" y="7337"/>
                  <a:pt x="9863" y="7340"/>
                  <a:pt x="9773" y="7392"/>
                </a:cubicBezTo>
                <a:cubicBezTo>
                  <a:pt x="9818" y="7469"/>
                  <a:pt x="9849" y="7484"/>
                  <a:pt x="9922" y="7541"/>
                </a:cubicBezTo>
                <a:cubicBezTo>
                  <a:pt x="9977" y="7585"/>
                  <a:pt x="10006" y="7636"/>
                  <a:pt x="10046" y="7689"/>
                </a:cubicBezTo>
                <a:cubicBezTo>
                  <a:pt x="10074" y="7717"/>
                  <a:pt x="10083" y="7731"/>
                  <a:pt x="10071" y="7764"/>
                </a:cubicBezTo>
                <a:cubicBezTo>
                  <a:pt x="10001" y="7811"/>
                  <a:pt x="9911" y="7832"/>
                  <a:pt x="9823" y="7813"/>
                </a:cubicBezTo>
                <a:cubicBezTo>
                  <a:pt x="9773" y="7789"/>
                  <a:pt x="9756" y="7781"/>
                  <a:pt x="9798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3768840" y="2438280"/>
            <a:ext cx="1446120" cy="401760"/>
          </a:xfrm>
          <a:custGeom>
            <a:avLst/>
            <a:gdLst/>
            <a:ahLst/>
            <a:rect l="l" t="t" r="r" b="b"/>
            <a:pathLst>
              <a:path w="4019" h="1117">
                <a:moveTo>
                  <a:pt x="10468" y="7218"/>
                </a:moveTo>
                <a:cubicBezTo>
                  <a:pt x="10468" y="7365"/>
                  <a:pt x="10449" y="7524"/>
                  <a:pt x="10492" y="7665"/>
                </a:cubicBezTo>
                <a:cubicBezTo>
                  <a:pt x="10512" y="7729"/>
                  <a:pt x="10503" y="7815"/>
                  <a:pt x="10542" y="7863"/>
                </a:cubicBezTo>
                <a:cubicBezTo>
                  <a:pt x="10572" y="7901"/>
                  <a:pt x="10550" y="7872"/>
                  <a:pt x="10567" y="7813"/>
                </a:cubicBezTo>
              </a:path>
              <a:path w="4019" h="1117">
                <a:moveTo>
                  <a:pt x="10716" y="7417"/>
                </a:moveTo>
                <a:cubicBezTo>
                  <a:pt x="10753" y="7376"/>
                  <a:pt x="10826" y="7281"/>
                  <a:pt x="10889" y="7268"/>
                </a:cubicBezTo>
                <a:cubicBezTo>
                  <a:pt x="11009" y="7243"/>
                  <a:pt x="11033" y="7346"/>
                  <a:pt x="11013" y="7441"/>
                </a:cubicBezTo>
                <a:cubicBezTo>
                  <a:pt x="10994" y="7533"/>
                  <a:pt x="10952" y="7577"/>
                  <a:pt x="10889" y="7640"/>
                </a:cubicBezTo>
                <a:cubicBezTo>
                  <a:pt x="10838" y="7691"/>
                  <a:pt x="10810" y="7732"/>
                  <a:pt x="10765" y="7789"/>
                </a:cubicBezTo>
                <a:cubicBezTo>
                  <a:pt x="10757" y="7805"/>
                  <a:pt x="10748" y="7822"/>
                  <a:pt x="10740" y="7838"/>
                </a:cubicBezTo>
                <a:cubicBezTo>
                  <a:pt x="10808" y="7879"/>
                  <a:pt x="10848" y="7850"/>
                  <a:pt x="10914" y="7838"/>
                </a:cubicBezTo>
                <a:cubicBezTo>
                  <a:pt x="10988" y="7824"/>
                  <a:pt x="11040" y="7844"/>
                  <a:pt x="11112" y="7813"/>
                </a:cubicBezTo>
                <a:cubicBezTo>
                  <a:pt x="11129" y="7805"/>
                  <a:pt x="11145" y="7797"/>
                  <a:pt x="11162" y="7789"/>
                </a:cubicBezTo>
              </a:path>
              <a:path w="4019" h="1117">
                <a:moveTo>
                  <a:pt x="11311" y="7268"/>
                </a:moveTo>
                <a:cubicBezTo>
                  <a:pt x="11244" y="7316"/>
                  <a:pt x="11225" y="7365"/>
                  <a:pt x="11187" y="7441"/>
                </a:cubicBezTo>
                <a:cubicBezTo>
                  <a:pt x="11159" y="7496"/>
                  <a:pt x="11121" y="7627"/>
                  <a:pt x="11137" y="7689"/>
                </a:cubicBezTo>
                <a:cubicBezTo>
                  <a:pt x="11148" y="7732"/>
                  <a:pt x="11223" y="7771"/>
                  <a:pt x="11261" y="7764"/>
                </a:cubicBezTo>
                <a:cubicBezTo>
                  <a:pt x="11371" y="7744"/>
                  <a:pt x="11381" y="7689"/>
                  <a:pt x="11385" y="7590"/>
                </a:cubicBezTo>
                <a:cubicBezTo>
                  <a:pt x="11389" y="7480"/>
                  <a:pt x="11340" y="7456"/>
                  <a:pt x="11286" y="7367"/>
                </a:cubicBezTo>
                <a:cubicBezTo>
                  <a:pt x="11264" y="7331"/>
                  <a:pt x="11246" y="7304"/>
                  <a:pt x="11237" y="7268"/>
                </a:cubicBezTo>
              </a:path>
              <a:path w="4019" h="1117">
                <a:moveTo>
                  <a:pt x="11534" y="6896"/>
                </a:moveTo>
                <a:cubicBezTo>
                  <a:pt x="11514" y="6956"/>
                  <a:pt x="11495" y="6971"/>
                  <a:pt x="11534" y="6995"/>
                </a:cubicBezTo>
                <a:cubicBezTo>
                  <a:pt x="11593" y="6961"/>
                  <a:pt x="11640" y="6926"/>
                  <a:pt x="11609" y="6846"/>
                </a:cubicBezTo>
                <a:cubicBezTo>
                  <a:pt x="11596" y="6812"/>
                  <a:pt x="11540" y="6775"/>
                  <a:pt x="11509" y="6772"/>
                </a:cubicBezTo>
                <a:cubicBezTo>
                  <a:pt x="11501" y="6772"/>
                  <a:pt x="11493" y="6772"/>
                  <a:pt x="11485" y="6772"/>
                </a:cubicBezTo>
              </a:path>
              <a:path w="4019" h="1117">
                <a:moveTo>
                  <a:pt x="11931" y="7392"/>
                </a:moveTo>
                <a:cubicBezTo>
                  <a:pt x="12076" y="7392"/>
                  <a:pt x="12217" y="7405"/>
                  <a:pt x="12353" y="7417"/>
                </a:cubicBezTo>
                <a:cubicBezTo>
                  <a:pt x="12490" y="7430"/>
                  <a:pt x="12636" y="7417"/>
                  <a:pt x="12774" y="7417"/>
                </a:cubicBezTo>
              </a:path>
              <a:path w="4019" h="1117">
                <a:moveTo>
                  <a:pt x="13395" y="7342"/>
                </a:moveTo>
                <a:cubicBezTo>
                  <a:pt x="13395" y="7359"/>
                  <a:pt x="13395" y="7375"/>
                  <a:pt x="13395" y="7392"/>
                </a:cubicBezTo>
                <a:cubicBezTo>
                  <a:pt x="13350" y="7302"/>
                  <a:pt x="13347" y="7273"/>
                  <a:pt x="13246" y="7317"/>
                </a:cubicBezTo>
                <a:cubicBezTo>
                  <a:pt x="13165" y="7353"/>
                  <a:pt x="13169" y="7398"/>
                  <a:pt x="13122" y="7466"/>
                </a:cubicBezTo>
                <a:cubicBezTo>
                  <a:pt x="13096" y="7504"/>
                  <a:pt x="13058" y="7589"/>
                  <a:pt x="13047" y="7640"/>
                </a:cubicBezTo>
                <a:cubicBezTo>
                  <a:pt x="13032" y="7708"/>
                  <a:pt x="13052" y="7764"/>
                  <a:pt x="13097" y="7813"/>
                </a:cubicBezTo>
                <a:cubicBezTo>
                  <a:pt x="13157" y="7878"/>
                  <a:pt x="13225" y="7870"/>
                  <a:pt x="13295" y="7838"/>
                </a:cubicBezTo>
                <a:cubicBezTo>
                  <a:pt x="13312" y="7830"/>
                  <a:pt x="13328" y="7821"/>
                  <a:pt x="13345" y="7813"/>
                </a:cubicBezTo>
              </a:path>
              <a:path w="4019" h="1117">
                <a:moveTo>
                  <a:pt x="13643" y="7417"/>
                </a:moveTo>
                <a:cubicBezTo>
                  <a:pt x="13594" y="7489"/>
                  <a:pt x="13593" y="7561"/>
                  <a:pt x="13568" y="7640"/>
                </a:cubicBezTo>
                <a:cubicBezTo>
                  <a:pt x="13548" y="7701"/>
                  <a:pt x="13550" y="7760"/>
                  <a:pt x="13593" y="7813"/>
                </a:cubicBezTo>
                <a:cubicBezTo>
                  <a:pt x="13645" y="7877"/>
                  <a:pt x="13686" y="7884"/>
                  <a:pt x="13767" y="7888"/>
                </a:cubicBezTo>
                <a:cubicBezTo>
                  <a:pt x="13842" y="7892"/>
                  <a:pt x="13864" y="7890"/>
                  <a:pt x="13915" y="7838"/>
                </a:cubicBezTo>
                <a:cubicBezTo>
                  <a:pt x="13990" y="7762"/>
                  <a:pt x="14030" y="7765"/>
                  <a:pt x="13990" y="7640"/>
                </a:cubicBezTo>
                <a:cubicBezTo>
                  <a:pt x="13968" y="7570"/>
                  <a:pt x="13926" y="7527"/>
                  <a:pt x="13866" y="7491"/>
                </a:cubicBezTo>
                <a:cubicBezTo>
                  <a:pt x="13808" y="7456"/>
                  <a:pt x="13698" y="7434"/>
                  <a:pt x="13717" y="7491"/>
                </a:cubicBezTo>
              </a:path>
              <a:path w="4019" h="1117">
                <a:moveTo>
                  <a:pt x="14288" y="7417"/>
                </a:moveTo>
                <a:cubicBezTo>
                  <a:pt x="14273" y="7309"/>
                  <a:pt x="14249" y="7352"/>
                  <a:pt x="14163" y="7367"/>
                </a:cubicBezTo>
                <a:cubicBezTo>
                  <a:pt x="14147" y="7367"/>
                  <a:pt x="14130" y="7367"/>
                  <a:pt x="14114" y="7367"/>
                </a:cubicBezTo>
                <a:cubicBezTo>
                  <a:pt x="14142" y="7465"/>
                  <a:pt x="14198" y="7440"/>
                  <a:pt x="14288" y="7491"/>
                </a:cubicBezTo>
                <a:cubicBezTo>
                  <a:pt x="14357" y="7531"/>
                  <a:pt x="14392" y="7606"/>
                  <a:pt x="14436" y="7665"/>
                </a:cubicBezTo>
                <a:cubicBezTo>
                  <a:pt x="14483" y="7728"/>
                  <a:pt x="14486" y="7759"/>
                  <a:pt x="14486" y="7838"/>
                </a:cubicBezTo>
                <a:cubicBezTo>
                  <a:pt x="14429" y="7838"/>
                  <a:pt x="14334" y="7858"/>
                  <a:pt x="14288" y="7813"/>
                </a:cubicBezTo>
                <a:cubicBezTo>
                  <a:pt x="14288" y="7805"/>
                  <a:pt x="14288" y="7797"/>
                  <a:pt x="14288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0"/>
          <p:cNvSpPr/>
          <p:nvPr/>
        </p:nvSpPr>
        <p:spPr>
          <a:xfrm>
            <a:off x="5384880" y="2473200"/>
            <a:ext cx="58896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14957" y="7218"/>
                </a:moveTo>
                <a:cubicBezTo>
                  <a:pt x="15000" y="7175"/>
                  <a:pt x="15045" y="7154"/>
                  <a:pt x="15106" y="7144"/>
                </a:cubicBezTo>
                <a:cubicBezTo>
                  <a:pt x="15181" y="7132"/>
                  <a:pt x="15250" y="7174"/>
                  <a:pt x="15304" y="7218"/>
                </a:cubicBezTo>
                <a:cubicBezTo>
                  <a:pt x="15264" y="7289"/>
                  <a:pt x="15242" y="7295"/>
                  <a:pt x="15180" y="7342"/>
                </a:cubicBezTo>
                <a:cubicBezTo>
                  <a:pt x="15142" y="7371"/>
                  <a:pt x="15125" y="7392"/>
                  <a:pt x="15081" y="7417"/>
                </a:cubicBezTo>
                <a:cubicBezTo>
                  <a:pt x="15156" y="7417"/>
                  <a:pt x="15197" y="7414"/>
                  <a:pt x="15255" y="7466"/>
                </a:cubicBezTo>
                <a:cubicBezTo>
                  <a:pt x="15308" y="7513"/>
                  <a:pt x="15302" y="7537"/>
                  <a:pt x="15329" y="7590"/>
                </a:cubicBezTo>
                <a:cubicBezTo>
                  <a:pt x="15366" y="7664"/>
                  <a:pt x="15322" y="7699"/>
                  <a:pt x="15255" y="7739"/>
                </a:cubicBezTo>
                <a:cubicBezTo>
                  <a:pt x="15192" y="7777"/>
                  <a:pt x="15136" y="7810"/>
                  <a:pt x="15056" y="7789"/>
                </a:cubicBezTo>
                <a:cubicBezTo>
                  <a:pt x="15016" y="7769"/>
                  <a:pt x="15000" y="7770"/>
                  <a:pt x="15007" y="7739"/>
                </a:cubicBezTo>
              </a:path>
              <a:path w="1638" h="1043">
                <a:moveTo>
                  <a:pt x="15801" y="7317"/>
                </a:moveTo>
                <a:cubicBezTo>
                  <a:pt x="15801" y="7239"/>
                  <a:pt x="15816" y="7221"/>
                  <a:pt x="15776" y="7193"/>
                </a:cubicBezTo>
                <a:cubicBezTo>
                  <a:pt x="15698" y="7163"/>
                  <a:pt x="15684" y="7201"/>
                  <a:pt x="15627" y="7243"/>
                </a:cubicBezTo>
                <a:cubicBezTo>
                  <a:pt x="15560" y="7292"/>
                  <a:pt x="15542" y="7340"/>
                  <a:pt x="15503" y="7417"/>
                </a:cubicBezTo>
                <a:cubicBezTo>
                  <a:pt x="15465" y="7492"/>
                  <a:pt x="15501" y="7513"/>
                  <a:pt x="15553" y="7565"/>
                </a:cubicBezTo>
                <a:cubicBezTo>
                  <a:pt x="15598" y="7610"/>
                  <a:pt x="15674" y="7597"/>
                  <a:pt x="15726" y="7565"/>
                </a:cubicBezTo>
                <a:cubicBezTo>
                  <a:pt x="15771" y="7538"/>
                  <a:pt x="15802" y="7485"/>
                  <a:pt x="15825" y="7441"/>
                </a:cubicBezTo>
                <a:cubicBezTo>
                  <a:pt x="15852" y="7389"/>
                  <a:pt x="15958" y="7295"/>
                  <a:pt x="15900" y="7293"/>
                </a:cubicBezTo>
                <a:cubicBezTo>
                  <a:pt x="15879" y="7292"/>
                  <a:pt x="15853" y="7447"/>
                  <a:pt x="15850" y="7466"/>
                </a:cubicBezTo>
                <a:cubicBezTo>
                  <a:pt x="15837" y="7546"/>
                  <a:pt x="15829" y="7633"/>
                  <a:pt x="15825" y="7714"/>
                </a:cubicBezTo>
                <a:cubicBezTo>
                  <a:pt x="15823" y="7753"/>
                  <a:pt x="15763" y="7859"/>
                  <a:pt x="15825" y="7813"/>
                </a:cubicBezTo>
                <a:cubicBezTo>
                  <a:pt x="15854" y="7785"/>
                  <a:pt x="15862" y="7772"/>
                  <a:pt x="15850" y="7739"/>
                </a:cubicBezTo>
              </a:path>
              <a:path w="1638" h="1043">
                <a:moveTo>
                  <a:pt x="16098" y="7243"/>
                </a:moveTo>
                <a:cubicBezTo>
                  <a:pt x="16086" y="7340"/>
                  <a:pt x="16042" y="7417"/>
                  <a:pt x="16024" y="7516"/>
                </a:cubicBezTo>
                <a:cubicBezTo>
                  <a:pt x="16009" y="7598"/>
                  <a:pt x="16006" y="7766"/>
                  <a:pt x="16049" y="7838"/>
                </a:cubicBezTo>
                <a:cubicBezTo>
                  <a:pt x="16088" y="7902"/>
                  <a:pt x="16128" y="7910"/>
                  <a:pt x="16197" y="7913"/>
                </a:cubicBezTo>
                <a:cubicBezTo>
                  <a:pt x="16273" y="7917"/>
                  <a:pt x="16312" y="7874"/>
                  <a:pt x="16371" y="7838"/>
                </a:cubicBezTo>
                <a:cubicBezTo>
                  <a:pt x="16458" y="7786"/>
                  <a:pt x="16465" y="7717"/>
                  <a:pt x="16470" y="7615"/>
                </a:cubicBezTo>
                <a:cubicBezTo>
                  <a:pt x="16474" y="7541"/>
                  <a:pt x="16469" y="7460"/>
                  <a:pt x="16446" y="7392"/>
                </a:cubicBezTo>
                <a:cubicBezTo>
                  <a:pt x="16428" y="7338"/>
                  <a:pt x="16385" y="7306"/>
                  <a:pt x="16346" y="7268"/>
                </a:cubicBezTo>
                <a:cubicBezTo>
                  <a:pt x="16313" y="7235"/>
                  <a:pt x="16283" y="7212"/>
                  <a:pt x="16272" y="7169"/>
                </a:cubicBezTo>
              </a:path>
              <a:path w="1638" h="1043">
                <a:moveTo>
                  <a:pt x="16520" y="6970"/>
                </a:moveTo>
                <a:cubicBezTo>
                  <a:pt x="16496" y="7033"/>
                  <a:pt x="16472" y="7073"/>
                  <a:pt x="16495" y="7119"/>
                </a:cubicBezTo>
                <a:cubicBezTo>
                  <a:pt x="16584" y="7106"/>
                  <a:pt x="16611" y="7044"/>
                  <a:pt x="16594" y="6945"/>
                </a:cubicBezTo>
                <a:cubicBezTo>
                  <a:pt x="16570" y="6896"/>
                  <a:pt x="16561" y="6879"/>
                  <a:pt x="16520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1"/>
          <p:cNvSpPr/>
          <p:nvPr/>
        </p:nvSpPr>
        <p:spPr>
          <a:xfrm>
            <a:off x="6107040" y="2463840"/>
            <a:ext cx="1216080" cy="366840"/>
          </a:xfrm>
          <a:custGeom>
            <a:avLst/>
            <a:gdLst/>
            <a:ahLst/>
            <a:rect l="l" t="t" r="r" b="b"/>
            <a:pathLst>
              <a:path w="3375" h="1018">
                <a:moveTo>
                  <a:pt x="17239" y="7367"/>
                </a:moveTo>
                <a:cubicBezTo>
                  <a:pt x="17229" y="7295"/>
                  <a:pt x="17208" y="7249"/>
                  <a:pt x="17115" y="7268"/>
                </a:cubicBezTo>
                <a:cubicBezTo>
                  <a:pt x="17079" y="7275"/>
                  <a:pt x="16980" y="7295"/>
                  <a:pt x="16966" y="7342"/>
                </a:cubicBezTo>
                <a:cubicBezTo>
                  <a:pt x="16942" y="7426"/>
                  <a:pt x="17041" y="7432"/>
                  <a:pt x="17090" y="7466"/>
                </a:cubicBezTo>
                <a:cubicBezTo>
                  <a:pt x="17161" y="7515"/>
                  <a:pt x="17237" y="7568"/>
                  <a:pt x="17289" y="7640"/>
                </a:cubicBezTo>
                <a:cubicBezTo>
                  <a:pt x="17337" y="7707"/>
                  <a:pt x="17313" y="7759"/>
                  <a:pt x="17264" y="7813"/>
                </a:cubicBezTo>
                <a:cubicBezTo>
                  <a:pt x="17238" y="7842"/>
                  <a:pt x="17083" y="7846"/>
                  <a:pt x="17066" y="7813"/>
                </a:cubicBezTo>
                <a:cubicBezTo>
                  <a:pt x="17074" y="7805"/>
                  <a:pt x="17082" y="7797"/>
                  <a:pt x="17090" y="7789"/>
                </a:cubicBezTo>
              </a:path>
              <a:path w="3375" h="1018">
                <a:moveTo>
                  <a:pt x="17611" y="7466"/>
                </a:moveTo>
                <a:cubicBezTo>
                  <a:pt x="17596" y="7563"/>
                  <a:pt x="17532" y="7741"/>
                  <a:pt x="17587" y="7838"/>
                </a:cubicBezTo>
                <a:cubicBezTo>
                  <a:pt x="17611" y="7863"/>
                  <a:pt x="17619" y="7871"/>
                  <a:pt x="17636" y="7838"/>
                </a:cubicBezTo>
              </a:path>
              <a:path w="3375" h="1018">
                <a:moveTo>
                  <a:pt x="17686" y="7193"/>
                </a:moveTo>
                <a:cubicBezTo>
                  <a:pt x="17686" y="7149"/>
                  <a:pt x="17683" y="7135"/>
                  <a:pt x="17711" y="7119"/>
                </a:cubicBezTo>
              </a:path>
              <a:path w="3375" h="1018">
                <a:moveTo>
                  <a:pt x="17810" y="7739"/>
                </a:moveTo>
                <a:cubicBezTo>
                  <a:pt x="17810" y="7780"/>
                  <a:pt x="17810" y="7822"/>
                  <a:pt x="17810" y="7863"/>
                </a:cubicBezTo>
                <a:cubicBezTo>
                  <a:pt x="17810" y="7757"/>
                  <a:pt x="17819" y="7664"/>
                  <a:pt x="17835" y="7565"/>
                </a:cubicBezTo>
                <a:cubicBezTo>
                  <a:pt x="17848" y="7481"/>
                  <a:pt x="17845" y="7424"/>
                  <a:pt x="17884" y="7342"/>
                </a:cubicBezTo>
                <a:cubicBezTo>
                  <a:pt x="17921" y="7265"/>
                  <a:pt x="18024" y="7238"/>
                  <a:pt x="18107" y="7268"/>
                </a:cubicBezTo>
                <a:cubicBezTo>
                  <a:pt x="18214" y="7307"/>
                  <a:pt x="18203" y="7382"/>
                  <a:pt x="18231" y="7466"/>
                </a:cubicBezTo>
                <a:cubicBezTo>
                  <a:pt x="18257" y="7544"/>
                  <a:pt x="18255" y="7640"/>
                  <a:pt x="18281" y="7714"/>
                </a:cubicBezTo>
                <a:cubicBezTo>
                  <a:pt x="18309" y="7742"/>
                  <a:pt x="18318" y="7756"/>
                  <a:pt x="18306" y="7789"/>
                </a:cubicBezTo>
              </a:path>
              <a:path w="3375" h="1018">
                <a:moveTo>
                  <a:pt x="18678" y="7094"/>
                </a:moveTo>
                <a:cubicBezTo>
                  <a:pt x="18678" y="7221"/>
                  <a:pt x="18659" y="7321"/>
                  <a:pt x="18653" y="7441"/>
                </a:cubicBezTo>
                <a:cubicBezTo>
                  <a:pt x="18648" y="7547"/>
                  <a:pt x="18624" y="7720"/>
                  <a:pt x="18678" y="7813"/>
                </a:cubicBezTo>
                <a:cubicBezTo>
                  <a:pt x="18724" y="7893"/>
                  <a:pt x="18703" y="7754"/>
                  <a:pt x="18703" y="7739"/>
                </a:cubicBezTo>
              </a:path>
              <a:path w="3375" h="1018">
                <a:moveTo>
                  <a:pt x="18901" y="7193"/>
                </a:moveTo>
                <a:cubicBezTo>
                  <a:pt x="18940" y="7154"/>
                  <a:pt x="18993" y="7083"/>
                  <a:pt x="19050" y="7069"/>
                </a:cubicBezTo>
                <a:cubicBezTo>
                  <a:pt x="19130" y="7050"/>
                  <a:pt x="19196" y="7091"/>
                  <a:pt x="19248" y="7144"/>
                </a:cubicBezTo>
                <a:cubicBezTo>
                  <a:pt x="19300" y="7196"/>
                  <a:pt x="19280" y="7259"/>
                  <a:pt x="19273" y="7317"/>
                </a:cubicBezTo>
                <a:cubicBezTo>
                  <a:pt x="19263" y="7408"/>
                  <a:pt x="19266" y="7457"/>
                  <a:pt x="19224" y="7541"/>
                </a:cubicBezTo>
                <a:cubicBezTo>
                  <a:pt x="19194" y="7600"/>
                  <a:pt x="19163" y="7661"/>
                  <a:pt x="19124" y="7714"/>
                </a:cubicBezTo>
                <a:cubicBezTo>
                  <a:pt x="19089" y="7761"/>
                  <a:pt x="19096" y="7792"/>
                  <a:pt x="19050" y="7838"/>
                </a:cubicBezTo>
                <a:cubicBezTo>
                  <a:pt x="19107" y="7872"/>
                  <a:pt x="19202" y="7881"/>
                  <a:pt x="19273" y="7863"/>
                </a:cubicBezTo>
                <a:cubicBezTo>
                  <a:pt x="19319" y="7852"/>
                  <a:pt x="19361" y="7817"/>
                  <a:pt x="19397" y="7789"/>
                </a:cubicBezTo>
              </a:path>
              <a:path w="3375" h="1018">
                <a:moveTo>
                  <a:pt x="19645" y="7094"/>
                </a:moveTo>
                <a:cubicBezTo>
                  <a:pt x="19592" y="7178"/>
                  <a:pt x="19541" y="7269"/>
                  <a:pt x="19521" y="7367"/>
                </a:cubicBezTo>
                <a:cubicBezTo>
                  <a:pt x="19507" y="7438"/>
                  <a:pt x="19499" y="7518"/>
                  <a:pt x="19496" y="7590"/>
                </a:cubicBezTo>
                <a:cubicBezTo>
                  <a:pt x="19493" y="7642"/>
                  <a:pt x="19517" y="7724"/>
                  <a:pt x="19546" y="7764"/>
                </a:cubicBezTo>
                <a:cubicBezTo>
                  <a:pt x="19596" y="7832"/>
                  <a:pt x="19703" y="7822"/>
                  <a:pt x="19769" y="7789"/>
                </a:cubicBezTo>
                <a:cubicBezTo>
                  <a:pt x="19819" y="7764"/>
                  <a:pt x="19886" y="7712"/>
                  <a:pt x="19918" y="7665"/>
                </a:cubicBezTo>
                <a:cubicBezTo>
                  <a:pt x="19953" y="7612"/>
                  <a:pt x="19985" y="7526"/>
                  <a:pt x="19993" y="7466"/>
                </a:cubicBezTo>
                <a:cubicBezTo>
                  <a:pt x="20003" y="7390"/>
                  <a:pt x="20009" y="7259"/>
                  <a:pt x="19968" y="7193"/>
                </a:cubicBezTo>
                <a:cubicBezTo>
                  <a:pt x="19939" y="7146"/>
                  <a:pt x="19885" y="7125"/>
                  <a:pt x="19844" y="7094"/>
                </a:cubicBezTo>
                <a:cubicBezTo>
                  <a:pt x="19807" y="7066"/>
                  <a:pt x="19763" y="7055"/>
                  <a:pt x="19720" y="7045"/>
                </a:cubicBezTo>
              </a:path>
              <a:path w="3375" h="1018">
                <a:moveTo>
                  <a:pt x="20117" y="6896"/>
                </a:moveTo>
                <a:cubicBezTo>
                  <a:pt x="20111" y="6940"/>
                  <a:pt x="20071" y="7020"/>
                  <a:pt x="20141" y="7045"/>
                </a:cubicBezTo>
                <a:cubicBezTo>
                  <a:pt x="20191" y="7063"/>
                  <a:pt x="20286" y="7010"/>
                  <a:pt x="20315" y="6970"/>
                </a:cubicBezTo>
                <a:cubicBezTo>
                  <a:pt x="20358" y="6911"/>
                  <a:pt x="20319" y="6828"/>
                  <a:pt x="20241" y="6846"/>
                </a:cubicBezTo>
                <a:cubicBezTo>
                  <a:pt x="20224" y="6854"/>
                  <a:pt x="20208" y="6863"/>
                  <a:pt x="20191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2"/>
          <p:cNvSpPr/>
          <p:nvPr/>
        </p:nvSpPr>
        <p:spPr>
          <a:xfrm>
            <a:off x="2509920" y="3009960"/>
            <a:ext cx="1150920" cy="722160"/>
          </a:xfrm>
          <a:custGeom>
            <a:avLst/>
            <a:gdLst/>
            <a:ahLst/>
            <a:rect l="l" t="t" r="r" b="b"/>
            <a:pathLst>
              <a:path w="3201" h="2010">
                <a:moveTo>
                  <a:pt x="7516" y="8359"/>
                </a:moveTo>
                <a:cubicBezTo>
                  <a:pt x="7574" y="8418"/>
                  <a:pt x="7548" y="8432"/>
                  <a:pt x="7565" y="8508"/>
                </a:cubicBezTo>
                <a:cubicBezTo>
                  <a:pt x="7585" y="8598"/>
                  <a:pt x="7590" y="8663"/>
                  <a:pt x="7590" y="8756"/>
                </a:cubicBezTo>
                <a:cubicBezTo>
                  <a:pt x="7590" y="8815"/>
                  <a:pt x="7593" y="8841"/>
                  <a:pt x="7615" y="8880"/>
                </a:cubicBezTo>
              </a:path>
              <a:path w="3201" h="2010">
                <a:moveTo>
                  <a:pt x="6970" y="9029"/>
                </a:moveTo>
                <a:cubicBezTo>
                  <a:pt x="7069" y="9050"/>
                  <a:pt x="7143" y="9054"/>
                  <a:pt x="7243" y="9054"/>
                </a:cubicBezTo>
                <a:cubicBezTo>
                  <a:pt x="7387" y="9054"/>
                  <a:pt x="7528" y="9043"/>
                  <a:pt x="7665" y="9029"/>
                </a:cubicBezTo>
                <a:cubicBezTo>
                  <a:pt x="7761" y="9019"/>
                  <a:pt x="7865" y="9029"/>
                  <a:pt x="7962" y="9029"/>
                </a:cubicBezTo>
              </a:path>
              <a:path w="3201" h="2010">
                <a:moveTo>
                  <a:pt x="7565" y="9277"/>
                </a:moveTo>
                <a:cubicBezTo>
                  <a:pt x="7625" y="9307"/>
                  <a:pt x="7609" y="9263"/>
                  <a:pt x="7665" y="9227"/>
                </a:cubicBezTo>
                <a:cubicBezTo>
                  <a:pt x="7735" y="9183"/>
                  <a:pt x="7766" y="9229"/>
                  <a:pt x="7813" y="9277"/>
                </a:cubicBezTo>
                <a:cubicBezTo>
                  <a:pt x="7850" y="9314"/>
                  <a:pt x="7859" y="9399"/>
                  <a:pt x="7863" y="9451"/>
                </a:cubicBezTo>
                <a:cubicBezTo>
                  <a:pt x="7870" y="9529"/>
                  <a:pt x="7847" y="9580"/>
                  <a:pt x="7838" y="9649"/>
                </a:cubicBezTo>
                <a:cubicBezTo>
                  <a:pt x="7828" y="9728"/>
                  <a:pt x="7832" y="9826"/>
                  <a:pt x="7789" y="9897"/>
                </a:cubicBezTo>
                <a:cubicBezTo>
                  <a:pt x="7754" y="9954"/>
                  <a:pt x="7649" y="9980"/>
                  <a:pt x="7590" y="9971"/>
                </a:cubicBezTo>
                <a:cubicBezTo>
                  <a:pt x="7522" y="9961"/>
                  <a:pt x="7413" y="9918"/>
                  <a:pt x="7392" y="9847"/>
                </a:cubicBezTo>
                <a:cubicBezTo>
                  <a:pt x="7373" y="9782"/>
                  <a:pt x="7399" y="9721"/>
                  <a:pt x="7441" y="9674"/>
                </a:cubicBezTo>
                <a:cubicBezTo>
                  <a:pt x="7493" y="9616"/>
                  <a:pt x="7585" y="9664"/>
                  <a:pt x="7640" y="9699"/>
                </a:cubicBezTo>
                <a:cubicBezTo>
                  <a:pt x="7704" y="9740"/>
                  <a:pt x="7754" y="9780"/>
                  <a:pt x="7789" y="9847"/>
                </a:cubicBezTo>
                <a:cubicBezTo>
                  <a:pt x="7812" y="9895"/>
                  <a:pt x="7820" y="9914"/>
                  <a:pt x="7813" y="9847"/>
                </a:cubicBezTo>
              </a:path>
              <a:path w="3201" h="2010">
                <a:moveTo>
                  <a:pt x="8458" y="9128"/>
                </a:moveTo>
                <a:cubicBezTo>
                  <a:pt x="8434" y="9153"/>
                  <a:pt x="8409" y="9178"/>
                  <a:pt x="8384" y="9203"/>
                </a:cubicBezTo>
                <a:cubicBezTo>
                  <a:pt x="8425" y="9173"/>
                  <a:pt x="8506" y="9062"/>
                  <a:pt x="8409" y="9103"/>
                </a:cubicBezTo>
                <a:cubicBezTo>
                  <a:pt x="8368" y="9123"/>
                  <a:pt x="8352" y="9121"/>
                  <a:pt x="8359" y="9153"/>
                </a:cubicBezTo>
              </a:path>
              <a:path w="3201" h="2010">
                <a:moveTo>
                  <a:pt x="8756" y="8806"/>
                </a:moveTo>
                <a:cubicBezTo>
                  <a:pt x="8834" y="8806"/>
                  <a:pt x="8917" y="8824"/>
                  <a:pt x="8979" y="8830"/>
                </a:cubicBezTo>
                <a:cubicBezTo>
                  <a:pt x="9078" y="8830"/>
                  <a:pt x="9095" y="8830"/>
                  <a:pt x="9153" y="8830"/>
                </a:cubicBezTo>
              </a:path>
              <a:path w="3201" h="2010">
                <a:moveTo>
                  <a:pt x="9674" y="8508"/>
                </a:moveTo>
                <a:cubicBezTo>
                  <a:pt x="9674" y="8622"/>
                  <a:pt x="9683" y="8721"/>
                  <a:pt x="9699" y="8830"/>
                </a:cubicBezTo>
                <a:cubicBezTo>
                  <a:pt x="9709" y="8903"/>
                  <a:pt x="9718" y="8957"/>
                  <a:pt x="9723" y="9029"/>
                </a:cubicBezTo>
                <a:cubicBezTo>
                  <a:pt x="9723" y="9037"/>
                  <a:pt x="9723" y="9046"/>
                  <a:pt x="9723" y="9054"/>
                </a:cubicBezTo>
              </a:path>
              <a:path w="3201" h="2010">
                <a:moveTo>
                  <a:pt x="9426" y="9227"/>
                </a:moveTo>
                <a:cubicBezTo>
                  <a:pt x="9563" y="9227"/>
                  <a:pt x="9691" y="9237"/>
                  <a:pt x="9823" y="9252"/>
                </a:cubicBezTo>
                <a:cubicBezTo>
                  <a:pt x="9925" y="9263"/>
                  <a:pt x="10034" y="9243"/>
                  <a:pt x="10120" y="9227"/>
                </a:cubicBezTo>
                <a:cubicBezTo>
                  <a:pt x="10137" y="9227"/>
                  <a:pt x="10153" y="9227"/>
                  <a:pt x="10170" y="9227"/>
                </a:cubicBezTo>
              </a:path>
              <a:path w="3201" h="2010">
                <a:moveTo>
                  <a:pt x="9773" y="9401"/>
                </a:moveTo>
                <a:cubicBezTo>
                  <a:pt x="9765" y="9426"/>
                  <a:pt x="9756" y="9450"/>
                  <a:pt x="9748" y="9475"/>
                </a:cubicBezTo>
                <a:cubicBezTo>
                  <a:pt x="9780" y="9452"/>
                  <a:pt x="9831" y="9411"/>
                  <a:pt x="9872" y="9401"/>
                </a:cubicBezTo>
                <a:cubicBezTo>
                  <a:pt x="9898" y="9395"/>
                  <a:pt x="10068" y="9443"/>
                  <a:pt x="10071" y="9451"/>
                </a:cubicBezTo>
                <a:cubicBezTo>
                  <a:pt x="10095" y="9515"/>
                  <a:pt x="10096" y="9602"/>
                  <a:pt x="10096" y="9674"/>
                </a:cubicBezTo>
                <a:cubicBezTo>
                  <a:pt x="10096" y="9737"/>
                  <a:pt x="10084" y="9842"/>
                  <a:pt x="10046" y="9897"/>
                </a:cubicBezTo>
                <a:cubicBezTo>
                  <a:pt x="10009" y="9950"/>
                  <a:pt x="9967" y="10024"/>
                  <a:pt x="9922" y="10071"/>
                </a:cubicBezTo>
                <a:cubicBezTo>
                  <a:pt x="9885" y="10110"/>
                  <a:pt x="9788" y="10192"/>
                  <a:pt x="9723" y="10170"/>
                </a:cubicBezTo>
                <a:cubicBezTo>
                  <a:pt x="9673" y="10153"/>
                  <a:pt x="9628" y="10088"/>
                  <a:pt x="9624" y="10046"/>
                </a:cubicBezTo>
                <a:cubicBezTo>
                  <a:pt x="9619" y="9996"/>
                  <a:pt x="9634" y="9891"/>
                  <a:pt x="9699" y="9872"/>
                </a:cubicBezTo>
                <a:cubicBezTo>
                  <a:pt x="9775" y="9850"/>
                  <a:pt x="9861" y="9944"/>
                  <a:pt x="9897" y="9996"/>
                </a:cubicBezTo>
                <a:cubicBezTo>
                  <a:pt x="9948" y="10068"/>
                  <a:pt x="10034" y="10143"/>
                  <a:pt x="10071" y="10220"/>
                </a:cubicBezTo>
                <a:cubicBezTo>
                  <a:pt x="10099" y="10278"/>
                  <a:pt x="10092" y="10316"/>
                  <a:pt x="10145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3"/>
          <p:cNvSpPr/>
          <p:nvPr/>
        </p:nvSpPr>
        <p:spPr>
          <a:xfrm>
            <a:off x="3911760" y="3367080"/>
            <a:ext cx="214200" cy="7920"/>
          </a:xfrm>
          <a:custGeom>
            <a:avLst/>
            <a:gdLst/>
            <a:ahLst/>
            <a:rect l="l" t="t" r="r" b="b"/>
            <a:pathLst>
              <a:path w="597" h="26">
                <a:moveTo>
                  <a:pt x="10864" y="9376"/>
                </a:moveTo>
                <a:cubicBezTo>
                  <a:pt x="10993" y="9353"/>
                  <a:pt x="11104" y="9351"/>
                  <a:pt x="11237" y="9351"/>
                </a:cubicBezTo>
                <a:cubicBezTo>
                  <a:pt x="11311" y="9351"/>
                  <a:pt x="11386" y="9351"/>
                  <a:pt x="11460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4"/>
          <p:cNvSpPr/>
          <p:nvPr/>
        </p:nvSpPr>
        <p:spPr>
          <a:xfrm>
            <a:off x="4384800" y="3036960"/>
            <a:ext cx="1071360" cy="758880"/>
          </a:xfrm>
          <a:custGeom>
            <a:avLst/>
            <a:gdLst/>
            <a:ahLst/>
            <a:rect l="l" t="t" r="r" b="b"/>
            <a:pathLst>
              <a:path w="2978" h="2109">
                <a:moveTo>
                  <a:pt x="12179" y="8806"/>
                </a:moveTo>
                <a:cubicBezTo>
                  <a:pt x="12217" y="8880"/>
                  <a:pt x="12225" y="8988"/>
                  <a:pt x="12229" y="9079"/>
                </a:cubicBezTo>
                <a:cubicBezTo>
                  <a:pt x="12233" y="9153"/>
                  <a:pt x="12229" y="9228"/>
                  <a:pt x="12229" y="9302"/>
                </a:cubicBezTo>
                <a:cubicBezTo>
                  <a:pt x="12199" y="9243"/>
                  <a:pt x="12190" y="9148"/>
                  <a:pt x="12179" y="9079"/>
                </a:cubicBezTo>
                <a:cubicBezTo>
                  <a:pt x="12158" y="8944"/>
                  <a:pt x="12180" y="8776"/>
                  <a:pt x="12204" y="8657"/>
                </a:cubicBezTo>
                <a:cubicBezTo>
                  <a:pt x="12219" y="8582"/>
                  <a:pt x="12230" y="8572"/>
                  <a:pt x="12303" y="8533"/>
                </a:cubicBezTo>
                <a:cubicBezTo>
                  <a:pt x="12388" y="8488"/>
                  <a:pt x="12457" y="8448"/>
                  <a:pt x="12551" y="8434"/>
                </a:cubicBezTo>
                <a:cubicBezTo>
                  <a:pt x="12638" y="8421"/>
                  <a:pt x="12726" y="8437"/>
                  <a:pt x="12799" y="8458"/>
                </a:cubicBezTo>
                <a:cubicBezTo>
                  <a:pt x="12807" y="8458"/>
                  <a:pt x="12816" y="8458"/>
                  <a:pt x="12824" y="8458"/>
                </a:cubicBezTo>
              </a:path>
              <a:path w="2978" h="2109">
                <a:moveTo>
                  <a:pt x="12502" y="8855"/>
                </a:moveTo>
                <a:cubicBezTo>
                  <a:pt x="12547" y="8829"/>
                  <a:pt x="12599" y="8768"/>
                  <a:pt x="12650" y="8756"/>
                </a:cubicBezTo>
                <a:cubicBezTo>
                  <a:pt x="12752" y="8732"/>
                  <a:pt x="12792" y="8762"/>
                  <a:pt x="12799" y="8855"/>
                </a:cubicBezTo>
                <a:cubicBezTo>
                  <a:pt x="12803" y="8901"/>
                  <a:pt x="12785" y="8987"/>
                  <a:pt x="12725" y="9004"/>
                </a:cubicBezTo>
                <a:cubicBezTo>
                  <a:pt x="12680" y="9004"/>
                  <a:pt x="12667" y="9001"/>
                  <a:pt x="12650" y="9029"/>
                </a:cubicBezTo>
                <a:cubicBezTo>
                  <a:pt x="12528" y="9029"/>
                  <a:pt x="12737" y="9031"/>
                  <a:pt x="12774" y="9054"/>
                </a:cubicBezTo>
                <a:cubicBezTo>
                  <a:pt x="12802" y="9071"/>
                  <a:pt x="12913" y="9149"/>
                  <a:pt x="12923" y="9178"/>
                </a:cubicBezTo>
                <a:cubicBezTo>
                  <a:pt x="12942" y="9232"/>
                  <a:pt x="12955" y="9286"/>
                  <a:pt x="12898" y="9327"/>
                </a:cubicBezTo>
                <a:cubicBezTo>
                  <a:pt x="12852" y="9360"/>
                  <a:pt x="12751" y="9365"/>
                  <a:pt x="12700" y="9376"/>
                </a:cubicBezTo>
              </a:path>
              <a:path w="2978" h="2109">
                <a:moveTo>
                  <a:pt x="12254" y="9451"/>
                </a:moveTo>
                <a:cubicBezTo>
                  <a:pt x="12343" y="9451"/>
                  <a:pt x="12408" y="9472"/>
                  <a:pt x="12502" y="9475"/>
                </a:cubicBezTo>
                <a:cubicBezTo>
                  <a:pt x="12617" y="9478"/>
                  <a:pt x="12703" y="9525"/>
                  <a:pt x="12824" y="9525"/>
                </a:cubicBezTo>
                <a:cubicBezTo>
                  <a:pt x="12923" y="9525"/>
                  <a:pt x="13023" y="9525"/>
                  <a:pt x="13122" y="9525"/>
                </a:cubicBezTo>
              </a:path>
              <a:path w="2978" h="2109">
                <a:moveTo>
                  <a:pt x="12700" y="9723"/>
                </a:moveTo>
                <a:cubicBezTo>
                  <a:pt x="12741" y="9684"/>
                  <a:pt x="12762" y="9640"/>
                  <a:pt x="12799" y="9599"/>
                </a:cubicBezTo>
                <a:cubicBezTo>
                  <a:pt x="12841" y="9553"/>
                  <a:pt x="12916" y="9573"/>
                  <a:pt x="12948" y="9624"/>
                </a:cubicBezTo>
                <a:cubicBezTo>
                  <a:pt x="13009" y="9721"/>
                  <a:pt x="13022" y="9812"/>
                  <a:pt x="13022" y="9922"/>
                </a:cubicBezTo>
                <a:cubicBezTo>
                  <a:pt x="13022" y="10025"/>
                  <a:pt x="12984" y="10101"/>
                  <a:pt x="12948" y="10195"/>
                </a:cubicBezTo>
                <a:cubicBezTo>
                  <a:pt x="12910" y="10297"/>
                  <a:pt x="12852" y="10339"/>
                  <a:pt x="12774" y="10418"/>
                </a:cubicBezTo>
                <a:cubicBezTo>
                  <a:pt x="12747" y="10446"/>
                  <a:pt x="12643" y="10481"/>
                  <a:pt x="12601" y="10468"/>
                </a:cubicBezTo>
                <a:cubicBezTo>
                  <a:pt x="12543" y="10450"/>
                  <a:pt x="12515" y="10386"/>
                  <a:pt x="12477" y="10344"/>
                </a:cubicBezTo>
                <a:cubicBezTo>
                  <a:pt x="12431" y="10294"/>
                  <a:pt x="12447" y="10204"/>
                  <a:pt x="12477" y="10145"/>
                </a:cubicBezTo>
                <a:cubicBezTo>
                  <a:pt x="12518" y="10063"/>
                  <a:pt x="12638" y="10098"/>
                  <a:pt x="12700" y="10120"/>
                </a:cubicBezTo>
                <a:cubicBezTo>
                  <a:pt x="12770" y="10145"/>
                  <a:pt x="12777" y="10195"/>
                  <a:pt x="12824" y="10244"/>
                </a:cubicBezTo>
                <a:cubicBezTo>
                  <a:pt x="12873" y="10296"/>
                  <a:pt x="12894" y="10475"/>
                  <a:pt x="12849" y="10418"/>
                </a:cubicBezTo>
                <a:cubicBezTo>
                  <a:pt x="12849" y="10401"/>
                  <a:pt x="12849" y="10385"/>
                  <a:pt x="12849" y="10368"/>
                </a:cubicBezTo>
              </a:path>
              <a:path w="2978" h="2109">
                <a:moveTo>
                  <a:pt x="13543" y="9451"/>
                </a:moveTo>
                <a:cubicBezTo>
                  <a:pt x="13498" y="9565"/>
                  <a:pt x="13544" y="9477"/>
                  <a:pt x="13593" y="9451"/>
                </a:cubicBezTo>
                <a:cubicBezTo>
                  <a:pt x="13601" y="9451"/>
                  <a:pt x="13610" y="9451"/>
                  <a:pt x="13618" y="9451"/>
                </a:cubicBezTo>
                <a:cubicBezTo>
                  <a:pt x="13575" y="9429"/>
                  <a:pt x="13564" y="9442"/>
                  <a:pt x="13519" y="9475"/>
                </a:cubicBezTo>
              </a:path>
              <a:path w="2978" h="2109">
                <a:moveTo>
                  <a:pt x="13990" y="9029"/>
                </a:moveTo>
                <a:cubicBezTo>
                  <a:pt x="13996" y="9093"/>
                  <a:pt x="13998" y="9164"/>
                  <a:pt x="14015" y="9227"/>
                </a:cubicBezTo>
                <a:cubicBezTo>
                  <a:pt x="14036" y="9303"/>
                  <a:pt x="14036" y="9377"/>
                  <a:pt x="14064" y="9451"/>
                </a:cubicBezTo>
                <a:cubicBezTo>
                  <a:pt x="14064" y="9290"/>
                  <a:pt x="14070" y="9132"/>
                  <a:pt x="14089" y="8979"/>
                </a:cubicBezTo>
                <a:cubicBezTo>
                  <a:pt x="14099" y="8902"/>
                  <a:pt x="14102" y="8829"/>
                  <a:pt x="14114" y="8756"/>
                </a:cubicBezTo>
                <a:cubicBezTo>
                  <a:pt x="14124" y="8695"/>
                  <a:pt x="14142" y="8611"/>
                  <a:pt x="14213" y="8582"/>
                </a:cubicBezTo>
                <a:cubicBezTo>
                  <a:pt x="14269" y="8559"/>
                  <a:pt x="14349" y="8558"/>
                  <a:pt x="14412" y="8558"/>
                </a:cubicBezTo>
                <a:cubicBezTo>
                  <a:pt x="14489" y="8558"/>
                  <a:pt x="14557" y="8582"/>
                  <a:pt x="14635" y="8582"/>
                </a:cubicBezTo>
              </a:path>
              <a:path w="2978" h="2109">
                <a:moveTo>
                  <a:pt x="14412" y="8806"/>
                </a:moveTo>
                <a:cubicBezTo>
                  <a:pt x="14463" y="8753"/>
                  <a:pt x="14503" y="8715"/>
                  <a:pt x="14585" y="8731"/>
                </a:cubicBezTo>
                <a:cubicBezTo>
                  <a:pt x="14672" y="8748"/>
                  <a:pt x="14674" y="8817"/>
                  <a:pt x="14635" y="8880"/>
                </a:cubicBezTo>
                <a:cubicBezTo>
                  <a:pt x="14600" y="8937"/>
                  <a:pt x="14570" y="8972"/>
                  <a:pt x="14511" y="9004"/>
                </a:cubicBezTo>
                <a:cubicBezTo>
                  <a:pt x="14431" y="9047"/>
                  <a:pt x="14385" y="9013"/>
                  <a:pt x="14486" y="9054"/>
                </a:cubicBezTo>
                <a:cubicBezTo>
                  <a:pt x="14588" y="9095"/>
                  <a:pt x="14590" y="9074"/>
                  <a:pt x="14660" y="9153"/>
                </a:cubicBezTo>
                <a:cubicBezTo>
                  <a:pt x="14691" y="9188"/>
                  <a:pt x="14751" y="9251"/>
                  <a:pt x="14734" y="9302"/>
                </a:cubicBezTo>
                <a:cubicBezTo>
                  <a:pt x="14721" y="9341"/>
                  <a:pt x="14637" y="9371"/>
                  <a:pt x="14610" y="9376"/>
                </a:cubicBezTo>
                <a:cubicBezTo>
                  <a:pt x="14539" y="9390"/>
                  <a:pt x="14459" y="9389"/>
                  <a:pt x="14387" y="9401"/>
                </a:cubicBezTo>
              </a:path>
              <a:path w="2978" h="2109">
                <a:moveTo>
                  <a:pt x="14064" y="9451"/>
                </a:moveTo>
                <a:cubicBezTo>
                  <a:pt x="14168" y="9451"/>
                  <a:pt x="14260" y="9471"/>
                  <a:pt x="14362" y="9475"/>
                </a:cubicBezTo>
                <a:cubicBezTo>
                  <a:pt x="14507" y="9480"/>
                  <a:pt x="14605" y="9488"/>
                  <a:pt x="14734" y="9525"/>
                </a:cubicBezTo>
                <a:cubicBezTo>
                  <a:pt x="14815" y="9548"/>
                  <a:pt x="14833" y="9500"/>
                  <a:pt x="14883" y="9475"/>
                </a:cubicBezTo>
              </a:path>
              <a:path w="2978" h="2109">
                <a:moveTo>
                  <a:pt x="14486" y="9748"/>
                </a:moveTo>
                <a:cubicBezTo>
                  <a:pt x="14478" y="9773"/>
                  <a:pt x="14469" y="9798"/>
                  <a:pt x="14461" y="9823"/>
                </a:cubicBezTo>
                <a:cubicBezTo>
                  <a:pt x="14515" y="9769"/>
                  <a:pt x="14543" y="9770"/>
                  <a:pt x="14610" y="9748"/>
                </a:cubicBezTo>
                <a:cubicBezTo>
                  <a:pt x="14693" y="9720"/>
                  <a:pt x="14721" y="9709"/>
                  <a:pt x="14784" y="9773"/>
                </a:cubicBezTo>
                <a:cubicBezTo>
                  <a:pt x="14844" y="9834"/>
                  <a:pt x="14817" y="9874"/>
                  <a:pt x="14833" y="9947"/>
                </a:cubicBezTo>
                <a:cubicBezTo>
                  <a:pt x="14855" y="10048"/>
                  <a:pt x="14821" y="10095"/>
                  <a:pt x="14808" y="10195"/>
                </a:cubicBezTo>
                <a:cubicBezTo>
                  <a:pt x="14796" y="10291"/>
                  <a:pt x="14745" y="10360"/>
                  <a:pt x="14684" y="10443"/>
                </a:cubicBezTo>
                <a:cubicBezTo>
                  <a:pt x="14648" y="10492"/>
                  <a:pt x="14562" y="10532"/>
                  <a:pt x="14511" y="10542"/>
                </a:cubicBezTo>
                <a:cubicBezTo>
                  <a:pt x="14466" y="10542"/>
                  <a:pt x="14453" y="10545"/>
                  <a:pt x="14436" y="10517"/>
                </a:cubicBezTo>
                <a:cubicBezTo>
                  <a:pt x="14450" y="10422"/>
                  <a:pt x="14489" y="10423"/>
                  <a:pt x="14585" y="10418"/>
                </a:cubicBezTo>
                <a:cubicBezTo>
                  <a:pt x="14673" y="10414"/>
                  <a:pt x="14748" y="10438"/>
                  <a:pt x="14833" y="10443"/>
                </a:cubicBezTo>
                <a:cubicBezTo>
                  <a:pt x="14909" y="10447"/>
                  <a:pt x="14993" y="10483"/>
                  <a:pt x="15056" y="10492"/>
                </a:cubicBezTo>
                <a:cubicBezTo>
                  <a:pt x="15114" y="10492"/>
                  <a:pt x="15123" y="10492"/>
                  <a:pt x="15156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5"/>
          <p:cNvSpPr/>
          <p:nvPr/>
        </p:nvSpPr>
        <p:spPr>
          <a:xfrm>
            <a:off x="3017880" y="3929040"/>
            <a:ext cx="795240" cy="750960"/>
          </a:xfrm>
          <a:custGeom>
            <a:avLst/>
            <a:gdLst/>
            <a:ahLst/>
            <a:rect l="l" t="t" r="r" b="b"/>
            <a:pathLst>
              <a:path w="2209" h="2085">
                <a:moveTo>
                  <a:pt x="8384" y="11509"/>
                </a:moveTo>
                <a:cubicBezTo>
                  <a:pt x="8465" y="11540"/>
                  <a:pt x="8549" y="11537"/>
                  <a:pt x="8632" y="11559"/>
                </a:cubicBezTo>
                <a:cubicBezTo>
                  <a:pt x="8713" y="11580"/>
                  <a:pt x="8771" y="11584"/>
                  <a:pt x="8855" y="11584"/>
                </a:cubicBezTo>
              </a:path>
              <a:path w="2209" h="2085">
                <a:moveTo>
                  <a:pt x="9475" y="10914"/>
                </a:moveTo>
                <a:cubicBezTo>
                  <a:pt x="9519" y="11002"/>
                  <a:pt x="9488" y="11066"/>
                  <a:pt x="9475" y="11162"/>
                </a:cubicBezTo>
                <a:cubicBezTo>
                  <a:pt x="9456" y="11302"/>
                  <a:pt x="9481" y="11449"/>
                  <a:pt x="9500" y="11584"/>
                </a:cubicBezTo>
                <a:cubicBezTo>
                  <a:pt x="9500" y="11633"/>
                  <a:pt x="9500" y="11650"/>
                  <a:pt x="9500" y="11683"/>
                </a:cubicBezTo>
              </a:path>
              <a:path w="2209" h="2085">
                <a:moveTo>
                  <a:pt x="9203" y="11832"/>
                </a:moveTo>
                <a:cubicBezTo>
                  <a:pt x="9299" y="11832"/>
                  <a:pt x="9386" y="11843"/>
                  <a:pt x="9475" y="11857"/>
                </a:cubicBezTo>
                <a:cubicBezTo>
                  <a:pt x="9555" y="11869"/>
                  <a:pt x="9626" y="11844"/>
                  <a:pt x="9699" y="11832"/>
                </a:cubicBezTo>
                <a:cubicBezTo>
                  <a:pt x="9740" y="11832"/>
                  <a:pt x="9748" y="11832"/>
                  <a:pt x="9773" y="11832"/>
                </a:cubicBezTo>
              </a:path>
              <a:path w="2209" h="2085">
                <a:moveTo>
                  <a:pt x="9550" y="12005"/>
                </a:moveTo>
                <a:cubicBezTo>
                  <a:pt x="9541" y="12023"/>
                  <a:pt x="9423" y="12196"/>
                  <a:pt x="9426" y="12229"/>
                </a:cubicBezTo>
                <a:cubicBezTo>
                  <a:pt x="9430" y="12279"/>
                  <a:pt x="9511" y="12332"/>
                  <a:pt x="9550" y="12353"/>
                </a:cubicBezTo>
                <a:cubicBezTo>
                  <a:pt x="9599" y="12379"/>
                  <a:pt x="9677" y="12420"/>
                  <a:pt x="9723" y="12427"/>
                </a:cubicBezTo>
                <a:cubicBezTo>
                  <a:pt x="9748" y="12427"/>
                  <a:pt x="9773" y="12427"/>
                  <a:pt x="9798" y="12427"/>
                </a:cubicBezTo>
              </a:path>
              <a:path w="2209" h="2085">
                <a:moveTo>
                  <a:pt x="9897" y="12030"/>
                </a:moveTo>
                <a:cubicBezTo>
                  <a:pt x="9879" y="12129"/>
                  <a:pt x="9861" y="12230"/>
                  <a:pt x="9847" y="12328"/>
                </a:cubicBezTo>
                <a:cubicBezTo>
                  <a:pt x="9828" y="12462"/>
                  <a:pt x="9858" y="12597"/>
                  <a:pt x="9872" y="12725"/>
                </a:cubicBezTo>
                <a:cubicBezTo>
                  <a:pt x="9882" y="12817"/>
                  <a:pt x="9855" y="13081"/>
                  <a:pt x="9897" y="12998"/>
                </a:cubicBezTo>
                <a:cubicBezTo>
                  <a:pt x="9897" y="12956"/>
                  <a:pt x="9897" y="12948"/>
                  <a:pt x="9897" y="12923"/>
                </a:cubicBezTo>
              </a:path>
              <a:path w="2209" h="2085">
                <a:moveTo>
                  <a:pt x="10220" y="11881"/>
                </a:moveTo>
                <a:cubicBezTo>
                  <a:pt x="10283" y="11856"/>
                  <a:pt x="10340" y="11895"/>
                  <a:pt x="10418" y="11906"/>
                </a:cubicBezTo>
                <a:cubicBezTo>
                  <a:pt x="10459" y="11912"/>
                  <a:pt x="10548" y="11958"/>
                  <a:pt x="10592" y="11931"/>
                </a:cubicBezTo>
                <a:cubicBezTo>
                  <a:pt x="10592" y="11923"/>
                  <a:pt x="10592" y="11914"/>
                  <a:pt x="10592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6"/>
          <p:cNvSpPr/>
          <p:nvPr/>
        </p:nvSpPr>
        <p:spPr>
          <a:xfrm>
            <a:off x="3581280" y="4017960"/>
            <a:ext cx="588960" cy="1527120"/>
          </a:xfrm>
          <a:custGeom>
            <a:avLst/>
            <a:gdLst/>
            <a:ahLst/>
            <a:rect l="l" t="t" r="r" b="b"/>
            <a:pathLst>
              <a:path w="1638" h="4243">
                <a:moveTo>
                  <a:pt x="11013" y="11212"/>
                </a:moveTo>
                <a:cubicBezTo>
                  <a:pt x="11094" y="11182"/>
                  <a:pt x="11173" y="11165"/>
                  <a:pt x="11261" y="11162"/>
                </a:cubicBezTo>
                <a:cubicBezTo>
                  <a:pt x="11303" y="11160"/>
                  <a:pt x="11397" y="11175"/>
                  <a:pt x="11410" y="11237"/>
                </a:cubicBezTo>
                <a:cubicBezTo>
                  <a:pt x="11432" y="11339"/>
                  <a:pt x="11352" y="11359"/>
                  <a:pt x="11286" y="11410"/>
                </a:cubicBezTo>
                <a:cubicBezTo>
                  <a:pt x="11228" y="11455"/>
                  <a:pt x="11167" y="11458"/>
                  <a:pt x="11112" y="11485"/>
                </a:cubicBezTo>
                <a:cubicBezTo>
                  <a:pt x="11032" y="11524"/>
                  <a:pt x="11177" y="11462"/>
                  <a:pt x="11187" y="11460"/>
                </a:cubicBezTo>
                <a:cubicBezTo>
                  <a:pt x="11236" y="11450"/>
                  <a:pt x="11297" y="11488"/>
                  <a:pt x="11336" y="11509"/>
                </a:cubicBezTo>
                <a:cubicBezTo>
                  <a:pt x="11428" y="11558"/>
                  <a:pt x="11419" y="11628"/>
                  <a:pt x="11410" y="11708"/>
                </a:cubicBezTo>
                <a:cubicBezTo>
                  <a:pt x="11402" y="11778"/>
                  <a:pt x="11363" y="11815"/>
                  <a:pt x="11286" y="11832"/>
                </a:cubicBezTo>
                <a:cubicBezTo>
                  <a:pt x="11227" y="11845"/>
                  <a:pt x="11114" y="11829"/>
                  <a:pt x="11063" y="11807"/>
                </a:cubicBezTo>
                <a:cubicBezTo>
                  <a:pt x="11055" y="11799"/>
                  <a:pt x="11046" y="11790"/>
                  <a:pt x="11038" y="11782"/>
                </a:cubicBezTo>
              </a:path>
              <a:path w="1638" h="4243">
                <a:moveTo>
                  <a:pt x="10864" y="11956"/>
                </a:moveTo>
                <a:cubicBezTo>
                  <a:pt x="10958" y="11976"/>
                  <a:pt x="11043" y="12002"/>
                  <a:pt x="11137" y="12005"/>
                </a:cubicBezTo>
                <a:cubicBezTo>
                  <a:pt x="11242" y="12009"/>
                  <a:pt x="11336" y="12014"/>
                  <a:pt x="11435" y="12030"/>
                </a:cubicBezTo>
                <a:cubicBezTo>
                  <a:pt x="11482" y="12038"/>
                  <a:pt x="11536" y="12030"/>
                  <a:pt x="11584" y="12030"/>
                </a:cubicBezTo>
              </a:path>
              <a:path w="1638" h="4243">
                <a:moveTo>
                  <a:pt x="11162" y="12229"/>
                </a:moveTo>
                <a:cubicBezTo>
                  <a:pt x="11144" y="12351"/>
                  <a:pt x="11151" y="12371"/>
                  <a:pt x="11212" y="12477"/>
                </a:cubicBezTo>
                <a:cubicBezTo>
                  <a:pt x="11249" y="12541"/>
                  <a:pt x="11270" y="12566"/>
                  <a:pt x="11336" y="12601"/>
                </a:cubicBezTo>
                <a:cubicBezTo>
                  <a:pt x="11410" y="12641"/>
                  <a:pt x="11429" y="12623"/>
                  <a:pt x="11509" y="12601"/>
                </a:cubicBezTo>
              </a:path>
              <a:path w="1638" h="4243">
                <a:moveTo>
                  <a:pt x="11534" y="12254"/>
                </a:moveTo>
                <a:cubicBezTo>
                  <a:pt x="11491" y="12383"/>
                  <a:pt x="11460" y="12469"/>
                  <a:pt x="11460" y="12601"/>
                </a:cubicBezTo>
                <a:cubicBezTo>
                  <a:pt x="11460" y="12747"/>
                  <a:pt x="11471" y="12880"/>
                  <a:pt x="11485" y="13022"/>
                </a:cubicBezTo>
                <a:cubicBezTo>
                  <a:pt x="11494" y="13111"/>
                  <a:pt x="11485" y="13205"/>
                  <a:pt x="11485" y="13295"/>
                </a:cubicBezTo>
              </a:path>
              <a:path w="1638" h="4243">
                <a:moveTo>
                  <a:pt x="9947" y="14461"/>
                </a:moveTo>
                <a:cubicBezTo>
                  <a:pt x="10048" y="14495"/>
                  <a:pt x="10138" y="14532"/>
                  <a:pt x="10244" y="14536"/>
                </a:cubicBezTo>
                <a:cubicBezTo>
                  <a:pt x="10320" y="14536"/>
                  <a:pt x="10346" y="14536"/>
                  <a:pt x="10393" y="14511"/>
                </a:cubicBezTo>
              </a:path>
              <a:path w="1638" h="4243">
                <a:moveTo>
                  <a:pt x="10864" y="13965"/>
                </a:moveTo>
                <a:lnTo>
                  <a:pt x="10864" y="14039"/>
                </a:lnTo>
                <a:lnTo>
                  <a:pt x="10864" y="14114"/>
                </a:lnTo>
                <a:lnTo>
                  <a:pt x="10864" y="14163"/>
                </a:lnTo>
                <a:lnTo>
                  <a:pt x="10864" y="14238"/>
                </a:lnTo>
                <a:lnTo>
                  <a:pt x="10864" y="14436"/>
                </a:lnTo>
                <a:lnTo>
                  <a:pt x="10864" y="14511"/>
                </a:lnTo>
                <a:lnTo>
                  <a:pt x="10864" y="14610"/>
                </a:lnTo>
                <a:lnTo>
                  <a:pt x="10889" y="14709"/>
                </a:lnTo>
                <a:lnTo>
                  <a:pt x="10889" y="14833"/>
                </a:lnTo>
                <a:lnTo>
                  <a:pt x="10889" y="14932"/>
                </a:lnTo>
                <a:lnTo>
                  <a:pt x="10914" y="15032"/>
                </a:lnTo>
                <a:lnTo>
                  <a:pt x="10914" y="15131"/>
                </a:lnTo>
                <a:lnTo>
                  <a:pt x="10914" y="15205"/>
                </a:lnTo>
                <a:lnTo>
                  <a:pt x="10914" y="15280"/>
                </a:lnTo>
                <a:lnTo>
                  <a:pt x="10914" y="15329"/>
                </a:lnTo>
                <a:lnTo>
                  <a:pt x="10914" y="15404"/>
                </a:lnTo>
                <a:lnTo>
                  <a:pt x="10914" y="1537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tangent of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Hint:  10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135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- 30</a:t>
            </a:r>
            <a:r>
              <a:rPr b="0" lang="en-US" sz="4000" spc="-1" strike="noStrike">
                <a:solidFill>
                  <a:srgbClr val="dfd293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Ink 3"/>
          <p:cNvSpPr/>
          <p:nvPr/>
        </p:nvSpPr>
        <p:spPr>
          <a:xfrm>
            <a:off x="5581800" y="1697040"/>
            <a:ext cx="2044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5875" y="4887"/>
                </a:moveTo>
                <a:cubicBezTo>
                  <a:pt x="15875" y="4810"/>
                  <a:pt x="15878" y="4791"/>
                  <a:pt x="15825" y="4738"/>
                </a:cubicBezTo>
                <a:cubicBezTo>
                  <a:pt x="15782" y="4695"/>
                  <a:pt x="15720" y="4704"/>
                  <a:pt x="15677" y="4738"/>
                </a:cubicBezTo>
                <a:cubicBezTo>
                  <a:pt x="15615" y="4787"/>
                  <a:pt x="15592" y="4818"/>
                  <a:pt x="15553" y="4887"/>
                </a:cubicBezTo>
                <a:cubicBezTo>
                  <a:pt x="15516" y="4953"/>
                  <a:pt x="15475" y="5059"/>
                  <a:pt x="15503" y="5135"/>
                </a:cubicBezTo>
                <a:cubicBezTo>
                  <a:pt x="15531" y="5212"/>
                  <a:pt x="15583" y="5227"/>
                  <a:pt x="15652" y="5184"/>
                </a:cubicBezTo>
                <a:cubicBezTo>
                  <a:pt x="15711" y="5148"/>
                  <a:pt x="15751" y="5074"/>
                  <a:pt x="15776" y="5011"/>
                </a:cubicBezTo>
                <a:cubicBezTo>
                  <a:pt x="15822" y="4894"/>
                  <a:pt x="15808" y="4854"/>
                  <a:pt x="15801" y="4986"/>
                </a:cubicBezTo>
                <a:cubicBezTo>
                  <a:pt x="15797" y="5054"/>
                  <a:pt x="15831" y="5111"/>
                  <a:pt x="15875" y="5159"/>
                </a:cubicBezTo>
                <a:cubicBezTo>
                  <a:pt x="15918" y="5206"/>
                  <a:pt x="15980" y="5254"/>
                  <a:pt x="16049" y="5234"/>
                </a:cubicBezTo>
                <a:cubicBezTo>
                  <a:pt x="16071" y="5211"/>
                  <a:pt x="16079" y="5206"/>
                  <a:pt x="16073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4"/>
          <p:cNvSpPr/>
          <p:nvPr/>
        </p:nvSpPr>
        <p:spPr>
          <a:xfrm>
            <a:off x="6956280" y="1581120"/>
            <a:ext cx="187560" cy="268200"/>
          </a:xfrm>
          <a:custGeom>
            <a:avLst/>
            <a:gdLst/>
            <a:ahLst/>
            <a:rect l="l" t="t" r="r" b="b"/>
            <a:pathLst>
              <a:path w="522" h="746">
                <a:moveTo>
                  <a:pt x="19397" y="4390"/>
                </a:moveTo>
                <a:cubicBezTo>
                  <a:pt x="19366" y="4452"/>
                  <a:pt x="19372" y="4515"/>
                  <a:pt x="19372" y="4589"/>
                </a:cubicBezTo>
                <a:cubicBezTo>
                  <a:pt x="19372" y="4735"/>
                  <a:pt x="19377" y="4870"/>
                  <a:pt x="19397" y="5011"/>
                </a:cubicBezTo>
                <a:cubicBezTo>
                  <a:pt x="19397" y="5060"/>
                  <a:pt x="19397" y="5077"/>
                  <a:pt x="19397" y="5110"/>
                </a:cubicBezTo>
                <a:cubicBezTo>
                  <a:pt x="19430" y="5068"/>
                  <a:pt x="19463" y="5007"/>
                  <a:pt x="19472" y="4961"/>
                </a:cubicBezTo>
                <a:cubicBezTo>
                  <a:pt x="19483" y="4906"/>
                  <a:pt x="19485" y="4857"/>
                  <a:pt x="19521" y="4812"/>
                </a:cubicBezTo>
                <a:cubicBezTo>
                  <a:pt x="19580" y="4738"/>
                  <a:pt x="19655" y="4767"/>
                  <a:pt x="19720" y="4812"/>
                </a:cubicBezTo>
                <a:cubicBezTo>
                  <a:pt x="19779" y="4853"/>
                  <a:pt x="19840" y="4919"/>
                  <a:pt x="19844" y="4986"/>
                </a:cubicBezTo>
                <a:cubicBezTo>
                  <a:pt x="19849" y="5070"/>
                  <a:pt x="19839" y="5114"/>
                  <a:pt x="19745" y="5135"/>
                </a:cubicBezTo>
                <a:cubicBezTo>
                  <a:pt x="19664" y="5153"/>
                  <a:pt x="19545" y="5111"/>
                  <a:pt x="19472" y="5085"/>
                </a:cubicBezTo>
                <a:cubicBezTo>
                  <a:pt x="19418" y="5066"/>
                  <a:pt x="19374" y="5023"/>
                  <a:pt x="19323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5"/>
          <p:cNvSpPr/>
          <p:nvPr/>
        </p:nvSpPr>
        <p:spPr>
          <a:xfrm>
            <a:off x="1714680" y="2313000"/>
            <a:ext cx="598320" cy="349200"/>
          </a:xfrm>
          <a:custGeom>
            <a:avLst/>
            <a:gdLst/>
            <a:ahLst/>
            <a:rect l="l" t="t" r="r" b="b"/>
            <a:pathLst>
              <a:path w="1663" h="969">
                <a:moveTo>
                  <a:pt x="5184" y="6424"/>
                </a:moveTo>
                <a:cubicBezTo>
                  <a:pt x="5156" y="6508"/>
                  <a:pt x="5147" y="6607"/>
                  <a:pt x="5135" y="6697"/>
                </a:cubicBezTo>
                <a:cubicBezTo>
                  <a:pt x="5115" y="6852"/>
                  <a:pt x="5135" y="7408"/>
                  <a:pt x="5135" y="7317"/>
                </a:cubicBezTo>
              </a:path>
              <a:path w="1663" h="969">
                <a:moveTo>
                  <a:pt x="4762" y="6796"/>
                </a:moveTo>
                <a:cubicBezTo>
                  <a:pt x="4977" y="6796"/>
                  <a:pt x="5192" y="6796"/>
                  <a:pt x="5407" y="6796"/>
                </a:cubicBezTo>
              </a:path>
              <a:path w="1663" h="969">
                <a:moveTo>
                  <a:pt x="5680" y="6945"/>
                </a:moveTo>
                <a:cubicBezTo>
                  <a:pt x="5705" y="6970"/>
                  <a:pt x="5713" y="6978"/>
                  <a:pt x="5730" y="6995"/>
                </a:cubicBezTo>
                <a:cubicBezTo>
                  <a:pt x="5724" y="6951"/>
                  <a:pt x="5697" y="6829"/>
                  <a:pt x="5631" y="6821"/>
                </a:cubicBezTo>
                <a:cubicBezTo>
                  <a:pt x="5603" y="6818"/>
                  <a:pt x="5471" y="6925"/>
                  <a:pt x="5457" y="6945"/>
                </a:cubicBezTo>
                <a:cubicBezTo>
                  <a:pt x="5417" y="7001"/>
                  <a:pt x="5386" y="7050"/>
                  <a:pt x="5383" y="7119"/>
                </a:cubicBezTo>
                <a:cubicBezTo>
                  <a:pt x="5379" y="7203"/>
                  <a:pt x="5374" y="7236"/>
                  <a:pt x="5432" y="7293"/>
                </a:cubicBezTo>
                <a:cubicBezTo>
                  <a:pt x="5476" y="7336"/>
                  <a:pt x="5514" y="7361"/>
                  <a:pt x="5581" y="7342"/>
                </a:cubicBezTo>
                <a:cubicBezTo>
                  <a:pt x="5634" y="7327"/>
                  <a:pt x="5668" y="7280"/>
                  <a:pt x="5705" y="7243"/>
                </a:cubicBezTo>
                <a:cubicBezTo>
                  <a:pt x="5747" y="7201"/>
                  <a:pt x="5752" y="7127"/>
                  <a:pt x="5755" y="7069"/>
                </a:cubicBezTo>
                <a:cubicBezTo>
                  <a:pt x="5761" y="6957"/>
                  <a:pt x="5759" y="7150"/>
                  <a:pt x="5779" y="7193"/>
                </a:cubicBezTo>
                <a:cubicBezTo>
                  <a:pt x="5812" y="7264"/>
                  <a:pt x="5850" y="7311"/>
                  <a:pt x="5928" y="7268"/>
                </a:cubicBezTo>
                <a:cubicBezTo>
                  <a:pt x="5964" y="7248"/>
                  <a:pt x="5984" y="7202"/>
                  <a:pt x="6003" y="7169"/>
                </a:cubicBezTo>
              </a:path>
              <a:path w="1663" h="969">
                <a:moveTo>
                  <a:pt x="6052" y="6921"/>
                </a:moveTo>
                <a:cubicBezTo>
                  <a:pt x="6052" y="7026"/>
                  <a:pt x="6062" y="7117"/>
                  <a:pt x="6077" y="7218"/>
                </a:cubicBezTo>
                <a:cubicBezTo>
                  <a:pt x="6093" y="7329"/>
                  <a:pt x="6097" y="7156"/>
                  <a:pt x="6102" y="7119"/>
                </a:cubicBezTo>
                <a:cubicBezTo>
                  <a:pt x="6113" y="7033"/>
                  <a:pt x="6119" y="6945"/>
                  <a:pt x="6176" y="6871"/>
                </a:cubicBezTo>
                <a:cubicBezTo>
                  <a:pt x="6218" y="6829"/>
                  <a:pt x="6226" y="6821"/>
                  <a:pt x="6251" y="6796"/>
                </a:cubicBezTo>
                <a:cubicBezTo>
                  <a:pt x="6286" y="6832"/>
                  <a:pt x="6338" y="6869"/>
                  <a:pt x="6350" y="6921"/>
                </a:cubicBezTo>
                <a:cubicBezTo>
                  <a:pt x="6368" y="6996"/>
                  <a:pt x="6352" y="7098"/>
                  <a:pt x="6375" y="7169"/>
                </a:cubicBezTo>
                <a:cubicBezTo>
                  <a:pt x="6395" y="7232"/>
                  <a:pt x="6380" y="7307"/>
                  <a:pt x="6424" y="72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6"/>
          <p:cNvSpPr/>
          <p:nvPr/>
        </p:nvSpPr>
        <p:spPr>
          <a:xfrm>
            <a:off x="2544840" y="2276640"/>
            <a:ext cx="2046240" cy="403200"/>
          </a:xfrm>
          <a:custGeom>
            <a:avLst/>
            <a:gdLst/>
            <a:ahLst/>
            <a:rect l="l" t="t" r="r" b="b"/>
            <a:pathLst>
              <a:path w="5682" h="1117">
                <a:moveTo>
                  <a:pt x="7119" y="6325"/>
                </a:moveTo>
                <a:cubicBezTo>
                  <a:pt x="7094" y="6416"/>
                  <a:pt x="7094" y="6502"/>
                  <a:pt x="7094" y="6598"/>
                </a:cubicBezTo>
                <a:cubicBezTo>
                  <a:pt x="7094" y="6751"/>
                  <a:pt x="7094" y="6900"/>
                  <a:pt x="7069" y="7045"/>
                </a:cubicBezTo>
                <a:cubicBezTo>
                  <a:pt x="7059" y="7105"/>
                  <a:pt x="7035" y="7173"/>
                  <a:pt x="7094" y="7094"/>
                </a:cubicBezTo>
              </a:path>
              <a:path w="5682" h="1117">
                <a:moveTo>
                  <a:pt x="7392" y="6524"/>
                </a:moveTo>
                <a:cubicBezTo>
                  <a:pt x="7472" y="6453"/>
                  <a:pt x="7541" y="6353"/>
                  <a:pt x="7665" y="6400"/>
                </a:cubicBezTo>
                <a:cubicBezTo>
                  <a:pt x="7699" y="6413"/>
                  <a:pt x="7722" y="6545"/>
                  <a:pt x="7714" y="6573"/>
                </a:cubicBezTo>
                <a:cubicBezTo>
                  <a:pt x="7709" y="6592"/>
                  <a:pt x="7628" y="6710"/>
                  <a:pt x="7615" y="6722"/>
                </a:cubicBezTo>
                <a:cubicBezTo>
                  <a:pt x="7585" y="6750"/>
                  <a:pt x="7443" y="6759"/>
                  <a:pt x="7516" y="6747"/>
                </a:cubicBezTo>
                <a:cubicBezTo>
                  <a:pt x="7577" y="6737"/>
                  <a:pt x="7611" y="6703"/>
                  <a:pt x="7665" y="6747"/>
                </a:cubicBezTo>
                <a:cubicBezTo>
                  <a:pt x="7723" y="6795"/>
                  <a:pt x="7719" y="6861"/>
                  <a:pt x="7739" y="6921"/>
                </a:cubicBezTo>
                <a:cubicBezTo>
                  <a:pt x="7754" y="6966"/>
                  <a:pt x="7792" y="7069"/>
                  <a:pt x="7764" y="7119"/>
                </a:cubicBezTo>
                <a:cubicBezTo>
                  <a:pt x="7746" y="7152"/>
                  <a:pt x="7679" y="7237"/>
                  <a:pt x="7640" y="7243"/>
                </a:cubicBezTo>
                <a:cubicBezTo>
                  <a:pt x="7589" y="7251"/>
                  <a:pt x="7445" y="7225"/>
                  <a:pt x="7417" y="7169"/>
                </a:cubicBezTo>
                <a:cubicBezTo>
                  <a:pt x="7417" y="7152"/>
                  <a:pt x="7417" y="7136"/>
                  <a:pt x="7417" y="7119"/>
                </a:cubicBezTo>
              </a:path>
              <a:path w="5682" h="1117">
                <a:moveTo>
                  <a:pt x="8111" y="6449"/>
                </a:moveTo>
                <a:cubicBezTo>
                  <a:pt x="8183" y="6449"/>
                  <a:pt x="8220" y="6428"/>
                  <a:pt x="8285" y="6424"/>
                </a:cubicBezTo>
                <a:cubicBezTo>
                  <a:pt x="8345" y="6420"/>
                  <a:pt x="8383" y="6424"/>
                  <a:pt x="8434" y="6400"/>
                </a:cubicBezTo>
              </a:path>
              <a:path w="5682" h="1117">
                <a:moveTo>
                  <a:pt x="8111" y="6474"/>
                </a:moveTo>
                <a:cubicBezTo>
                  <a:pt x="8021" y="6564"/>
                  <a:pt x="8032" y="6574"/>
                  <a:pt x="7987" y="6672"/>
                </a:cubicBezTo>
                <a:cubicBezTo>
                  <a:pt x="7962" y="6697"/>
                  <a:pt x="7954" y="6705"/>
                  <a:pt x="7987" y="6722"/>
                </a:cubicBezTo>
                <a:cubicBezTo>
                  <a:pt x="8053" y="6713"/>
                  <a:pt x="8090" y="6676"/>
                  <a:pt x="8161" y="6672"/>
                </a:cubicBezTo>
                <a:cubicBezTo>
                  <a:pt x="8226" y="6668"/>
                  <a:pt x="8284" y="6709"/>
                  <a:pt x="8334" y="6747"/>
                </a:cubicBezTo>
                <a:cubicBezTo>
                  <a:pt x="8374" y="6777"/>
                  <a:pt x="8423" y="6872"/>
                  <a:pt x="8434" y="6921"/>
                </a:cubicBezTo>
                <a:cubicBezTo>
                  <a:pt x="8450" y="6991"/>
                  <a:pt x="8466" y="7021"/>
                  <a:pt x="8434" y="7094"/>
                </a:cubicBezTo>
                <a:cubicBezTo>
                  <a:pt x="8405" y="7159"/>
                  <a:pt x="8330" y="7165"/>
                  <a:pt x="8260" y="7169"/>
                </a:cubicBezTo>
                <a:cubicBezTo>
                  <a:pt x="8189" y="7173"/>
                  <a:pt x="8176" y="7182"/>
                  <a:pt x="8111" y="7169"/>
                </a:cubicBezTo>
                <a:cubicBezTo>
                  <a:pt x="7984" y="7144"/>
                  <a:pt x="8146" y="7110"/>
                  <a:pt x="8186" y="7094"/>
                </a:cubicBezTo>
              </a:path>
              <a:path w="5682" h="1117">
                <a:moveTo>
                  <a:pt x="8781" y="6921"/>
                </a:moveTo>
                <a:cubicBezTo>
                  <a:pt x="8860" y="6931"/>
                  <a:pt x="8921" y="6945"/>
                  <a:pt x="9004" y="6945"/>
                </a:cubicBezTo>
                <a:cubicBezTo>
                  <a:pt x="9103" y="6945"/>
                  <a:pt x="9183" y="6934"/>
                  <a:pt x="9277" y="6921"/>
                </a:cubicBezTo>
                <a:cubicBezTo>
                  <a:pt x="9319" y="6921"/>
                  <a:pt x="9335" y="6929"/>
                  <a:pt x="9327" y="6896"/>
                </a:cubicBezTo>
              </a:path>
              <a:path w="5682" h="1117">
                <a:moveTo>
                  <a:pt x="9971" y="6424"/>
                </a:moveTo>
                <a:cubicBezTo>
                  <a:pt x="9971" y="6511"/>
                  <a:pt x="9950" y="6586"/>
                  <a:pt x="9947" y="6672"/>
                </a:cubicBezTo>
                <a:cubicBezTo>
                  <a:pt x="9942" y="6825"/>
                  <a:pt x="9955" y="6971"/>
                  <a:pt x="9971" y="7119"/>
                </a:cubicBezTo>
                <a:cubicBezTo>
                  <a:pt x="9979" y="7195"/>
                  <a:pt x="10011" y="7278"/>
                  <a:pt x="10021" y="7342"/>
                </a:cubicBezTo>
                <a:cubicBezTo>
                  <a:pt x="10037" y="7449"/>
                  <a:pt x="10050" y="7462"/>
                  <a:pt x="9996" y="7367"/>
                </a:cubicBezTo>
              </a:path>
              <a:path w="5682" h="1117">
                <a:moveTo>
                  <a:pt x="9699" y="6921"/>
                </a:moveTo>
                <a:cubicBezTo>
                  <a:pt x="9777" y="6891"/>
                  <a:pt x="9842" y="6913"/>
                  <a:pt x="9922" y="6896"/>
                </a:cubicBezTo>
                <a:cubicBezTo>
                  <a:pt x="10054" y="6868"/>
                  <a:pt x="10183" y="6871"/>
                  <a:pt x="10319" y="6871"/>
                </a:cubicBezTo>
                <a:cubicBezTo>
                  <a:pt x="10396" y="6871"/>
                  <a:pt x="10455" y="6859"/>
                  <a:pt x="10517" y="6846"/>
                </a:cubicBezTo>
                <a:cubicBezTo>
                  <a:pt x="10534" y="6846"/>
                  <a:pt x="10550" y="6846"/>
                  <a:pt x="10567" y="6846"/>
                </a:cubicBezTo>
                <a:cubicBezTo>
                  <a:pt x="10526" y="6887"/>
                  <a:pt x="10488" y="6911"/>
                  <a:pt x="10443" y="6945"/>
                </a:cubicBezTo>
                <a:cubicBezTo>
                  <a:pt x="10386" y="6988"/>
                  <a:pt x="10323" y="7054"/>
                  <a:pt x="10294" y="7119"/>
                </a:cubicBezTo>
                <a:cubicBezTo>
                  <a:pt x="10249" y="7221"/>
                  <a:pt x="10256" y="7254"/>
                  <a:pt x="10319" y="7293"/>
                </a:cubicBezTo>
                <a:cubicBezTo>
                  <a:pt x="10356" y="7316"/>
                  <a:pt x="10409" y="7291"/>
                  <a:pt x="10443" y="7243"/>
                </a:cubicBezTo>
                <a:cubicBezTo>
                  <a:pt x="10480" y="7191"/>
                  <a:pt x="10496" y="7120"/>
                  <a:pt x="10517" y="7069"/>
                </a:cubicBezTo>
                <a:cubicBezTo>
                  <a:pt x="10539" y="7004"/>
                  <a:pt x="10547" y="6989"/>
                  <a:pt x="10542" y="6945"/>
                </a:cubicBezTo>
                <a:cubicBezTo>
                  <a:pt x="10625" y="7014"/>
                  <a:pt x="10568" y="7039"/>
                  <a:pt x="10592" y="7144"/>
                </a:cubicBezTo>
                <a:cubicBezTo>
                  <a:pt x="10608" y="7211"/>
                  <a:pt x="10671" y="7255"/>
                  <a:pt x="10716" y="7293"/>
                </a:cubicBezTo>
                <a:cubicBezTo>
                  <a:pt x="10777" y="7344"/>
                  <a:pt x="10783" y="7310"/>
                  <a:pt x="10840" y="7268"/>
                </a:cubicBezTo>
              </a:path>
              <a:path w="5682" h="1117">
                <a:moveTo>
                  <a:pt x="10889" y="6995"/>
                </a:moveTo>
                <a:cubicBezTo>
                  <a:pt x="10889" y="7062"/>
                  <a:pt x="10903" y="7115"/>
                  <a:pt x="10914" y="7169"/>
                </a:cubicBezTo>
                <a:cubicBezTo>
                  <a:pt x="10928" y="7237"/>
                  <a:pt x="10914" y="7322"/>
                  <a:pt x="10914" y="7392"/>
                </a:cubicBezTo>
                <a:cubicBezTo>
                  <a:pt x="10945" y="7340"/>
                  <a:pt x="10945" y="7299"/>
                  <a:pt x="10964" y="7243"/>
                </a:cubicBezTo>
                <a:cubicBezTo>
                  <a:pt x="10986" y="7178"/>
                  <a:pt x="11011" y="7149"/>
                  <a:pt x="11038" y="7094"/>
                </a:cubicBezTo>
                <a:cubicBezTo>
                  <a:pt x="11080" y="7005"/>
                  <a:pt x="11099" y="6945"/>
                  <a:pt x="11212" y="7020"/>
                </a:cubicBezTo>
                <a:cubicBezTo>
                  <a:pt x="11257" y="7050"/>
                  <a:pt x="11300" y="7190"/>
                  <a:pt x="11311" y="7243"/>
                </a:cubicBezTo>
                <a:cubicBezTo>
                  <a:pt x="11316" y="7265"/>
                  <a:pt x="11328" y="7392"/>
                  <a:pt x="11361" y="7392"/>
                </a:cubicBezTo>
                <a:cubicBezTo>
                  <a:pt x="11361" y="7384"/>
                  <a:pt x="11361" y="7375"/>
                  <a:pt x="11361" y="7367"/>
                </a:cubicBezTo>
              </a:path>
              <a:path w="5682" h="1117">
                <a:moveTo>
                  <a:pt x="11609" y="6598"/>
                </a:moveTo>
                <a:cubicBezTo>
                  <a:pt x="11698" y="6541"/>
                  <a:pt x="11730" y="6524"/>
                  <a:pt x="11832" y="6524"/>
                </a:cubicBezTo>
                <a:cubicBezTo>
                  <a:pt x="11915" y="6524"/>
                  <a:pt x="11963" y="6522"/>
                  <a:pt x="12030" y="6573"/>
                </a:cubicBezTo>
                <a:cubicBezTo>
                  <a:pt x="12106" y="6630"/>
                  <a:pt x="12035" y="6675"/>
                  <a:pt x="12005" y="6722"/>
                </a:cubicBezTo>
                <a:cubicBezTo>
                  <a:pt x="11961" y="6792"/>
                  <a:pt x="11930" y="6805"/>
                  <a:pt x="11857" y="6846"/>
                </a:cubicBezTo>
                <a:cubicBezTo>
                  <a:pt x="11800" y="6878"/>
                  <a:pt x="11794" y="6887"/>
                  <a:pt x="11733" y="6896"/>
                </a:cubicBezTo>
                <a:cubicBezTo>
                  <a:pt x="11760" y="6910"/>
                  <a:pt x="11831" y="6910"/>
                  <a:pt x="11881" y="6896"/>
                </a:cubicBezTo>
                <a:cubicBezTo>
                  <a:pt x="11943" y="6879"/>
                  <a:pt x="12034" y="6879"/>
                  <a:pt x="12055" y="6970"/>
                </a:cubicBezTo>
                <a:cubicBezTo>
                  <a:pt x="12070" y="7035"/>
                  <a:pt x="12057" y="7160"/>
                  <a:pt x="12030" y="7218"/>
                </a:cubicBezTo>
                <a:cubicBezTo>
                  <a:pt x="11999" y="7285"/>
                  <a:pt x="11911" y="7346"/>
                  <a:pt x="11832" y="7342"/>
                </a:cubicBezTo>
                <a:cubicBezTo>
                  <a:pt x="11779" y="7339"/>
                  <a:pt x="11720" y="7316"/>
                  <a:pt x="11708" y="7268"/>
                </a:cubicBezTo>
              </a:path>
              <a:path w="5682" h="1117">
                <a:moveTo>
                  <a:pt x="12254" y="6623"/>
                </a:moveTo>
                <a:cubicBezTo>
                  <a:pt x="12232" y="6726"/>
                  <a:pt x="12192" y="6844"/>
                  <a:pt x="12179" y="6945"/>
                </a:cubicBezTo>
                <a:cubicBezTo>
                  <a:pt x="12169" y="7021"/>
                  <a:pt x="12163" y="7152"/>
                  <a:pt x="12204" y="7218"/>
                </a:cubicBezTo>
                <a:cubicBezTo>
                  <a:pt x="12234" y="7266"/>
                  <a:pt x="12286" y="7286"/>
                  <a:pt x="12328" y="7317"/>
                </a:cubicBezTo>
                <a:cubicBezTo>
                  <a:pt x="12394" y="7366"/>
                  <a:pt x="12431" y="7329"/>
                  <a:pt x="12502" y="7317"/>
                </a:cubicBezTo>
                <a:cubicBezTo>
                  <a:pt x="12597" y="7301"/>
                  <a:pt x="12646" y="7249"/>
                  <a:pt x="12700" y="7169"/>
                </a:cubicBezTo>
                <a:cubicBezTo>
                  <a:pt x="12734" y="7118"/>
                  <a:pt x="12747" y="7030"/>
                  <a:pt x="12750" y="6970"/>
                </a:cubicBezTo>
                <a:cubicBezTo>
                  <a:pt x="12753" y="6911"/>
                  <a:pt x="12722" y="6809"/>
                  <a:pt x="12675" y="6772"/>
                </a:cubicBezTo>
                <a:cubicBezTo>
                  <a:pt x="12618" y="6727"/>
                  <a:pt x="12569" y="6728"/>
                  <a:pt x="12502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4956120" y="2813040"/>
            <a:ext cx="204840" cy="98280"/>
          </a:xfrm>
          <a:custGeom>
            <a:avLst/>
            <a:gdLst/>
            <a:ahLst/>
            <a:rect l="l" t="t" r="r" b="b"/>
            <a:pathLst>
              <a:path w="571" h="274">
                <a:moveTo>
                  <a:pt x="13767" y="7888"/>
                </a:moveTo>
                <a:cubicBezTo>
                  <a:pt x="13886" y="7858"/>
                  <a:pt x="13998" y="7860"/>
                  <a:pt x="14114" y="7838"/>
                </a:cubicBezTo>
                <a:cubicBezTo>
                  <a:pt x="14174" y="7827"/>
                  <a:pt x="14203" y="7813"/>
                  <a:pt x="14263" y="7813"/>
                </a:cubicBezTo>
              </a:path>
              <a:path w="571" h="274">
                <a:moveTo>
                  <a:pt x="13990" y="8062"/>
                </a:moveTo>
                <a:cubicBezTo>
                  <a:pt x="14098" y="8083"/>
                  <a:pt x="14201" y="8086"/>
                  <a:pt x="14312" y="8086"/>
                </a:cubicBezTo>
                <a:cubicBezTo>
                  <a:pt x="14320" y="8086"/>
                  <a:pt x="14329" y="8086"/>
                  <a:pt x="14337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8"/>
          <p:cNvSpPr/>
          <p:nvPr/>
        </p:nvSpPr>
        <p:spPr>
          <a:xfrm>
            <a:off x="5429160" y="2303640"/>
            <a:ext cx="777960" cy="465120"/>
          </a:xfrm>
          <a:custGeom>
            <a:avLst/>
            <a:gdLst/>
            <a:ahLst/>
            <a:rect l="l" t="t" r="r" b="b"/>
            <a:pathLst>
              <a:path w="2159" h="1290">
                <a:moveTo>
                  <a:pt x="15081" y="6896"/>
                </a:moveTo>
                <a:cubicBezTo>
                  <a:pt x="15189" y="6896"/>
                  <a:pt x="15279" y="6888"/>
                  <a:pt x="15379" y="6871"/>
                </a:cubicBezTo>
                <a:cubicBezTo>
                  <a:pt x="15504" y="6850"/>
                  <a:pt x="15649" y="6871"/>
                  <a:pt x="15776" y="6871"/>
                </a:cubicBezTo>
              </a:path>
              <a:path w="2159" h="1290">
                <a:moveTo>
                  <a:pt x="15974" y="6400"/>
                </a:moveTo>
                <a:cubicBezTo>
                  <a:pt x="15974" y="6618"/>
                  <a:pt x="15974" y="6833"/>
                  <a:pt x="15949" y="7045"/>
                </a:cubicBezTo>
                <a:cubicBezTo>
                  <a:pt x="15936" y="7157"/>
                  <a:pt x="15899" y="7640"/>
                  <a:pt x="15974" y="7689"/>
                </a:cubicBezTo>
              </a:path>
              <a:path w="2159" h="1290">
                <a:moveTo>
                  <a:pt x="16470" y="6995"/>
                </a:moveTo>
                <a:cubicBezTo>
                  <a:pt x="16552" y="6995"/>
                  <a:pt x="16627" y="7006"/>
                  <a:pt x="16694" y="7020"/>
                </a:cubicBezTo>
                <a:cubicBezTo>
                  <a:pt x="16880" y="7058"/>
                  <a:pt x="17404" y="7020"/>
                  <a:pt x="17214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9"/>
          <p:cNvSpPr/>
          <p:nvPr/>
        </p:nvSpPr>
        <p:spPr>
          <a:xfrm>
            <a:off x="6465960" y="2357280"/>
            <a:ext cx="677880" cy="438480"/>
          </a:xfrm>
          <a:custGeom>
            <a:avLst/>
            <a:gdLst/>
            <a:ahLst/>
            <a:rect l="l" t="t" r="r" b="b"/>
            <a:pathLst>
              <a:path w="1886" h="1217">
                <a:moveTo>
                  <a:pt x="17959" y="6921"/>
                </a:moveTo>
                <a:cubicBezTo>
                  <a:pt x="18028" y="6911"/>
                  <a:pt x="18079" y="6917"/>
                  <a:pt x="18157" y="6921"/>
                </a:cubicBezTo>
                <a:cubicBezTo>
                  <a:pt x="18240" y="6926"/>
                  <a:pt x="18309" y="6915"/>
                  <a:pt x="18380" y="6970"/>
                </a:cubicBezTo>
                <a:cubicBezTo>
                  <a:pt x="18430" y="7009"/>
                  <a:pt x="18448" y="7035"/>
                  <a:pt x="18455" y="7094"/>
                </a:cubicBezTo>
                <a:cubicBezTo>
                  <a:pt x="18464" y="7178"/>
                  <a:pt x="18479" y="7253"/>
                  <a:pt x="18479" y="7342"/>
                </a:cubicBezTo>
                <a:cubicBezTo>
                  <a:pt x="18479" y="7456"/>
                  <a:pt x="18486" y="7558"/>
                  <a:pt x="18504" y="7665"/>
                </a:cubicBezTo>
                <a:cubicBezTo>
                  <a:pt x="18504" y="7716"/>
                  <a:pt x="18505" y="7735"/>
                  <a:pt x="18529" y="7764"/>
                </a:cubicBezTo>
                <a:cubicBezTo>
                  <a:pt x="18543" y="7697"/>
                  <a:pt x="18584" y="7569"/>
                  <a:pt x="18579" y="7491"/>
                </a:cubicBezTo>
                <a:cubicBezTo>
                  <a:pt x="18573" y="7407"/>
                  <a:pt x="18554" y="7331"/>
                  <a:pt x="18554" y="7243"/>
                </a:cubicBezTo>
                <a:cubicBezTo>
                  <a:pt x="18554" y="7142"/>
                  <a:pt x="18571" y="7031"/>
                  <a:pt x="18579" y="6945"/>
                </a:cubicBezTo>
                <a:cubicBezTo>
                  <a:pt x="18589" y="6839"/>
                  <a:pt x="18567" y="6784"/>
                  <a:pt x="18628" y="6697"/>
                </a:cubicBezTo>
                <a:cubicBezTo>
                  <a:pt x="18668" y="6640"/>
                  <a:pt x="18715" y="6634"/>
                  <a:pt x="18777" y="6623"/>
                </a:cubicBezTo>
                <a:cubicBezTo>
                  <a:pt x="18836" y="6612"/>
                  <a:pt x="18932" y="6582"/>
                  <a:pt x="19000" y="6573"/>
                </a:cubicBezTo>
                <a:cubicBezTo>
                  <a:pt x="19161" y="6552"/>
                  <a:pt x="19333" y="6564"/>
                  <a:pt x="19496" y="6548"/>
                </a:cubicBezTo>
                <a:cubicBezTo>
                  <a:pt x="19583" y="6539"/>
                  <a:pt x="19816" y="6548"/>
                  <a:pt x="19819" y="6548"/>
                </a:cubicBezTo>
              </a:path>
              <a:path w="1886" h="1217">
                <a:moveTo>
                  <a:pt x="19025" y="6896"/>
                </a:moveTo>
                <a:cubicBezTo>
                  <a:pt x="19085" y="6926"/>
                  <a:pt x="19068" y="6882"/>
                  <a:pt x="19124" y="6846"/>
                </a:cubicBezTo>
                <a:cubicBezTo>
                  <a:pt x="19171" y="6816"/>
                  <a:pt x="19268" y="6805"/>
                  <a:pt x="19323" y="6821"/>
                </a:cubicBezTo>
                <a:cubicBezTo>
                  <a:pt x="19395" y="6841"/>
                  <a:pt x="19416" y="6901"/>
                  <a:pt x="19397" y="6970"/>
                </a:cubicBezTo>
                <a:cubicBezTo>
                  <a:pt x="19380" y="7030"/>
                  <a:pt x="19340" y="7077"/>
                  <a:pt x="19298" y="7119"/>
                </a:cubicBezTo>
                <a:cubicBezTo>
                  <a:pt x="19259" y="7158"/>
                  <a:pt x="19214" y="7164"/>
                  <a:pt x="19174" y="7193"/>
                </a:cubicBezTo>
                <a:cubicBezTo>
                  <a:pt x="19233" y="7229"/>
                  <a:pt x="19286" y="7194"/>
                  <a:pt x="19348" y="7218"/>
                </a:cubicBezTo>
                <a:cubicBezTo>
                  <a:pt x="19390" y="7234"/>
                  <a:pt x="19439" y="7283"/>
                  <a:pt x="19472" y="7317"/>
                </a:cubicBezTo>
                <a:cubicBezTo>
                  <a:pt x="19515" y="7361"/>
                  <a:pt x="19543" y="7408"/>
                  <a:pt x="19546" y="7466"/>
                </a:cubicBezTo>
                <a:cubicBezTo>
                  <a:pt x="19550" y="7540"/>
                  <a:pt x="19546" y="7583"/>
                  <a:pt x="19496" y="7640"/>
                </a:cubicBezTo>
                <a:cubicBezTo>
                  <a:pt x="19448" y="7695"/>
                  <a:pt x="19420" y="7689"/>
                  <a:pt x="19348" y="7689"/>
                </a:cubicBezTo>
                <a:cubicBezTo>
                  <a:pt x="19317" y="7689"/>
                  <a:pt x="19135" y="7661"/>
                  <a:pt x="19124" y="7665"/>
                </a:cubicBezTo>
                <a:cubicBezTo>
                  <a:pt x="19124" y="7673"/>
                  <a:pt x="19124" y="7681"/>
                  <a:pt x="19124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0"/>
          <p:cNvSpPr/>
          <p:nvPr/>
        </p:nvSpPr>
        <p:spPr>
          <a:xfrm>
            <a:off x="1928880" y="3017880"/>
            <a:ext cx="393480" cy="357120"/>
          </a:xfrm>
          <a:custGeom>
            <a:avLst/>
            <a:gdLst/>
            <a:ahLst/>
            <a:rect l="l" t="t" r="r" b="b"/>
            <a:pathLst>
              <a:path w="1092" h="993">
                <a:moveTo>
                  <a:pt x="5358" y="8384"/>
                </a:moveTo>
                <a:cubicBezTo>
                  <a:pt x="5358" y="8483"/>
                  <a:pt x="5367" y="8565"/>
                  <a:pt x="5383" y="8657"/>
                </a:cubicBezTo>
                <a:cubicBezTo>
                  <a:pt x="5410" y="8817"/>
                  <a:pt x="5386" y="8993"/>
                  <a:pt x="5407" y="9153"/>
                </a:cubicBezTo>
                <a:cubicBezTo>
                  <a:pt x="5412" y="9189"/>
                  <a:pt x="5389" y="9421"/>
                  <a:pt x="5432" y="9351"/>
                </a:cubicBezTo>
                <a:cubicBezTo>
                  <a:pt x="5432" y="9343"/>
                  <a:pt x="5432" y="9335"/>
                  <a:pt x="5432" y="9327"/>
                </a:cubicBezTo>
              </a:path>
              <a:path w="1092" h="993">
                <a:moveTo>
                  <a:pt x="6102" y="8657"/>
                </a:moveTo>
                <a:cubicBezTo>
                  <a:pt x="6073" y="8733"/>
                  <a:pt x="6077" y="8797"/>
                  <a:pt x="6077" y="8880"/>
                </a:cubicBezTo>
                <a:cubicBezTo>
                  <a:pt x="6077" y="8985"/>
                  <a:pt x="6089" y="9080"/>
                  <a:pt x="6102" y="9178"/>
                </a:cubicBezTo>
                <a:cubicBezTo>
                  <a:pt x="6108" y="9225"/>
                  <a:pt x="6102" y="9279"/>
                  <a:pt x="6102" y="9327"/>
                </a:cubicBezTo>
              </a:path>
              <a:path w="1092" h="993">
                <a:moveTo>
                  <a:pt x="5804" y="8979"/>
                </a:moveTo>
                <a:cubicBezTo>
                  <a:pt x="6019" y="8979"/>
                  <a:pt x="6234" y="8979"/>
                  <a:pt x="6449" y="89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1"/>
          <p:cNvSpPr/>
          <p:nvPr/>
        </p:nvSpPr>
        <p:spPr>
          <a:xfrm>
            <a:off x="2509920" y="3081240"/>
            <a:ext cx="2293920" cy="320760"/>
          </a:xfrm>
          <a:custGeom>
            <a:avLst/>
            <a:gdLst/>
            <a:ahLst/>
            <a:rect l="l" t="t" r="r" b="b"/>
            <a:pathLst>
              <a:path w="6376" h="894">
                <a:moveTo>
                  <a:pt x="7268" y="8657"/>
                </a:moveTo>
                <a:cubicBezTo>
                  <a:pt x="7268" y="8897"/>
                  <a:pt x="7268" y="9136"/>
                  <a:pt x="7268" y="9376"/>
                </a:cubicBezTo>
              </a:path>
              <a:path w="6376" h="894">
                <a:moveTo>
                  <a:pt x="6970" y="8979"/>
                </a:moveTo>
                <a:cubicBezTo>
                  <a:pt x="7047" y="8950"/>
                  <a:pt x="7108" y="8954"/>
                  <a:pt x="7193" y="8954"/>
                </a:cubicBezTo>
                <a:cubicBezTo>
                  <a:pt x="7317" y="8954"/>
                  <a:pt x="7423" y="8966"/>
                  <a:pt x="7541" y="8979"/>
                </a:cubicBezTo>
                <a:cubicBezTo>
                  <a:pt x="7631" y="8989"/>
                  <a:pt x="7720" y="8954"/>
                  <a:pt x="7813" y="8954"/>
                </a:cubicBezTo>
                <a:cubicBezTo>
                  <a:pt x="7830" y="8954"/>
                  <a:pt x="7846" y="8954"/>
                  <a:pt x="7863" y="8954"/>
                </a:cubicBezTo>
                <a:cubicBezTo>
                  <a:pt x="7811" y="8984"/>
                  <a:pt x="7781" y="9012"/>
                  <a:pt x="7739" y="9054"/>
                </a:cubicBezTo>
                <a:cubicBezTo>
                  <a:pt x="7686" y="9107"/>
                  <a:pt x="7644" y="9155"/>
                  <a:pt x="7640" y="9227"/>
                </a:cubicBezTo>
                <a:cubicBezTo>
                  <a:pt x="7633" y="9351"/>
                  <a:pt x="7630" y="9377"/>
                  <a:pt x="7764" y="9401"/>
                </a:cubicBezTo>
                <a:cubicBezTo>
                  <a:pt x="7809" y="9409"/>
                  <a:pt x="7868" y="9369"/>
                  <a:pt x="7888" y="9327"/>
                </a:cubicBezTo>
                <a:cubicBezTo>
                  <a:pt x="7907" y="9287"/>
                  <a:pt x="7946" y="9171"/>
                  <a:pt x="7938" y="9128"/>
                </a:cubicBezTo>
                <a:cubicBezTo>
                  <a:pt x="7916" y="9063"/>
                  <a:pt x="7908" y="9048"/>
                  <a:pt x="7913" y="9004"/>
                </a:cubicBezTo>
                <a:cubicBezTo>
                  <a:pt x="7913" y="9100"/>
                  <a:pt x="7912" y="9169"/>
                  <a:pt x="7962" y="9252"/>
                </a:cubicBezTo>
                <a:cubicBezTo>
                  <a:pt x="7992" y="9302"/>
                  <a:pt x="8034" y="9324"/>
                  <a:pt x="8086" y="9327"/>
                </a:cubicBezTo>
                <a:cubicBezTo>
                  <a:pt x="8146" y="9331"/>
                  <a:pt x="8149" y="9326"/>
                  <a:pt x="8161" y="9277"/>
                </a:cubicBezTo>
              </a:path>
              <a:path w="6376" h="894">
                <a:moveTo>
                  <a:pt x="8186" y="9004"/>
                </a:moveTo>
                <a:cubicBezTo>
                  <a:pt x="8186" y="9077"/>
                  <a:pt x="8186" y="9421"/>
                  <a:pt x="8186" y="9327"/>
                </a:cubicBezTo>
                <a:cubicBezTo>
                  <a:pt x="8186" y="9234"/>
                  <a:pt x="8205" y="9167"/>
                  <a:pt x="8235" y="9079"/>
                </a:cubicBezTo>
                <a:cubicBezTo>
                  <a:pt x="8241" y="9062"/>
                  <a:pt x="8290" y="8927"/>
                  <a:pt x="8334" y="8930"/>
                </a:cubicBezTo>
                <a:cubicBezTo>
                  <a:pt x="8420" y="8936"/>
                  <a:pt x="8451" y="9015"/>
                  <a:pt x="8483" y="9079"/>
                </a:cubicBezTo>
                <a:cubicBezTo>
                  <a:pt x="8504" y="9122"/>
                  <a:pt x="8550" y="9206"/>
                  <a:pt x="8558" y="9252"/>
                </a:cubicBezTo>
                <a:cubicBezTo>
                  <a:pt x="8572" y="9326"/>
                  <a:pt x="8522" y="9462"/>
                  <a:pt x="8607" y="9376"/>
                </a:cubicBezTo>
              </a:path>
              <a:path w="6376" h="894">
                <a:moveTo>
                  <a:pt x="8979" y="8657"/>
                </a:moveTo>
                <a:cubicBezTo>
                  <a:pt x="8979" y="8847"/>
                  <a:pt x="8969" y="9054"/>
                  <a:pt x="9004" y="9227"/>
                </a:cubicBezTo>
                <a:cubicBezTo>
                  <a:pt x="9022" y="9315"/>
                  <a:pt x="8959" y="9318"/>
                  <a:pt x="9054" y="9302"/>
                </a:cubicBezTo>
              </a:path>
              <a:path w="6376" h="894">
                <a:moveTo>
                  <a:pt x="9302" y="8756"/>
                </a:moveTo>
                <a:cubicBezTo>
                  <a:pt x="9394" y="8743"/>
                  <a:pt x="9487" y="8715"/>
                  <a:pt x="9500" y="8830"/>
                </a:cubicBezTo>
                <a:cubicBezTo>
                  <a:pt x="9509" y="8911"/>
                  <a:pt x="9429" y="9007"/>
                  <a:pt x="9351" y="9029"/>
                </a:cubicBezTo>
                <a:cubicBezTo>
                  <a:pt x="9335" y="9029"/>
                  <a:pt x="9318" y="9029"/>
                  <a:pt x="9302" y="9029"/>
                </a:cubicBezTo>
                <a:cubicBezTo>
                  <a:pt x="9384" y="8988"/>
                  <a:pt x="9414" y="8965"/>
                  <a:pt x="9500" y="9004"/>
                </a:cubicBezTo>
                <a:cubicBezTo>
                  <a:pt x="9573" y="9037"/>
                  <a:pt x="9653" y="9081"/>
                  <a:pt x="9649" y="9178"/>
                </a:cubicBezTo>
                <a:cubicBezTo>
                  <a:pt x="9645" y="9277"/>
                  <a:pt x="9617" y="9301"/>
                  <a:pt x="9550" y="9351"/>
                </a:cubicBezTo>
                <a:cubicBezTo>
                  <a:pt x="9487" y="9398"/>
                  <a:pt x="9455" y="9401"/>
                  <a:pt x="9376" y="9401"/>
                </a:cubicBezTo>
                <a:cubicBezTo>
                  <a:pt x="9350" y="9401"/>
                  <a:pt x="9252" y="9380"/>
                  <a:pt x="9277" y="9327"/>
                </a:cubicBezTo>
                <a:cubicBezTo>
                  <a:pt x="9294" y="9302"/>
                  <a:pt x="9310" y="9277"/>
                  <a:pt x="9327" y="9252"/>
                </a:cubicBezTo>
              </a:path>
              <a:path w="6376" h="894">
                <a:moveTo>
                  <a:pt x="9922" y="8781"/>
                </a:moveTo>
                <a:cubicBezTo>
                  <a:pt x="9977" y="8748"/>
                  <a:pt x="10028" y="8756"/>
                  <a:pt x="10096" y="8756"/>
                </a:cubicBezTo>
                <a:cubicBezTo>
                  <a:pt x="10181" y="8756"/>
                  <a:pt x="10242" y="8760"/>
                  <a:pt x="10319" y="8731"/>
                </a:cubicBezTo>
              </a:path>
              <a:path w="6376" h="894">
                <a:moveTo>
                  <a:pt x="10046" y="8756"/>
                </a:moveTo>
                <a:cubicBezTo>
                  <a:pt x="9974" y="8814"/>
                  <a:pt x="9901" y="8858"/>
                  <a:pt x="9971" y="8954"/>
                </a:cubicBezTo>
                <a:cubicBezTo>
                  <a:pt x="10011" y="9009"/>
                  <a:pt x="10114" y="8957"/>
                  <a:pt x="10170" y="8954"/>
                </a:cubicBezTo>
                <a:cubicBezTo>
                  <a:pt x="10281" y="8949"/>
                  <a:pt x="10293" y="8981"/>
                  <a:pt x="10344" y="9079"/>
                </a:cubicBezTo>
                <a:cubicBezTo>
                  <a:pt x="10367" y="9124"/>
                  <a:pt x="10424" y="9201"/>
                  <a:pt x="10418" y="9252"/>
                </a:cubicBezTo>
                <a:cubicBezTo>
                  <a:pt x="10414" y="9288"/>
                  <a:pt x="10333" y="9390"/>
                  <a:pt x="10294" y="9401"/>
                </a:cubicBezTo>
                <a:cubicBezTo>
                  <a:pt x="10217" y="9423"/>
                  <a:pt x="10171" y="9427"/>
                  <a:pt x="10096" y="9401"/>
                </a:cubicBezTo>
                <a:cubicBezTo>
                  <a:pt x="10019" y="9374"/>
                  <a:pt x="9991" y="9385"/>
                  <a:pt x="10021" y="9327"/>
                </a:cubicBezTo>
              </a:path>
              <a:path w="6376" h="894">
                <a:moveTo>
                  <a:pt x="10864" y="8706"/>
                </a:moveTo>
                <a:cubicBezTo>
                  <a:pt x="10864" y="8779"/>
                  <a:pt x="10843" y="8835"/>
                  <a:pt x="10840" y="8905"/>
                </a:cubicBezTo>
                <a:cubicBezTo>
                  <a:pt x="10834" y="9040"/>
                  <a:pt x="10843" y="9174"/>
                  <a:pt x="10864" y="9302"/>
                </a:cubicBezTo>
                <a:cubicBezTo>
                  <a:pt x="10880" y="9399"/>
                  <a:pt x="10919" y="9431"/>
                  <a:pt x="10889" y="9401"/>
                </a:cubicBezTo>
                <a:cubicBezTo>
                  <a:pt x="10881" y="9401"/>
                  <a:pt x="10872" y="9401"/>
                  <a:pt x="10864" y="9401"/>
                </a:cubicBezTo>
              </a:path>
              <a:path w="6376" h="894">
                <a:moveTo>
                  <a:pt x="10641" y="9004"/>
                </a:moveTo>
                <a:cubicBezTo>
                  <a:pt x="10889" y="9004"/>
                  <a:pt x="11137" y="9004"/>
                  <a:pt x="11385" y="9004"/>
                </a:cubicBezTo>
                <a:cubicBezTo>
                  <a:pt x="11343" y="9064"/>
                  <a:pt x="11292" y="9098"/>
                  <a:pt x="11237" y="9153"/>
                </a:cubicBezTo>
                <a:cubicBezTo>
                  <a:pt x="11188" y="9203"/>
                  <a:pt x="11166" y="9230"/>
                  <a:pt x="11162" y="9302"/>
                </a:cubicBezTo>
                <a:cubicBezTo>
                  <a:pt x="11158" y="9380"/>
                  <a:pt x="11215" y="9396"/>
                  <a:pt x="11286" y="9376"/>
                </a:cubicBezTo>
                <a:cubicBezTo>
                  <a:pt x="11362" y="9355"/>
                  <a:pt x="11420" y="9276"/>
                  <a:pt x="11435" y="9203"/>
                </a:cubicBezTo>
                <a:cubicBezTo>
                  <a:pt x="11444" y="9158"/>
                  <a:pt x="11435" y="9100"/>
                  <a:pt x="11435" y="9054"/>
                </a:cubicBezTo>
                <a:cubicBezTo>
                  <a:pt x="11435" y="9145"/>
                  <a:pt x="11434" y="9221"/>
                  <a:pt x="11485" y="9302"/>
                </a:cubicBezTo>
                <a:cubicBezTo>
                  <a:pt x="11498" y="9323"/>
                  <a:pt x="11607" y="9365"/>
                  <a:pt x="11633" y="9351"/>
                </a:cubicBezTo>
                <a:cubicBezTo>
                  <a:pt x="11633" y="9323"/>
                  <a:pt x="11636" y="9313"/>
                  <a:pt x="11658" y="9302"/>
                </a:cubicBezTo>
              </a:path>
              <a:path w="6376" h="894">
                <a:moveTo>
                  <a:pt x="11683" y="9004"/>
                </a:moveTo>
                <a:cubicBezTo>
                  <a:pt x="11641" y="9110"/>
                  <a:pt x="11641" y="9152"/>
                  <a:pt x="11658" y="9252"/>
                </a:cubicBezTo>
                <a:cubicBezTo>
                  <a:pt x="11668" y="9310"/>
                  <a:pt x="11653" y="9327"/>
                  <a:pt x="11683" y="9376"/>
                </a:cubicBezTo>
                <a:cubicBezTo>
                  <a:pt x="11725" y="9314"/>
                  <a:pt x="11748" y="9229"/>
                  <a:pt x="11757" y="9153"/>
                </a:cubicBezTo>
                <a:cubicBezTo>
                  <a:pt x="11763" y="9103"/>
                  <a:pt x="11765" y="8978"/>
                  <a:pt x="11832" y="8954"/>
                </a:cubicBezTo>
                <a:cubicBezTo>
                  <a:pt x="11907" y="8927"/>
                  <a:pt x="11954" y="9002"/>
                  <a:pt x="11981" y="9054"/>
                </a:cubicBezTo>
                <a:cubicBezTo>
                  <a:pt x="12014" y="9118"/>
                  <a:pt x="12008" y="9187"/>
                  <a:pt x="12030" y="9252"/>
                </a:cubicBezTo>
                <a:cubicBezTo>
                  <a:pt x="12044" y="9295"/>
                  <a:pt x="12049" y="9487"/>
                  <a:pt x="12080" y="9426"/>
                </a:cubicBezTo>
                <a:cubicBezTo>
                  <a:pt x="12080" y="9418"/>
                  <a:pt x="12080" y="9409"/>
                  <a:pt x="12080" y="9401"/>
                </a:cubicBezTo>
              </a:path>
              <a:path w="6376" h="894">
                <a:moveTo>
                  <a:pt x="12254" y="8756"/>
                </a:moveTo>
                <a:cubicBezTo>
                  <a:pt x="12317" y="8665"/>
                  <a:pt x="12318" y="8637"/>
                  <a:pt x="12427" y="8632"/>
                </a:cubicBezTo>
                <a:cubicBezTo>
                  <a:pt x="12471" y="8630"/>
                  <a:pt x="12561" y="8653"/>
                  <a:pt x="12576" y="8706"/>
                </a:cubicBezTo>
                <a:cubicBezTo>
                  <a:pt x="12595" y="8772"/>
                  <a:pt x="12525" y="8846"/>
                  <a:pt x="12477" y="8880"/>
                </a:cubicBezTo>
                <a:cubicBezTo>
                  <a:pt x="12433" y="8902"/>
                  <a:pt x="12412" y="8915"/>
                  <a:pt x="12452" y="8880"/>
                </a:cubicBezTo>
                <a:cubicBezTo>
                  <a:pt x="12539" y="8888"/>
                  <a:pt x="12566" y="8893"/>
                  <a:pt x="12626" y="8954"/>
                </a:cubicBezTo>
                <a:cubicBezTo>
                  <a:pt x="12685" y="9014"/>
                  <a:pt x="12696" y="9041"/>
                  <a:pt x="12700" y="9128"/>
                </a:cubicBezTo>
                <a:cubicBezTo>
                  <a:pt x="12704" y="9205"/>
                  <a:pt x="12677" y="9250"/>
                  <a:pt x="12626" y="9302"/>
                </a:cubicBezTo>
                <a:cubicBezTo>
                  <a:pt x="12582" y="9347"/>
                  <a:pt x="12516" y="9368"/>
                  <a:pt x="12452" y="9351"/>
                </a:cubicBezTo>
                <a:cubicBezTo>
                  <a:pt x="12387" y="9334"/>
                  <a:pt x="12325" y="9292"/>
                  <a:pt x="12303" y="9227"/>
                </a:cubicBezTo>
                <a:cubicBezTo>
                  <a:pt x="12303" y="9219"/>
                  <a:pt x="12303" y="9211"/>
                  <a:pt x="12303" y="9203"/>
                </a:cubicBezTo>
              </a:path>
              <a:path w="6376" h="894">
                <a:moveTo>
                  <a:pt x="12923" y="8756"/>
                </a:moveTo>
                <a:cubicBezTo>
                  <a:pt x="12881" y="8809"/>
                  <a:pt x="12855" y="8869"/>
                  <a:pt x="12824" y="8930"/>
                </a:cubicBezTo>
                <a:cubicBezTo>
                  <a:pt x="12792" y="8993"/>
                  <a:pt x="12760" y="9108"/>
                  <a:pt x="12774" y="9178"/>
                </a:cubicBezTo>
                <a:cubicBezTo>
                  <a:pt x="12787" y="9242"/>
                  <a:pt x="12855" y="9292"/>
                  <a:pt x="12898" y="9327"/>
                </a:cubicBezTo>
                <a:cubicBezTo>
                  <a:pt x="12937" y="9360"/>
                  <a:pt x="13042" y="9388"/>
                  <a:pt x="13097" y="9376"/>
                </a:cubicBezTo>
                <a:cubicBezTo>
                  <a:pt x="13208" y="9352"/>
                  <a:pt x="13247" y="9323"/>
                  <a:pt x="13295" y="9227"/>
                </a:cubicBezTo>
                <a:cubicBezTo>
                  <a:pt x="13336" y="9144"/>
                  <a:pt x="13346" y="9096"/>
                  <a:pt x="13320" y="9004"/>
                </a:cubicBezTo>
                <a:cubicBezTo>
                  <a:pt x="13291" y="8902"/>
                  <a:pt x="13203" y="8838"/>
                  <a:pt x="13146" y="8756"/>
                </a:cubicBezTo>
                <a:cubicBezTo>
                  <a:pt x="13115" y="8711"/>
                  <a:pt x="13064" y="8634"/>
                  <a:pt x="13047" y="8582"/>
                </a:cubicBezTo>
                <a:cubicBezTo>
                  <a:pt x="13047" y="8574"/>
                  <a:pt x="13047" y="8566"/>
                  <a:pt x="1304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2"/>
          <p:cNvSpPr/>
          <p:nvPr/>
        </p:nvSpPr>
        <p:spPr>
          <a:xfrm>
            <a:off x="5643720" y="3098880"/>
            <a:ext cx="36360" cy="374400"/>
          </a:xfrm>
          <a:custGeom>
            <a:avLst/>
            <a:gdLst/>
            <a:ahLst/>
            <a:rect l="l" t="t" r="r" b="b"/>
            <a:pathLst>
              <a:path w="100" h="1043">
                <a:moveTo>
                  <a:pt x="15677" y="8607"/>
                </a:moveTo>
                <a:cubicBezTo>
                  <a:pt x="15709" y="8663"/>
                  <a:pt x="15722" y="8736"/>
                  <a:pt x="15726" y="8806"/>
                </a:cubicBezTo>
                <a:cubicBezTo>
                  <a:pt x="15732" y="8923"/>
                  <a:pt x="15751" y="9035"/>
                  <a:pt x="15751" y="9153"/>
                </a:cubicBezTo>
                <a:cubicBezTo>
                  <a:pt x="15751" y="9245"/>
                  <a:pt x="15762" y="9317"/>
                  <a:pt x="15776" y="9401"/>
                </a:cubicBezTo>
                <a:cubicBezTo>
                  <a:pt x="15788" y="9472"/>
                  <a:pt x="15742" y="9568"/>
                  <a:pt x="15751" y="9624"/>
                </a:cubicBezTo>
                <a:cubicBezTo>
                  <a:pt x="15759" y="9632"/>
                  <a:pt x="15768" y="9641"/>
                  <a:pt x="15776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3"/>
          <p:cNvSpPr/>
          <p:nvPr/>
        </p:nvSpPr>
        <p:spPr>
          <a:xfrm>
            <a:off x="5875200" y="3125880"/>
            <a:ext cx="1571760" cy="527040"/>
          </a:xfrm>
          <a:custGeom>
            <a:avLst/>
            <a:gdLst/>
            <a:ahLst/>
            <a:rect l="l" t="t" r="r" b="b"/>
            <a:pathLst>
              <a:path w="4367" h="1464">
                <a:moveTo>
                  <a:pt x="16495" y="8855"/>
                </a:moveTo>
                <a:cubicBezTo>
                  <a:pt x="16507" y="8947"/>
                  <a:pt x="16520" y="9030"/>
                  <a:pt x="16520" y="9128"/>
                </a:cubicBezTo>
                <a:cubicBezTo>
                  <a:pt x="16520" y="9228"/>
                  <a:pt x="16554" y="9302"/>
                  <a:pt x="16570" y="9401"/>
                </a:cubicBezTo>
                <a:cubicBezTo>
                  <a:pt x="16580" y="9466"/>
                  <a:pt x="16605" y="9512"/>
                  <a:pt x="16619" y="9575"/>
                </a:cubicBezTo>
                <a:cubicBezTo>
                  <a:pt x="16619" y="9591"/>
                  <a:pt x="16619" y="9608"/>
                  <a:pt x="16619" y="9624"/>
                </a:cubicBezTo>
              </a:path>
              <a:path w="4367" h="1464">
                <a:moveTo>
                  <a:pt x="16321" y="9277"/>
                </a:moveTo>
                <a:cubicBezTo>
                  <a:pt x="16398" y="9251"/>
                  <a:pt x="16463" y="9252"/>
                  <a:pt x="16545" y="9252"/>
                </a:cubicBezTo>
                <a:cubicBezTo>
                  <a:pt x="16642" y="9252"/>
                  <a:pt x="16775" y="9280"/>
                  <a:pt x="16867" y="9302"/>
                </a:cubicBezTo>
                <a:cubicBezTo>
                  <a:pt x="16915" y="9326"/>
                  <a:pt x="16929" y="9334"/>
                  <a:pt x="16966" y="9327"/>
                </a:cubicBezTo>
              </a:path>
              <a:path w="4367" h="1464">
                <a:moveTo>
                  <a:pt x="17462" y="8830"/>
                </a:moveTo>
                <a:cubicBezTo>
                  <a:pt x="17454" y="8933"/>
                  <a:pt x="17431" y="9032"/>
                  <a:pt x="17388" y="9128"/>
                </a:cubicBezTo>
                <a:cubicBezTo>
                  <a:pt x="17343" y="9231"/>
                  <a:pt x="17314" y="9267"/>
                  <a:pt x="17314" y="9376"/>
                </a:cubicBezTo>
                <a:cubicBezTo>
                  <a:pt x="17314" y="9451"/>
                  <a:pt x="17316" y="9513"/>
                  <a:pt x="17363" y="9575"/>
                </a:cubicBezTo>
                <a:cubicBezTo>
                  <a:pt x="17405" y="9631"/>
                  <a:pt x="17459" y="9660"/>
                  <a:pt x="17512" y="9699"/>
                </a:cubicBezTo>
                <a:cubicBezTo>
                  <a:pt x="17541" y="9727"/>
                  <a:pt x="17554" y="9735"/>
                  <a:pt x="17587" y="9723"/>
                </a:cubicBezTo>
              </a:path>
              <a:path w="4367" h="1464">
                <a:moveTo>
                  <a:pt x="17611" y="9351"/>
                </a:moveTo>
                <a:cubicBezTo>
                  <a:pt x="17686" y="9351"/>
                  <a:pt x="17760" y="9351"/>
                  <a:pt x="17835" y="9351"/>
                </a:cubicBezTo>
              </a:path>
              <a:path w="4367" h="1464">
                <a:moveTo>
                  <a:pt x="18231" y="8930"/>
                </a:moveTo>
                <a:cubicBezTo>
                  <a:pt x="18203" y="8978"/>
                  <a:pt x="18191" y="9068"/>
                  <a:pt x="18182" y="9128"/>
                </a:cubicBezTo>
                <a:cubicBezTo>
                  <a:pt x="18166" y="9241"/>
                  <a:pt x="18202" y="9343"/>
                  <a:pt x="18207" y="9451"/>
                </a:cubicBezTo>
                <a:cubicBezTo>
                  <a:pt x="18211" y="9533"/>
                  <a:pt x="18222" y="9596"/>
                  <a:pt x="18231" y="9674"/>
                </a:cubicBezTo>
              </a:path>
              <a:path w="4367" h="1464">
                <a:moveTo>
                  <a:pt x="18405" y="8830"/>
                </a:moveTo>
                <a:cubicBezTo>
                  <a:pt x="18439" y="8864"/>
                  <a:pt x="18510" y="8923"/>
                  <a:pt x="18529" y="8954"/>
                </a:cubicBezTo>
                <a:cubicBezTo>
                  <a:pt x="18589" y="9054"/>
                  <a:pt x="18635" y="9237"/>
                  <a:pt x="18653" y="9351"/>
                </a:cubicBezTo>
                <a:cubicBezTo>
                  <a:pt x="18667" y="9438"/>
                  <a:pt x="18639" y="9517"/>
                  <a:pt x="18628" y="9599"/>
                </a:cubicBezTo>
                <a:cubicBezTo>
                  <a:pt x="18619" y="9668"/>
                  <a:pt x="18610" y="9749"/>
                  <a:pt x="18529" y="9773"/>
                </a:cubicBezTo>
                <a:cubicBezTo>
                  <a:pt x="18512" y="9773"/>
                  <a:pt x="18496" y="9773"/>
                  <a:pt x="18479" y="9773"/>
                </a:cubicBezTo>
              </a:path>
              <a:path w="4367" h="1464">
                <a:moveTo>
                  <a:pt x="18926" y="9277"/>
                </a:moveTo>
                <a:lnTo>
                  <a:pt x="18926" y="9277"/>
                </a:lnTo>
              </a:path>
              <a:path w="4367" h="1464">
                <a:moveTo>
                  <a:pt x="19372" y="8806"/>
                </a:moveTo>
                <a:cubicBezTo>
                  <a:pt x="19340" y="8862"/>
                  <a:pt x="19310" y="8926"/>
                  <a:pt x="19273" y="8979"/>
                </a:cubicBezTo>
                <a:cubicBezTo>
                  <a:pt x="19239" y="9028"/>
                  <a:pt x="19188" y="9092"/>
                  <a:pt x="19174" y="9153"/>
                </a:cubicBezTo>
                <a:cubicBezTo>
                  <a:pt x="19152" y="9252"/>
                  <a:pt x="19164" y="9437"/>
                  <a:pt x="19199" y="9525"/>
                </a:cubicBezTo>
                <a:cubicBezTo>
                  <a:pt x="19228" y="9598"/>
                  <a:pt x="19276" y="9663"/>
                  <a:pt x="19323" y="9723"/>
                </a:cubicBezTo>
                <a:cubicBezTo>
                  <a:pt x="19363" y="9775"/>
                  <a:pt x="19387" y="9789"/>
                  <a:pt x="19447" y="9798"/>
                </a:cubicBezTo>
              </a:path>
              <a:path w="4367" h="1464">
                <a:moveTo>
                  <a:pt x="19645" y="9203"/>
                </a:moveTo>
                <a:cubicBezTo>
                  <a:pt x="19673" y="9303"/>
                  <a:pt x="19652" y="9330"/>
                  <a:pt x="19645" y="9426"/>
                </a:cubicBezTo>
                <a:cubicBezTo>
                  <a:pt x="19640" y="9490"/>
                  <a:pt x="19645" y="9591"/>
                  <a:pt x="19670" y="9649"/>
                </a:cubicBezTo>
                <a:cubicBezTo>
                  <a:pt x="19685" y="9685"/>
                  <a:pt x="19699" y="9714"/>
                  <a:pt x="19720" y="9748"/>
                </a:cubicBezTo>
                <a:cubicBezTo>
                  <a:pt x="19749" y="9672"/>
                  <a:pt x="19745" y="9608"/>
                  <a:pt x="19745" y="9525"/>
                </a:cubicBezTo>
                <a:cubicBezTo>
                  <a:pt x="19745" y="9396"/>
                  <a:pt x="19676" y="8877"/>
                  <a:pt x="19769" y="8806"/>
                </a:cubicBezTo>
                <a:cubicBezTo>
                  <a:pt x="19823" y="8764"/>
                  <a:pt x="19904" y="8781"/>
                  <a:pt x="19968" y="8781"/>
                </a:cubicBezTo>
                <a:cubicBezTo>
                  <a:pt x="20031" y="8781"/>
                  <a:pt x="20076" y="8806"/>
                  <a:pt x="20141" y="8806"/>
                </a:cubicBezTo>
              </a:path>
              <a:path w="4367" h="1464">
                <a:moveTo>
                  <a:pt x="19943" y="9079"/>
                </a:moveTo>
                <a:cubicBezTo>
                  <a:pt x="20002" y="9107"/>
                  <a:pt x="20019" y="9045"/>
                  <a:pt x="20092" y="9029"/>
                </a:cubicBezTo>
                <a:cubicBezTo>
                  <a:pt x="20124" y="9022"/>
                  <a:pt x="20253" y="9011"/>
                  <a:pt x="20265" y="9054"/>
                </a:cubicBezTo>
                <a:cubicBezTo>
                  <a:pt x="20297" y="9171"/>
                  <a:pt x="20203" y="9173"/>
                  <a:pt x="20141" y="9203"/>
                </a:cubicBezTo>
                <a:cubicBezTo>
                  <a:pt x="20097" y="9224"/>
                  <a:pt x="20052" y="9292"/>
                  <a:pt x="20017" y="9327"/>
                </a:cubicBezTo>
                <a:cubicBezTo>
                  <a:pt x="20104" y="9319"/>
                  <a:pt x="20144" y="9312"/>
                  <a:pt x="20216" y="9327"/>
                </a:cubicBezTo>
                <a:cubicBezTo>
                  <a:pt x="20302" y="9344"/>
                  <a:pt x="20335" y="9356"/>
                  <a:pt x="20365" y="9451"/>
                </a:cubicBezTo>
                <a:cubicBezTo>
                  <a:pt x="20384" y="9510"/>
                  <a:pt x="20346" y="9616"/>
                  <a:pt x="20290" y="9649"/>
                </a:cubicBezTo>
                <a:cubicBezTo>
                  <a:pt x="20243" y="9677"/>
                  <a:pt x="20108" y="9647"/>
                  <a:pt x="20067" y="9624"/>
                </a:cubicBezTo>
                <a:cubicBezTo>
                  <a:pt x="20059" y="9616"/>
                  <a:pt x="20050" y="9607"/>
                  <a:pt x="20042" y="9599"/>
                </a:cubicBezTo>
              </a:path>
              <a:path w="4367" h="1464">
                <a:moveTo>
                  <a:pt x="20340" y="8682"/>
                </a:moveTo>
                <a:cubicBezTo>
                  <a:pt x="20416" y="8729"/>
                  <a:pt x="20479" y="8792"/>
                  <a:pt x="20513" y="8880"/>
                </a:cubicBezTo>
                <a:cubicBezTo>
                  <a:pt x="20572" y="9032"/>
                  <a:pt x="20622" y="9195"/>
                  <a:pt x="20662" y="9351"/>
                </a:cubicBezTo>
                <a:cubicBezTo>
                  <a:pt x="20694" y="9476"/>
                  <a:pt x="20687" y="9595"/>
                  <a:pt x="20687" y="9723"/>
                </a:cubicBezTo>
                <a:cubicBezTo>
                  <a:pt x="20687" y="9916"/>
                  <a:pt x="20593" y="10016"/>
                  <a:pt x="20464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4"/>
          <p:cNvSpPr/>
          <p:nvPr/>
        </p:nvSpPr>
        <p:spPr>
          <a:xfrm>
            <a:off x="1768320" y="2830680"/>
            <a:ext cx="2544840" cy="36360"/>
          </a:xfrm>
          <a:custGeom>
            <a:avLst/>
            <a:gdLst/>
            <a:ahLst/>
            <a:rect l="l" t="t" r="r" b="b"/>
            <a:pathLst>
              <a:path w="7071" h="100">
                <a:moveTo>
                  <a:pt x="4911" y="7888"/>
                </a:moveTo>
                <a:cubicBezTo>
                  <a:pt x="5912" y="7888"/>
                  <a:pt x="6972" y="7759"/>
                  <a:pt x="7962" y="7863"/>
                </a:cubicBezTo>
                <a:cubicBezTo>
                  <a:pt x="8137" y="7881"/>
                  <a:pt x="8305" y="7888"/>
                  <a:pt x="8483" y="7888"/>
                </a:cubicBezTo>
                <a:cubicBezTo>
                  <a:pt x="8706" y="7888"/>
                  <a:pt x="8927" y="7913"/>
                  <a:pt x="9153" y="7913"/>
                </a:cubicBezTo>
                <a:cubicBezTo>
                  <a:pt x="9494" y="7913"/>
                  <a:pt x="9832" y="7911"/>
                  <a:pt x="10170" y="7888"/>
                </a:cubicBezTo>
                <a:cubicBezTo>
                  <a:pt x="10508" y="7865"/>
                  <a:pt x="10852" y="7897"/>
                  <a:pt x="11187" y="7913"/>
                </a:cubicBezTo>
                <a:cubicBezTo>
                  <a:pt x="11358" y="7921"/>
                  <a:pt x="11515" y="7917"/>
                  <a:pt x="11683" y="7938"/>
                </a:cubicBezTo>
                <a:cubicBezTo>
                  <a:pt x="11770" y="7949"/>
                  <a:pt x="11844" y="7955"/>
                  <a:pt x="11931" y="7962"/>
                </a:cubicBezTo>
                <a:cubicBezTo>
                  <a:pt x="11948" y="7962"/>
                  <a:pt x="11964" y="7962"/>
                  <a:pt x="11981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5"/>
          <p:cNvSpPr/>
          <p:nvPr/>
        </p:nvSpPr>
        <p:spPr>
          <a:xfrm>
            <a:off x="5491080" y="2867040"/>
            <a:ext cx="2233800" cy="106200"/>
          </a:xfrm>
          <a:custGeom>
            <a:avLst/>
            <a:gdLst/>
            <a:ahLst/>
            <a:rect l="l" t="t" r="r" b="b"/>
            <a:pathLst>
              <a:path w="6202" h="299">
                <a:moveTo>
                  <a:pt x="15255" y="7962"/>
                </a:moveTo>
                <a:cubicBezTo>
                  <a:pt x="15310" y="7992"/>
                  <a:pt x="15309" y="8006"/>
                  <a:pt x="15429" y="8012"/>
                </a:cubicBezTo>
                <a:cubicBezTo>
                  <a:pt x="15523" y="8017"/>
                  <a:pt x="15608" y="8030"/>
                  <a:pt x="15701" y="8037"/>
                </a:cubicBezTo>
                <a:cubicBezTo>
                  <a:pt x="15939" y="8054"/>
                  <a:pt x="16185" y="8058"/>
                  <a:pt x="16421" y="8062"/>
                </a:cubicBezTo>
                <a:cubicBezTo>
                  <a:pt x="16572" y="8065"/>
                  <a:pt x="16719" y="8075"/>
                  <a:pt x="16867" y="8086"/>
                </a:cubicBezTo>
                <a:cubicBezTo>
                  <a:pt x="17024" y="8098"/>
                  <a:pt x="17183" y="8098"/>
                  <a:pt x="17338" y="8111"/>
                </a:cubicBezTo>
                <a:cubicBezTo>
                  <a:pt x="17470" y="8122"/>
                  <a:pt x="17605" y="8125"/>
                  <a:pt x="17735" y="8136"/>
                </a:cubicBezTo>
                <a:cubicBezTo>
                  <a:pt x="17905" y="8150"/>
                  <a:pt x="18091" y="8153"/>
                  <a:pt x="18256" y="8161"/>
                </a:cubicBezTo>
                <a:cubicBezTo>
                  <a:pt x="18448" y="8170"/>
                  <a:pt x="18638" y="8171"/>
                  <a:pt x="18827" y="8186"/>
                </a:cubicBezTo>
                <a:cubicBezTo>
                  <a:pt x="19118" y="8210"/>
                  <a:pt x="19428" y="8204"/>
                  <a:pt x="19720" y="8210"/>
                </a:cubicBezTo>
                <a:cubicBezTo>
                  <a:pt x="19871" y="8213"/>
                  <a:pt x="20013" y="8235"/>
                  <a:pt x="20166" y="8235"/>
                </a:cubicBezTo>
                <a:cubicBezTo>
                  <a:pt x="20334" y="8235"/>
                  <a:pt x="20498" y="8252"/>
                  <a:pt x="20662" y="8260"/>
                </a:cubicBezTo>
                <a:cubicBezTo>
                  <a:pt x="20925" y="8272"/>
                  <a:pt x="21192" y="8260"/>
                  <a:pt x="21456" y="82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Use the sum and difference formulas to find the exact values of the sine, cosine, and tangent of 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2514600" y="1828800"/>
          <a:ext cx="41148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4114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 408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1-7</a:t>
            </a:r>
            <a:r>
              <a:rPr b="0" i="1" lang="en-US" sz="4000" spc="-1" strike="noStrike">
                <a:solidFill>
                  <a:srgbClr val="dfd293"/>
                </a:solidFill>
                <a:latin typeface="Arial"/>
              </a:rPr>
              <a:t>(part a only), 9,15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9:41:30Z</dcterms:created>
  <dc:creator>jnewman</dc:creator>
  <dc:description/>
  <dc:language>en-US</dc:language>
  <cp:lastModifiedBy>abeason</cp:lastModifiedBy>
  <dcterms:modified xsi:type="dcterms:W3CDTF">2009-12-09T14:24:05Z</dcterms:modified>
  <cp:revision>11</cp:revision>
  <dc:subject/>
  <dc:title>Lesson 5.4 part one</dc:title>
</cp:coreProperties>
</file>